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4000" y="529920"/>
            <a:ext cx="81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4509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000" y="1855800"/>
            <a:ext cx="813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4000" y="4219920"/>
            <a:ext cx="813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529920"/>
            <a:ext cx="81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4509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1855800"/>
            <a:ext cx="397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52800" y="1855800"/>
            <a:ext cx="397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4000" y="4219920"/>
            <a:ext cx="397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852800" y="4219920"/>
            <a:ext cx="397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4000" y="529920"/>
            <a:ext cx="81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45092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000" y="1855800"/>
            <a:ext cx="2619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34760" y="1855800"/>
            <a:ext cx="2619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5520" y="1855800"/>
            <a:ext cx="2619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4000" y="4219920"/>
            <a:ext cx="2619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34760" y="4219920"/>
            <a:ext cx="2619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5520" y="4219920"/>
            <a:ext cx="2619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000" y="529920"/>
            <a:ext cx="81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4509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4000" y="1855800"/>
            <a:ext cx="8135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000" y="529920"/>
            <a:ext cx="81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4509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4000" y="1855800"/>
            <a:ext cx="813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000" y="529920"/>
            <a:ext cx="81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45092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4000" y="1855800"/>
            <a:ext cx="397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852800" y="1855800"/>
            <a:ext cx="397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000" y="529920"/>
            <a:ext cx="81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45092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4000" y="529920"/>
            <a:ext cx="813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000" y="529920"/>
            <a:ext cx="81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45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4000" y="1855800"/>
            <a:ext cx="397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52800" y="1855800"/>
            <a:ext cx="397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4000" y="4219920"/>
            <a:ext cx="397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4000" y="529920"/>
            <a:ext cx="81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45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4000" y="1855800"/>
            <a:ext cx="8135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000" y="529920"/>
            <a:ext cx="81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45092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4000" y="1855800"/>
            <a:ext cx="397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52800" y="1855800"/>
            <a:ext cx="397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852800" y="4219920"/>
            <a:ext cx="397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000" y="529920"/>
            <a:ext cx="81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4509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4000" y="1855800"/>
            <a:ext cx="397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52800" y="1855800"/>
            <a:ext cx="397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4000" y="4219920"/>
            <a:ext cx="813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000" y="529920"/>
            <a:ext cx="81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4509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000" y="1855800"/>
            <a:ext cx="813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4000" y="4219920"/>
            <a:ext cx="813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000" y="529920"/>
            <a:ext cx="81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4509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4000" y="1855800"/>
            <a:ext cx="397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52800" y="1855800"/>
            <a:ext cx="397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4000" y="4219920"/>
            <a:ext cx="397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852800" y="4219920"/>
            <a:ext cx="397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000" y="529920"/>
            <a:ext cx="81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45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000" y="1855800"/>
            <a:ext cx="2619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434760" y="1855800"/>
            <a:ext cx="2619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85520" y="1855800"/>
            <a:ext cx="2619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4000" y="4219920"/>
            <a:ext cx="2619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434760" y="4219920"/>
            <a:ext cx="2619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185520" y="4219920"/>
            <a:ext cx="2619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4000" y="529920"/>
            <a:ext cx="81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45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4000" y="1855800"/>
            <a:ext cx="813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4000" y="529920"/>
            <a:ext cx="81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45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4000" y="1855800"/>
            <a:ext cx="397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852800" y="1855800"/>
            <a:ext cx="397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529920"/>
            <a:ext cx="81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45092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4000" y="529920"/>
            <a:ext cx="813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000" y="529920"/>
            <a:ext cx="81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45092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000" y="1855800"/>
            <a:ext cx="397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52800" y="1855800"/>
            <a:ext cx="397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4000" y="4219920"/>
            <a:ext cx="397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000" y="529920"/>
            <a:ext cx="81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4509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000" y="1855800"/>
            <a:ext cx="397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52800" y="1855800"/>
            <a:ext cx="397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852800" y="4219920"/>
            <a:ext cx="397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4000" y="529920"/>
            <a:ext cx="81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4509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000" y="1855800"/>
            <a:ext cx="397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52800" y="1855800"/>
            <a:ext cx="397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4000" y="4219920"/>
            <a:ext cx="813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529920"/>
            <a:ext cx="81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45092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14509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1855800"/>
            <a:ext cx="813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47280" y="2852640"/>
            <a:ext cx="727236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80808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808080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808080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hyperlink" Target="http://pbl.unipv.it/beppe/chemistry.jpg" TargetMode="External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187280" y="5589720"/>
            <a:ext cx="7956720" cy="10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A cura della</a:t>
            </a:r>
            <a:br>
              <a:rPr sz="2000"/>
            </a:b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Direzione Centrale Analisi Economiche – Internazionalizz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www.federchimica.it/DATIEANALISI.asp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187280" y="3944880"/>
            <a:ext cx="1729080" cy="14986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6973920" y="3935520"/>
            <a:ext cx="2181240" cy="14983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916360" y="3948120"/>
            <a:ext cx="1863720" cy="14968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6"/>
          <a:stretch/>
        </p:blipFill>
        <p:spPr>
          <a:xfrm>
            <a:off x="4741920" y="3948120"/>
            <a:ext cx="2232000" cy="149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195560" y="2006640"/>
            <a:ext cx="7697520" cy="11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Innovazione tecnologica e ricerca </a:t>
            </a:r>
            <a:br>
              <a:rPr sz="3200"/>
            </a:b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nell’industria chimica itali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7"/>
          <a:stretch/>
        </p:blipFill>
        <p:spPr>
          <a:xfrm>
            <a:off x="7620120" y="88920"/>
            <a:ext cx="1442880" cy="1467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195560" y="3375000"/>
            <a:ext cx="7697520" cy="4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Analisi dei risultati della Community Innovation Surve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560520" y="1994040"/>
            <a:ext cx="8456400" cy="0"/>
          </a:xfrm>
          <a:prstGeom prst="line">
            <a:avLst/>
          </a:prstGeom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68360" y="442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Arial"/>
              </a:rPr>
              <a:t>Imprese innovative con attività di R&amp;S </a:t>
            </a:r>
            <a:br>
              <a:rPr sz="2400"/>
            </a:br>
            <a:r>
              <a:rPr b="1" lang="it-IT" sz="2400" spc="-1" strike="noStrike">
                <a:solidFill>
                  <a:srgbClr val="333399"/>
                </a:solidFill>
                <a:latin typeface="Arial"/>
              </a:rPr>
              <a:t>nella chimica europ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41520" y="2017800"/>
            <a:ext cx="330660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% imprese con R&amp;S intra-mur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9200" y="2041560"/>
            <a:ext cx="8175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0000"/>
                </a:solidFill>
                <a:latin typeface="Arial"/>
              </a:rPr>
              <a:t>47,4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8059680" y="2041560"/>
            <a:ext cx="760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59,0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203800" y="2041560"/>
            <a:ext cx="880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0000"/>
                </a:solidFill>
                <a:latin typeface="Arial"/>
              </a:rPr>
              <a:t>51,7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33240" y="2398680"/>
            <a:ext cx="292608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- di cui R&amp;S continuativ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851280" y="2422440"/>
            <a:ext cx="8175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69,1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8051760" y="2422440"/>
            <a:ext cx="760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74,7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195880" y="2422440"/>
            <a:ext cx="880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75,5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60520" y="3213000"/>
            <a:ext cx="8456400" cy="0"/>
          </a:xfrm>
          <a:prstGeom prst="line">
            <a:avLst/>
          </a:prstGeom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33240" y="2770200"/>
            <a:ext cx="330696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% imprese con R&amp;S extra-mur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851280" y="2793960"/>
            <a:ext cx="8175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19,3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8051760" y="2793960"/>
            <a:ext cx="760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25,1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195880" y="2793960"/>
            <a:ext cx="880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23,5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27320" y="6321600"/>
            <a:ext cx="43826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333399"/>
                </a:solidFill>
                <a:latin typeface="Arial"/>
              </a:rPr>
              <a:t>Fonte: </a:t>
            </a:r>
            <a:r>
              <a:rPr b="0" lang="it-IT" sz="1400" spc="-1" strike="noStrike">
                <a:solidFill>
                  <a:srgbClr val="333399"/>
                </a:solidFill>
                <a:latin typeface="Arial"/>
              </a:rPr>
              <a:t>Euro</a:t>
            </a:r>
            <a:r>
              <a:rPr b="0" sz="1400" spc="-1" strike="noStrike">
                <a:solidFill>
                  <a:srgbClr val="333399"/>
                </a:solidFill>
                <a:latin typeface="Arial"/>
              </a:rPr>
              <a:t>stat, Community Innovation Survey, </a:t>
            </a:r>
            <a:r>
              <a:rPr b="0" lang="it-IT" sz="1400" spc="-1" strike="noStrike">
                <a:solidFill>
                  <a:srgbClr val="333399"/>
                </a:solidFill>
                <a:latin typeface="Arial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957240" y="5899320"/>
            <a:ext cx="5808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333399"/>
                </a:solidFill>
                <a:latin typeface="Arial"/>
              </a:rPr>
              <a:t>UE = Germania, Francia, Italia, Paesi Bassi, Spagna, Belgi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42800" y="5670720"/>
            <a:ext cx="58086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333399"/>
                </a:solidFill>
                <a:latin typeface="Arial"/>
              </a:rPr>
              <a:t>Not</a:t>
            </a:r>
            <a:r>
              <a:rPr b="0" sz="1400" spc="-1" strike="noStrike">
                <a:solidFill>
                  <a:srgbClr val="333399"/>
                </a:solidFill>
                <a:latin typeface="Arial"/>
              </a:rPr>
              <a:t>e: </a:t>
            </a:r>
            <a:r>
              <a:rPr b="0" lang="it-IT" sz="1400" spc="-1" strike="noStrike">
                <a:solidFill>
                  <a:srgbClr val="333399"/>
                </a:solidFill>
                <a:latin typeface="Arial"/>
              </a:rPr>
              <a:t>totale = imprese con più di 10 addett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rot="16435200">
            <a:off x="475920" y="4116960"/>
            <a:ext cx="430200" cy="287640"/>
          </a:xfrm>
          <a:custGeom>
            <a:avLst/>
            <a:gdLst/>
            <a:ahLst/>
            <a:rect l="l" t="t" r="r" b="b"/>
            <a:pathLst>
              <a:path w="1214" h="753">
                <a:moveTo>
                  <a:pt x="0" y="285"/>
                </a:moveTo>
                <a:lnTo>
                  <a:pt x="0" y="285"/>
                </a:lnTo>
                <a:lnTo>
                  <a:pt x="99" y="360"/>
                </a:lnTo>
                <a:lnTo>
                  <a:pt x="115" y="352"/>
                </a:lnTo>
                <a:lnTo>
                  <a:pt x="134" y="390"/>
                </a:lnTo>
                <a:lnTo>
                  <a:pt x="196" y="417"/>
                </a:lnTo>
                <a:lnTo>
                  <a:pt x="232" y="461"/>
                </a:lnTo>
                <a:lnTo>
                  <a:pt x="304" y="501"/>
                </a:lnTo>
                <a:lnTo>
                  <a:pt x="362" y="556"/>
                </a:lnTo>
                <a:lnTo>
                  <a:pt x="396" y="565"/>
                </a:lnTo>
                <a:lnTo>
                  <a:pt x="420" y="536"/>
                </a:lnTo>
                <a:lnTo>
                  <a:pt x="432" y="564"/>
                </a:lnTo>
                <a:lnTo>
                  <a:pt x="424" y="597"/>
                </a:lnTo>
                <a:lnTo>
                  <a:pt x="504" y="668"/>
                </a:lnTo>
                <a:lnTo>
                  <a:pt x="553" y="677"/>
                </a:lnTo>
                <a:lnTo>
                  <a:pt x="611" y="728"/>
                </a:lnTo>
                <a:lnTo>
                  <a:pt x="629" y="752"/>
                </a:lnTo>
                <a:lnTo>
                  <a:pt x="662" y="744"/>
                </a:lnTo>
                <a:lnTo>
                  <a:pt x="682" y="715"/>
                </a:lnTo>
                <a:lnTo>
                  <a:pt x="758" y="673"/>
                </a:lnTo>
                <a:lnTo>
                  <a:pt x="826" y="593"/>
                </a:lnTo>
                <a:lnTo>
                  <a:pt x="938" y="501"/>
                </a:lnTo>
                <a:lnTo>
                  <a:pt x="999" y="431"/>
                </a:lnTo>
                <a:lnTo>
                  <a:pt x="1051" y="363"/>
                </a:lnTo>
                <a:lnTo>
                  <a:pt x="1077" y="373"/>
                </a:lnTo>
                <a:lnTo>
                  <a:pt x="1110" y="340"/>
                </a:lnTo>
                <a:lnTo>
                  <a:pt x="1108" y="288"/>
                </a:lnTo>
                <a:lnTo>
                  <a:pt x="1130" y="308"/>
                </a:lnTo>
                <a:lnTo>
                  <a:pt x="1159" y="288"/>
                </a:lnTo>
                <a:lnTo>
                  <a:pt x="1153" y="272"/>
                </a:lnTo>
                <a:lnTo>
                  <a:pt x="1184" y="274"/>
                </a:lnTo>
                <a:lnTo>
                  <a:pt x="1213" y="248"/>
                </a:lnTo>
                <a:lnTo>
                  <a:pt x="1139" y="240"/>
                </a:lnTo>
                <a:lnTo>
                  <a:pt x="1127" y="262"/>
                </a:lnTo>
                <a:lnTo>
                  <a:pt x="1106" y="255"/>
                </a:lnTo>
                <a:lnTo>
                  <a:pt x="1016" y="258"/>
                </a:lnTo>
                <a:lnTo>
                  <a:pt x="992" y="284"/>
                </a:lnTo>
                <a:lnTo>
                  <a:pt x="956" y="267"/>
                </a:lnTo>
                <a:lnTo>
                  <a:pt x="912" y="255"/>
                </a:lnTo>
                <a:lnTo>
                  <a:pt x="880" y="276"/>
                </a:lnTo>
                <a:lnTo>
                  <a:pt x="816" y="308"/>
                </a:lnTo>
                <a:lnTo>
                  <a:pt x="842" y="286"/>
                </a:lnTo>
                <a:lnTo>
                  <a:pt x="911" y="209"/>
                </a:lnTo>
                <a:lnTo>
                  <a:pt x="912" y="176"/>
                </a:lnTo>
                <a:lnTo>
                  <a:pt x="871" y="204"/>
                </a:lnTo>
                <a:lnTo>
                  <a:pt x="851" y="228"/>
                </a:lnTo>
                <a:lnTo>
                  <a:pt x="854" y="196"/>
                </a:lnTo>
                <a:lnTo>
                  <a:pt x="898" y="124"/>
                </a:lnTo>
                <a:lnTo>
                  <a:pt x="897" y="28"/>
                </a:lnTo>
                <a:lnTo>
                  <a:pt x="887" y="0"/>
                </a:lnTo>
                <a:lnTo>
                  <a:pt x="793" y="3"/>
                </a:lnTo>
                <a:lnTo>
                  <a:pt x="737" y="16"/>
                </a:lnTo>
                <a:lnTo>
                  <a:pt x="613" y="10"/>
                </a:lnTo>
                <a:lnTo>
                  <a:pt x="557" y="19"/>
                </a:lnTo>
                <a:lnTo>
                  <a:pt x="450" y="15"/>
                </a:lnTo>
                <a:lnTo>
                  <a:pt x="408" y="24"/>
                </a:lnTo>
                <a:lnTo>
                  <a:pt x="452" y="57"/>
                </a:lnTo>
                <a:lnTo>
                  <a:pt x="436" y="68"/>
                </a:lnTo>
                <a:lnTo>
                  <a:pt x="391" y="41"/>
                </a:lnTo>
                <a:lnTo>
                  <a:pt x="366" y="42"/>
                </a:lnTo>
                <a:lnTo>
                  <a:pt x="347" y="19"/>
                </a:lnTo>
                <a:lnTo>
                  <a:pt x="292" y="24"/>
                </a:lnTo>
                <a:lnTo>
                  <a:pt x="282" y="63"/>
                </a:lnTo>
                <a:lnTo>
                  <a:pt x="297" y="126"/>
                </a:lnTo>
                <a:lnTo>
                  <a:pt x="297" y="226"/>
                </a:lnTo>
                <a:lnTo>
                  <a:pt x="299" y="264"/>
                </a:lnTo>
                <a:lnTo>
                  <a:pt x="262" y="276"/>
                </a:lnTo>
                <a:lnTo>
                  <a:pt x="192" y="264"/>
                </a:lnTo>
                <a:lnTo>
                  <a:pt x="124" y="277"/>
                </a:lnTo>
                <a:lnTo>
                  <a:pt x="72" y="272"/>
                </a:lnTo>
                <a:lnTo>
                  <a:pt x="65" y="297"/>
                </a:lnTo>
                <a:lnTo>
                  <a:pt x="53" y="291"/>
                </a:lnTo>
                <a:lnTo>
                  <a:pt x="39" y="273"/>
                </a:lnTo>
                <a:lnTo>
                  <a:pt x="3" y="271"/>
                </a:lnTo>
                <a:lnTo>
                  <a:pt x="0" y="285"/>
                </a:lnTo>
                <a:lnTo>
                  <a:pt x="0" y="285"/>
                </a:lnTo>
              </a:path>
            </a:pathLst>
          </a:custGeom>
          <a:solidFill>
            <a:srgbClr val="cc330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61840" y="4055760"/>
            <a:ext cx="7267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Arial Narrow"/>
              </a:rPr>
              <a:t>Tenuto conto della struttura dimensionale della chimica italiana,</a:t>
            </a:r>
            <a:br>
              <a:rPr sz="2000"/>
            </a:br>
            <a:r>
              <a:rPr b="1" lang="it-IT" sz="2000" spc="-1" strike="noStrike">
                <a:solidFill>
                  <a:srgbClr val="333399"/>
                </a:solidFill>
                <a:latin typeface="Arial Narrow"/>
              </a:rPr>
              <a:t>la diffusione di imprese con attività di ricerca non è distante </a:t>
            </a:r>
            <a:br>
              <a:rPr sz="2000"/>
            </a:br>
            <a:r>
              <a:rPr b="1" lang="it-IT" sz="2000" spc="-1" strike="noStrike">
                <a:solidFill>
                  <a:srgbClr val="333399"/>
                </a:solidFill>
                <a:latin typeface="Arial Narrow"/>
              </a:rPr>
              <a:t>dalla media europea (esclusa Germani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708360" y="1596960"/>
            <a:ext cx="1166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333399"/>
                </a:solidFill>
                <a:latin typeface="Arial"/>
              </a:rPr>
              <a:t>Ital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669080" y="1596960"/>
            <a:ext cx="1440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333399"/>
                </a:solidFill>
                <a:latin typeface="Arial"/>
              </a:rPr>
              <a:t>Europ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861080" y="1413000"/>
            <a:ext cx="158724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333399"/>
                </a:solidFill>
                <a:latin typeface="Arial"/>
              </a:rPr>
              <a:t>Europa </a:t>
            </a:r>
            <a:br>
              <a:rPr sz="1500"/>
            </a:br>
            <a:r>
              <a:rPr b="1" lang="it-IT" sz="1500" spc="-1" strike="noStrike">
                <a:solidFill>
                  <a:srgbClr val="333399"/>
                </a:solidFill>
                <a:latin typeface="Arial"/>
              </a:rPr>
              <a:t>escl. German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445080" y="1595520"/>
            <a:ext cx="1440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333399"/>
                </a:solidFill>
                <a:latin typeface="Arial"/>
              </a:rPr>
              <a:t>German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669000" y="2041560"/>
            <a:ext cx="88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99"/>
                </a:solidFill>
                <a:latin typeface="Arial"/>
              </a:rPr>
              <a:t>80,9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661080" y="2422440"/>
            <a:ext cx="88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99"/>
                </a:solidFill>
                <a:latin typeface="Arial"/>
              </a:rPr>
              <a:t>73,3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661080" y="2793960"/>
            <a:ext cx="88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99"/>
                </a:solidFill>
                <a:latin typeface="Arial"/>
              </a:rPr>
              <a:t>30,1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560520" y="2381400"/>
            <a:ext cx="6478560" cy="0"/>
          </a:xfrm>
          <a:prstGeom prst="line">
            <a:avLst/>
          </a:prstGeom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71600" y="700200"/>
            <a:ext cx="604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Arial"/>
              </a:rPr>
              <a:t>Imprese chimiche innovative in Italia: </a:t>
            </a:r>
            <a:br>
              <a:rPr sz="2400"/>
            </a:br>
            <a:r>
              <a:rPr b="1" lang="it-IT" sz="2400" spc="-1" strike="noStrike">
                <a:solidFill>
                  <a:srgbClr val="333399"/>
                </a:solidFill>
                <a:latin typeface="Arial"/>
              </a:rPr>
              <a:t>confronto tra anni 2000 e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064120" y="200340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869080" y="200340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41520" y="2879640"/>
            <a:ext cx="330660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% imprese con R&amp;S intra-mur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011560" y="2903400"/>
            <a:ext cx="817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99"/>
                </a:solidFill>
                <a:latin typeface="Arial"/>
              </a:rPr>
              <a:t>38,3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33240" y="3314880"/>
            <a:ext cx="465948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% imprese con R&amp;S intra-muros continuativ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003640" y="3338640"/>
            <a:ext cx="8175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99"/>
                </a:solidFill>
                <a:latin typeface="Arial"/>
              </a:rPr>
              <a:t>23,7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60520" y="3797280"/>
            <a:ext cx="6478560" cy="0"/>
          </a:xfrm>
          <a:prstGeom prst="line">
            <a:avLst/>
          </a:prstGeom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192720" y="2903400"/>
            <a:ext cx="8175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99"/>
                </a:solidFill>
                <a:latin typeface="Arial"/>
              </a:rPr>
              <a:t>47,4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184800" y="3338640"/>
            <a:ext cx="8175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99"/>
                </a:solidFill>
                <a:latin typeface="Arial"/>
              </a:rPr>
              <a:t>32,7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46200" y="2448000"/>
            <a:ext cx="330660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% imprese innovativ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016600" y="2471760"/>
            <a:ext cx="8175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99"/>
                </a:solidFill>
                <a:latin typeface="Arial"/>
              </a:rPr>
              <a:t>50,5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197760" y="2471760"/>
            <a:ext cx="8175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99"/>
                </a:solidFill>
                <a:latin typeface="Arial"/>
              </a:rPr>
              <a:t>66,6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68720" y="6585120"/>
            <a:ext cx="4838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333399"/>
                </a:solidFill>
                <a:latin typeface="Arial"/>
              </a:rPr>
              <a:t>Fonte: </a:t>
            </a:r>
            <a:r>
              <a:rPr b="0" lang="it-IT" sz="1400" spc="-1" strike="noStrike">
                <a:solidFill>
                  <a:srgbClr val="333399"/>
                </a:solidFill>
                <a:latin typeface="Arial"/>
              </a:rPr>
              <a:t>Euro</a:t>
            </a:r>
            <a:r>
              <a:rPr b="0" sz="1400" spc="-1" strike="noStrike">
                <a:solidFill>
                  <a:srgbClr val="333399"/>
                </a:solidFill>
                <a:latin typeface="Arial"/>
              </a:rPr>
              <a:t>stat, Community Innovation Survey, </a:t>
            </a:r>
            <a:r>
              <a:rPr b="0" lang="it-IT" sz="1400" spc="-1" strike="noStrike">
                <a:solidFill>
                  <a:srgbClr val="333399"/>
                </a:solidFill>
                <a:latin typeface="Arial"/>
              </a:rPr>
              <a:t>2000-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85640" y="6326280"/>
            <a:ext cx="38005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333399"/>
                </a:solidFill>
                <a:latin typeface="Arial"/>
              </a:rPr>
              <a:t>Not</a:t>
            </a:r>
            <a:r>
              <a:rPr b="0" sz="1400" spc="-1" strike="noStrike">
                <a:solidFill>
                  <a:srgbClr val="333399"/>
                </a:solidFill>
                <a:latin typeface="Arial"/>
              </a:rPr>
              <a:t>e: </a:t>
            </a:r>
            <a:r>
              <a:rPr b="0" lang="it-IT" sz="1400" spc="-1" strike="noStrike">
                <a:solidFill>
                  <a:srgbClr val="333399"/>
                </a:solidFill>
                <a:latin typeface="Arial"/>
              </a:rPr>
              <a:t>totale = imprese con più di 10 addett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16435200">
            <a:off x="475920" y="4556880"/>
            <a:ext cx="430200" cy="287640"/>
          </a:xfrm>
          <a:custGeom>
            <a:avLst/>
            <a:gdLst/>
            <a:ahLst/>
            <a:rect l="l" t="t" r="r" b="b"/>
            <a:pathLst>
              <a:path w="1214" h="753">
                <a:moveTo>
                  <a:pt x="0" y="285"/>
                </a:moveTo>
                <a:lnTo>
                  <a:pt x="0" y="285"/>
                </a:lnTo>
                <a:lnTo>
                  <a:pt x="99" y="360"/>
                </a:lnTo>
                <a:lnTo>
                  <a:pt x="115" y="352"/>
                </a:lnTo>
                <a:lnTo>
                  <a:pt x="134" y="390"/>
                </a:lnTo>
                <a:lnTo>
                  <a:pt x="196" y="417"/>
                </a:lnTo>
                <a:lnTo>
                  <a:pt x="232" y="461"/>
                </a:lnTo>
                <a:lnTo>
                  <a:pt x="304" y="501"/>
                </a:lnTo>
                <a:lnTo>
                  <a:pt x="362" y="556"/>
                </a:lnTo>
                <a:lnTo>
                  <a:pt x="396" y="565"/>
                </a:lnTo>
                <a:lnTo>
                  <a:pt x="420" y="536"/>
                </a:lnTo>
                <a:lnTo>
                  <a:pt x="432" y="564"/>
                </a:lnTo>
                <a:lnTo>
                  <a:pt x="424" y="597"/>
                </a:lnTo>
                <a:lnTo>
                  <a:pt x="504" y="668"/>
                </a:lnTo>
                <a:lnTo>
                  <a:pt x="553" y="677"/>
                </a:lnTo>
                <a:lnTo>
                  <a:pt x="611" y="728"/>
                </a:lnTo>
                <a:lnTo>
                  <a:pt x="629" y="752"/>
                </a:lnTo>
                <a:lnTo>
                  <a:pt x="662" y="744"/>
                </a:lnTo>
                <a:lnTo>
                  <a:pt x="682" y="715"/>
                </a:lnTo>
                <a:lnTo>
                  <a:pt x="758" y="673"/>
                </a:lnTo>
                <a:lnTo>
                  <a:pt x="826" y="593"/>
                </a:lnTo>
                <a:lnTo>
                  <a:pt x="938" y="501"/>
                </a:lnTo>
                <a:lnTo>
                  <a:pt x="999" y="431"/>
                </a:lnTo>
                <a:lnTo>
                  <a:pt x="1051" y="363"/>
                </a:lnTo>
                <a:lnTo>
                  <a:pt x="1077" y="373"/>
                </a:lnTo>
                <a:lnTo>
                  <a:pt x="1110" y="340"/>
                </a:lnTo>
                <a:lnTo>
                  <a:pt x="1108" y="288"/>
                </a:lnTo>
                <a:lnTo>
                  <a:pt x="1130" y="308"/>
                </a:lnTo>
                <a:lnTo>
                  <a:pt x="1159" y="288"/>
                </a:lnTo>
                <a:lnTo>
                  <a:pt x="1153" y="272"/>
                </a:lnTo>
                <a:lnTo>
                  <a:pt x="1184" y="274"/>
                </a:lnTo>
                <a:lnTo>
                  <a:pt x="1213" y="248"/>
                </a:lnTo>
                <a:lnTo>
                  <a:pt x="1139" y="240"/>
                </a:lnTo>
                <a:lnTo>
                  <a:pt x="1127" y="262"/>
                </a:lnTo>
                <a:lnTo>
                  <a:pt x="1106" y="255"/>
                </a:lnTo>
                <a:lnTo>
                  <a:pt x="1016" y="258"/>
                </a:lnTo>
                <a:lnTo>
                  <a:pt x="992" y="284"/>
                </a:lnTo>
                <a:lnTo>
                  <a:pt x="956" y="267"/>
                </a:lnTo>
                <a:lnTo>
                  <a:pt x="912" y="255"/>
                </a:lnTo>
                <a:lnTo>
                  <a:pt x="880" y="276"/>
                </a:lnTo>
                <a:lnTo>
                  <a:pt x="816" y="308"/>
                </a:lnTo>
                <a:lnTo>
                  <a:pt x="842" y="286"/>
                </a:lnTo>
                <a:lnTo>
                  <a:pt x="911" y="209"/>
                </a:lnTo>
                <a:lnTo>
                  <a:pt x="912" y="176"/>
                </a:lnTo>
                <a:lnTo>
                  <a:pt x="871" y="204"/>
                </a:lnTo>
                <a:lnTo>
                  <a:pt x="851" y="228"/>
                </a:lnTo>
                <a:lnTo>
                  <a:pt x="854" y="196"/>
                </a:lnTo>
                <a:lnTo>
                  <a:pt x="898" y="124"/>
                </a:lnTo>
                <a:lnTo>
                  <a:pt x="897" y="28"/>
                </a:lnTo>
                <a:lnTo>
                  <a:pt x="887" y="0"/>
                </a:lnTo>
                <a:lnTo>
                  <a:pt x="793" y="3"/>
                </a:lnTo>
                <a:lnTo>
                  <a:pt x="737" y="16"/>
                </a:lnTo>
                <a:lnTo>
                  <a:pt x="613" y="10"/>
                </a:lnTo>
                <a:lnTo>
                  <a:pt x="557" y="19"/>
                </a:lnTo>
                <a:lnTo>
                  <a:pt x="450" y="15"/>
                </a:lnTo>
                <a:lnTo>
                  <a:pt x="408" y="24"/>
                </a:lnTo>
                <a:lnTo>
                  <a:pt x="452" y="57"/>
                </a:lnTo>
                <a:lnTo>
                  <a:pt x="436" y="68"/>
                </a:lnTo>
                <a:lnTo>
                  <a:pt x="391" y="41"/>
                </a:lnTo>
                <a:lnTo>
                  <a:pt x="366" y="42"/>
                </a:lnTo>
                <a:lnTo>
                  <a:pt x="347" y="19"/>
                </a:lnTo>
                <a:lnTo>
                  <a:pt x="292" y="24"/>
                </a:lnTo>
                <a:lnTo>
                  <a:pt x="282" y="63"/>
                </a:lnTo>
                <a:lnTo>
                  <a:pt x="297" y="126"/>
                </a:lnTo>
                <a:lnTo>
                  <a:pt x="297" y="226"/>
                </a:lnTo>
                <a:lnTo>
                  <a:pt x="299" y="264"/>
                </a:lnTo>
                <a:lnTo>
                  <a:pt x="262" y="276"/>
                </a:lnTo>
                <a:lnTo>
                  <a:pt x="192" y="264"/>
                </a:lnTo>
                <a:lnTo>
                  <a:pt x="124" y="277"/>
                </a:lnTo>
                <a:lnTo>
                  <a:pt x="72" y="272"/>
                </a:lnTo>
                <a:lnTo>
                  <a:pt x="65" y="297"/>
                </a:lnTo>
                <a:lnTo>
                  <a:pt x="53" y="291"/>
                </a:lnTo>
                <a:lnTo>
                  <a:pt x="39" y="273"/>
                </a:lnTo>
                <a:lnTo>
                  <a:pt x="3" y="271"/>
                </a:lnTo>
                <a:lnTo>
                  <a:pt x="0" y="285"/>
                </a:lnTo>
                <a:lnTo>
                  <a:pt x="0" y="285"/>
                </a:lnTo>
              </a:path>
            </a:pathLst>
          </a:custGeom>
          <a:solidFill>
            <a:srgbClr val="cc330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861840" y="4515840"/>
            <a:ext cx="726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Arial Narrow"/>
              </a:rPr>
              <a:t>Non solo l’innovazione ma anche la ricerca </a:t>
            </a:r>
            <a:br>
              <a:rPr sz="2000"/>
            </a:br>
            <a:r>
              <a:rPr b="1" lang="it-IT" sz="2000" spc="-1" strike="noStrike">
                <a:solidFill>
                  <a:srgbClr val="333399"/>
                </a:solidFill>
                <a:latin typeface="Arial Narrow"/>
              </a:rPr>
              <a:t>coinvolge sempre più imprese chimiche in Ital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560520" y="1509840"/>
            <a:ext cx="8456400" cy="0"/>
          </a:xfrm>
          <a:prstGeom prst="line">
            <a:avLst/>
          </a:prstGeom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71600" y="404640"/>
            <a:ext cx="86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Arial"/>
              </a:rPr>
              <a:t>Numero di imprese innovative nella chimica europ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438880" y="1131840"/>
            <a:ext cx="9334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0000"/>
                </a:solidFill>
                <a:latin typeface="Arial"/>
              </a:rPr>
              <a:t>Ital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924360" y="1131840"/>
            <a:ext cx="1366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333399"/>
                </a:solidFill>
                <a:latin typeface="Arial"/>
              </a:rPr>
              <a:t>German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85640" y="2008080"/>
            <a:ext cx="313848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Imprese con R&amp;S intra-mur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418000" y="2031840"/>
            <a:ext cx="8175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0000"/>
                </a:solidFill>
                <a:latin typeface="Arial"/>
              </a:rPr>
              <a:t>83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77720" y="2443320"/>
            <a:ext cx="401004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Imprese con R&amp;S intra-muros continuativ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410080" y="2467080"/>
            <a:ext cx="8175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0000"/>
                </a:solidFill>
                <a:latin typeface="Arial"/>
              </a:rPr>
              <a:t>576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60520" y="3349800"/>
            <a:ext cx="8456400" cy="0"/>
          </a:xfrm>
          <a:prstGeom prst="line">
            <a:avLst/>
          </a:prstGeom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148280" y="2031840"/>
            <a:ext cx="8175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99"/>
                </a:solidFill>
                <a:latin typeface="Arial"/>
              </a:rPr>
              <a:t>132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140360" y="2467080"/>
            <a:ext cx="8175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99"/>
                </a:solidFill>
                <a:latin typeface="Arial"/>
              </a:rPr>
              <a:t>97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90680" y="1576440"/>
            <a:ext cx="198108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Imprese innovativ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423040" y="1600200"/>
            <a:ext cx="8175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0000"/>
                </a:solidFill>
                <a:latin typeface="Arial"/>
              </a:rPr>
              <a:t>117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152960" y="1600200"/>
            <a:ext cx="8175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99"/>
                </a:solidFill>
                <a:latin typeface="Arial"/>
              </a:rPr>
              <a:t>1508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68720" y="6585120"/>
            <a:ext cx="4838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333399"/>
                </a:solidFill>
                <a:latin typeface="Arial"/>
              </a:rPr>
              <a:t>Fonte: </a:t>
            </a:r>
            <a:r>
              <a:rPr b="0" lang="it-IT" sz="1400" spc="-1" strike="noStrike">
                <a:solidFill>
                  <a:srgbClr val="333399"/>
                </a:solidFill>
                <a:latin typeface="Arial"/>
              </a:rPr>
              <a:t>Euro</a:t>
            </a:r>
            <a:r>
              <a:rPr b="0" sz="1400" spc="-1" strike="noStrike">
                <a:solidFill>
                  <a:srgbClr val="333399"/>
                </a:solidFill>
                <a:latin typeface="Arial"/>
              </a:rPr>
              <a:t>stat, Community Innovation Survey, </a:t>
            </a:r>
            <a:r>
              <a:rPr b="0" lang="it-IT" sz="1400" spc="-1" strike="noStrike">
                <a:solidFill>
                  <a:srgbClr val="333399"/>
                </a:solidFill>
                <a:latin typeface="Arial"/>
              </a:rPr>
              <a:t>2000-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85640" y="5950080"/>
            <a:ext cx="38005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333399"/>
                </a:solidFill>
                <a:latin typeface="Arial"/>
              </a:rPr>
              <a:t>Not</a:t>
            </a:r>
            <a:r>
              <a:rPr b="0" sz="1400" spc="-1" strike="noStrike">
                <a:solidFill>
                  <a:srgbClr val="333399"/>
                </a:solidFill>
                <a:latin typeface="Arial"/>
              </a:rPr>
              <a:t>e: </a:t>
            </a:r>
            <a:r>
              <a:rPr b="0" lang="it-IT" sz="1400" spc="-1" strike="noStrike">
                <a:solidFill>
                  <a:srgbClr val="333399"/>
                </a:solidFill>
                <a:latin typeface="Arial"/>
              </a:rPr>
              <a:t>totale = imprese con più di 10 addett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rot="16435200">
            <a:off x="475920" y="3931200"/>
            <a:ext cx="430200" cy="287640"/>
          </a:xfrm>
          <a:custGeom>
            <a:avLst/>
            <a:gdLst/>
            <a:ahLst/>
            <a:rect l="l" t="t" r="r" b="b"/>
            <a:pathLst>
              <a:path w="1214" h="753">
                <a:moveTo>
                  <a:pt x="0" y="285"/>
                </a:moveTo>
                <a:lnTo>
                  <a:pt x="0" y="285"/>
                </a:lnTo>
                <a:lnTo>
                  <a:pt x="99" y="360"/>
                </a:lnTo>
                <a:lnTo>
                  <a:pt x="115" y="352"/>
                </a:lnTo>
                <a:lnTo>
                  <a:pt x="134" y="390"/>
                </a:lnTo>
                <a:lnTo>
                  <a:pt x="196" y="417"/>
                </a:lnTo>
                <a:lnTo>
                  <a:pt x="232" y="461"/>
                </a:lnTo>
                <a:lnTo>
                  <a:pt x="304" y="501"/>
                </a:lnTo>
                <a:lnTo>
                  <a:pt x="362" y="556"/>
                </a:lnTo>
                <a:lnTo>
                  <a:pt x="396" y="565"/>
                </a:lnTo>
                <a:lnTo>
                  <a:pt x="420" y="536"/>
                </a:lnTo>
                <a:lnTo>
                  <a:pt x="432" y="564"/>
                </a:lnTo>
                <a:lnTo>
                  <a:pt x="424" y="597"/>
                </a:lnTo>
                <a:lnTo>
                  <a:pt x="504" y="668"/>
                </a:lnTo>
                <a:lnTo>
                  <a:pt x="553" y="677"/>
                </a:lnTo>
                <a:lnTo>
                  <a:pt x="611" y="728"/>
                </a:lnTo>
                <a:lnTo>
                  <a:pt x="629" y="752"/>
                </a:lnTo>
                <a:lnTo>
                  <a:pt x="662" y="744"/>
                </a:lnTo>
                <a:lnTo>
                  <a:pt x="682" y="715"/>
                </a:lnTo>
                <a:lnTo>
                  <a:pt x="758" y="673"/>
                </a:lnTo>
                <a:lnTo>
                  <a:pt x="826" y="593"/>
                </a:lnTo>
                <a:lnTo>
                  <a:pt x="938" y="501"/>
                </a:lnTo>
                <a:lnTo>
                  <a:pt x="999" y="431"/>
                </a:lnTo>
                <a:lnTo>
                  <a:pt x="1051" y="363"/>
                </a:lnTo>
                <a:lnTo>
                  <a:pt x="1077" y="373"/>
                </a:lnTo>
                <a:lnTo>
                  <a:pt x="1110" y="340"/>
                </a:lnTo>
                <a:lnTo>
                  <a:pt x="1108" y="288"/>
                </a:lnTo>
                <a:lnTo>
                  <a:pt x="1130" y="308"/>
                </a:lnTo>
                <a:lnTo>
                  <a:pt x="1159" y="288"/>
                </a:lnTo>
                <a:lnTo>
                  <a:pt x="1153" y="272"/>
                </a:lnTo>
                <a:lnTo>
                  <a:pt x="1184" y="274"/>
                </a:lnTo>
                <a:lnTo>
                  <a:pt x="1213" y="248"/>
                </a:lnTo>
                <a:lnTo>
                  <a:pt x="1139" y="240"/>
                </a:lnTo>
                <a:lnTo>
                  <a:pt x="1127" y="262"/>
                </a:lnTo>
                <a:lnTo>
                  <a:pt x="1106" y="255"/>
                </a:lnTo>
                <a:lnTo>
                  <a:pt x="1016" y="258"/>
                </a:lnTo>
                <a:lnTo>
                  <a:pt x="992" y="284"/>
                </a:lnTo>
                <a:lnTo>
                  <a:pt x="956" y="267"/>
                </a:lnTo>
                <a:lnTo>
                  <a:pt x="912" y="255"/>
                </a:lnTo>
                <a:lnTo>
                  <a:pt x="880" y="276"/>
                </a:lnTo>
                <a:lnTo>
                  <a:pt x="816" y="308"/>
                </a:lnTo>
                <a:lnTo>
                  <a:pt x="842" y="286"/>
                </a:lnTo>
                <a:lnTo>
                  <a:pt x="911" y="209"/>
                </a:lnTo>
                <a:lnTo>
                  <a:pt x="912" y="176"/>
                </a:lnTo>
                <a:lnTo>
                  <a:pt x="871" y="204"/>
                </a:lnTo>
                <a:lnTo>
                  <a:pt x="851" y="228"/>
                </a:lnTo>
                <a:lnTo>
                  <a:pt x="854" y="196"/>
                </a:lnTo>
                <a:lnTo>
                  <a:pt x="898" y="124"/>
                </a:lnTo>
                <a:lnTo>
                  <a:pt x="897" y="28"/>
                </a:lnTo>
                <a:lnTo>
                  <a:pt x="887" y="0"/>
                </a:lnTo>
                <a:lnTo>
                  <a:pt x="793" y="3"/>
                </a:lnTo>
                <a:lnTo>
                  <a:pt x="737" y="16"/>
                </a:lnTo>
                <a:lnTo>
                  <a:pt x="613" y="10"/>
                </a:lnTo>
                <a:lnTo>
                  <a:pt x="557" y="19"/>
                </a:lnTo>
                <a:lnTo>
                  <a:pt x="450" y="15"/>
                </a:lnTo>
                <a:lnTo>
                  <a:pt x="408" y="24"/>
                </a:lnTo>
                <a:lnTo>
                  <a:pt x="452" y="57"/>
                </a:lnTo>
                <a:lnTo>
                  <a:pt x="436" y="68"/>
                </a:lnTo>
                <a:lnTo>
                  <a:pt x="391" y="41"/>
                </a:lnTo>
                <a:lnTo>
                  <a:pt x="366" y="42"/>
                </a:lnTo>
                <a:lnTo>
                  <a:pt x="347" y="19"/>
                </a:lnTo>
                <a:lnTo>
                  <a:pt x="292" y="24"/>
                </a:lnTo>
                <a:lnTo>
                  <a:pt x="282" y="63"/>
                </a:lnTo>
                <a:lnTo>
                  <a:pt x="297" y="126"/>
                </a:lnTo>
                <a:lnTo>
                  <a:pt x="297" y="226"/>
                </a:lnTo>
                <a:lnTo>
                  <a:pt x="299" y="264"/>
                </a:lnTo>
                <a:lnTo>
                  <a:pt x="262" y="276"/>
                </a:lnTo>
                <a:lnTo>
                  <a:pt x="192" y="264"/>
                </a:lnTo>
                <a:lnTo>
                  <a:pt x="124" y="277"/>
                </a:lnTo>
                <a:lnTo>
                  <a:pt x="72" y="272"/>
                </a:lnTo>
                <a:lnTo>
                  <a:pt x="65" y="297"/>
                </a:lnTo>
                <a:lnTo>
                  <a:pt x="53" y="291"/>
                </a:lnTo>
                <a:lnTo>
                  <a:pt x="39" y="273"/>
                </a:lnTo>
                <a:lnTo>
                  <a:pt x="3" y="271"/>
                </a:lnTo>
                <a:lnTo>
                  <a:pt x="0" y="285"/>
                </a:lnTo>
                <a:lnTo>
                  <a:pt x="0" y="285"/>
                </a:lnTo>
              </a:path>
            </a:pathLst>
          </a:custGeom>
          <a:solidFill>
            <a:srgbClr val="cc330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826920" y="3889440"/>
            <a:ext cx="7267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Arial Narrow"/>
              </a:rPr>
              <a:t>Emerge una notevole vivacità dell’industria chimica italiana, </a:t>
            </a:r>
            <a:br>
              <a:rPr sz="2000"/>
            </a:br>
            <a:r>
              <a:rPr b="1" lang="it-IT" sz="2000" spc="-1" strike="noStrike">
                <a:solidFill>
                  <a:srgbClr val="333399"/>
                </a:solidFill>
                <a:latin typeface="Arial Narrow"/>
              </a:rPr>
              <a:t>infatti l’Italia è seconda solo alla Germania in termini di numerosità </a:t>
            </a:r>
            <a:br>
              <a:rPr sz="2000"/>
            </a:br>
            <a:r>
              <a:rPr b="1" lang="it-IT" sz="2000" spc="-1" strike="noStrike">
                <a:solidFill>
                  <a:srgbClr val="333399"/>
                </a:solidFill>
                <a:latin typeface="Arial Narrow"/>
              </a:rPr>
              <a:t>- non solo di imprese innovative, </a:t>
            </a:r>
            <a:br>
              <a:rPr sz="2000"/>
            </a:br>
            <a:r>
              <a:rPr b="1" lang="it-IT" sz="2000" spc="-1" strike="noStrike">
                <a:solidFill>
                  <a:srgbClr val="333399"/>
                </a:solidFill>
                <a:latin typeface="Arial Narrow"/>
              </a:rPr>
              <a:t>- ma anche di imprese che fanno ricerca (occasionale o continuativa)</a:t>
            </a:r>
            <a:br>
              <a:rPr sz="2000"/>
            </a:br>
            <a:r>
              <a:rPr b="1" lang="it-IT" sz="2000" spc="-1" strike="noStrike">
                <a:solidFill>
                  <a:srgbClr val="333399"/>
                </a:solidFill>
                <a:latin typeface="Arial Narrow"/>
              </a:rPr>
              <a:t>- e di imprese che introducono prodotti nuovi per il mercato, </a:t>
            </a:r>
            <a:br>
              <a:rPr sz="2000"/>
            </a:br>
            <a:r>
              <a:rPr b="1" lang="it-IT" sz="2000" spc="-1" strike="noStrike">
                <a:solidFill>
                  <a:srgbClr val="333399"/>
                </a:solidFill>
                <a:latin typeface="Arial Narrow"/>
              </a:rPr>
              <a:t>  non limitandosi all’imitazione di innovazioni già esiste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445080" y="1117440"/>
            <a:ext cx="1366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333399"/>
                </a:solidFill>
                <a:latin typeface="Arial"/>
              </a:rPr>
              <a:t>Fra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524640" y="2017800"/>
            <a:ext cx="8175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99"/>
                </a:solidFill>
                <a:latin typeface="Arial"/>
              </a:rPr>
              <a:t>71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516720" y="2452680"/>
            <a:ext cx="8175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99"/>
                </a:solidFill>
                <a:latin typeface="Arial"/>
              </a:rPr>
              <a:t>52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529320" y="1585800"/>
            <a:ext cx="8175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99"/>
                </a:solidFill>
                <a:latin typeface="Arial"/>
              </a:rPr>
              <a:t>82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740720" y="1117440"/>
            <a:ext cx="1366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333399"/>
                </a:solidFill>
                <a:latin typeface="Arial"/>
              </a:rPr>
              <a:t>Spag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819920" y="2017800"/>
            <a:ext cx="8175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99"/>
                </a:solidFill>
                <a:latin typeface="Arial"/>
              </a:rPr>
              <a:t>67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812000" y="2452680"/>
            <a:ext cx="8175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99"/>
                </a:solidFill>
                <a:latin typeface="Arial"/>
              </a:rPr>
              <a:t>528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824960" y="1585800"/>
            <a:ext cx="8175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99"/>
                </a:solidFill>
                <a:latin typeface="Arial"/>
              </a:rPr>
              <a:t>98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77720" y="2862360"/>
            <a:ext cx="387828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Imprese con innovaz. nuova per il mercat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410080" y="2884320"/>
            <a:ext cx="8175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0000"/>
                </a:solidFill>
                <a:latin typeface="Arial"/>
              </a:rPr>
              <a:t>57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140360" y="2884320"/>
            <a:ext cx="8175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99"/>
                </a:solidFill>
                <a:latin typeface="Arial"/>
              </a:rPr>
              <a:t>676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516720" y="2884320"/>
            <a:ext cx="8175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99"/>
                </a:solidFill>
                <a:latin typeface="Arial"/>
              </a:rPr>
              <a:t>48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812000" y="2884320"/>
            <a:ext cx="8175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99"/>
                </a:solidFill>
                <a:latin typeface="Arial"/>
              </a:rPr>
              <a:t>35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952560" y="6165720"/>
            <a:ext cx="38005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333399"/>
                </a:solidFill>
                <a:latin typeface="Arial"/>
              </a:rPr>
              <a:t>dati sul Regno Unito non disponibil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6093360" y="6386400"/>
            <a:ext cx="3059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333399"/>
                </a:solidFill>
                <a:latin typeface="Arial"/>
              </a:rPr>
              <a:t>Fonte: </a:t>
            </a:r>
            <a:r>
              <a:rPr b="0" lang="it-IT" sz="1400" spc="-1" strike="noStrike">
                <a:solidFill>
                  <a:srgbClr val="333399"/>
                </a:solidFill>
                <a:latin typeface="Arial"/>
              </a:rPr>
              <a:t>Euro</a:t>
            </a:r>
            <a:r>
              <a:rPr b="0" sz="1400" spc="-1" strike="noStrike">
                <a:solidFill>
                  <a:srgbClr val="333399"/>
                </a:solidFill>
                <a:latin typeface="Arial"/>
              </a:rPr>
              <a:t>stat, </a:t>
            </a:r>
            <a:br>
              <a:rPr sz="1400"/>
            </a:br>
            <a:r>
              <a:rPr b="0" sz="1400" spc="-1" strike="noStrike">
                <a:solidFill>
                  <a:srgbClr val="333399"/>
                </a:solidFill>
                <a:latin typeface="Arial"/>
              </a:rPr>
              <a:t>Community Innovation Survey, </a:t>
            </a:r>
            <a:r>
              <a:rPr b="0" lang="it-IT" sz="1400" spc="-1" strike="noStrike">
                <a:solidFill>
                  <a:srgbClr val="333399"/>
                </a:solidFill>
                <a:latin typeface="Arial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46120" y="1231920"/>
            <a:ext cx="8456760" cy="0"/>
          </a:xfrm>
          <a:prstGeom prst="line">
            <a:avLst/>
          </a:prstGeom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66560" y="442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Arial"/>
              </a:rPr>
              <a:t>Ripartizione</a:t>
            </a:r>
            <a:r>
              <a:rPr b="1" lang="it-IT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333399"/>
                </a:solidFill>
                <a:latin typeface="Arial"/>
              </a:rPr>
              <a:t>della spesa per tipo di attività innov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578400" y="901800"/>
            <a:ext cx="1166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333399"/>
                </a:solidFill>
                <a:latin typeface="Arial"/>
              </a:rPr>
              <a:t>chimic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780080" y="901800"/>
            <a:ext cx="1058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333399"/>
                </a:solidFill>
                <a:latin typeface="Arial"/>
              </a:rPr>
              <a:t>industr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14520" y="1281240"/>
            <a:ext cx="2376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R&amp;S intra-mur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14520" y="2573280"/>
            <a:ext cx="302076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Acquisto macchinari innovativ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14520" y="1965240"/>
            <a:ext cx="29098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Acquisto di tecnologia </a:t>
            </a:r>
            <a:br>
              <a:rPr sz="1500"/>
            </a:b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non incorporata in beni capital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121200" y="1281240"/>
            <a:ext cx="1280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0000"/>
                </a:solidFill>
                <a:latin typeface="Arial"/>
              </a:rPr>
              <a:t>59,9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121200" y="2597040"/>
            <a:ext cx="1280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31,5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121200" y="2085840"/>
            <a:ext cx="1280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1,3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356000" y="1281240"/>
            <a:ext cx="1281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43,4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356000" y="2597040"/>
            <a:ext cx="1281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0000"/>
                </a:solidFill>
                <a:latin typeface="Arial"/>
              </a:rPr>
              <a:t>42,8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356000" y="2085840"/>
            <a:ext cx="1281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3,8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121200" y="1622520"/>
            <a:ext cx="1280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0000"/>
                </a:solidFill>
                <a:latin typeface="Arial"/>
              </a:rPr>
              <a:t>7,3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356000" y="1622520"/>
            <a:ext cx="1281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10,0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19200" y="1622520"/>
            <a:ext cx="2376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R&amp;S extra-mur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85640" y="6564240"/>
            <a:ext cx="38005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333399"/>
                </a:solidFill>
                <a:latin typeface="Arial"/>
              </a:rPr>
              <a:t>Not</a:t>
            </a:r>
            <a:r>
              <a:rPr b="0" sz="1400" spc="-1" strike="noStrike">
                <a:solidFill>
                  <a:srgbClr val="333399"/>
                </a:solidFill>
                <a:latin typeface="Arial"/>
              </a:rPr>
              <a:t>e: </a:t>
            </a:r>
            <a:r>
              <a:rPr b="0" lang="it-IT" sz="1400" spc="-1" strike="noStrike">
                <a:solidFill>
                  <a:srgbClr val="333399"/>
                </a:solidFill>
                <a:latin typeface="Arial"/>
              </a:rPr>
              <a:t>totale = imprese con più di 10 addett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940360" y="128124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65,7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940360" y="259704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15,4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940360" y="208584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2,7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940360" y="162252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16,2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164360" y="1289160"/>
            <a:ext cx="1281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99"/>
                </a:solidFill>
                <a:latin typeface="Arial"/>
              </a:rPr>
              <a:t>54,3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7164360" y="2604960"/>
            <a:ext cx="1281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28,1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7164360" y="2085840"/>
            <a:ext cx="1281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4,3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164360" y="1622520"/>
            <a:ext cx="1281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13,3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948280" y="895320"/>
            <a:ext cx="1287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333399"/>
                </a:solidFill>
                <a:latin typeface="Arial"/>
              </a:rPr>
              <a:t>high tec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rot="16435200">
            <a:off x="480960" y="3860280"/>
            <a:ext cx="430200" cy="287280"/>
          </a:xfrm>
          <a:custGeom>
            <a:avLst/>
            <a:gdLst/>
            <a:ahLst/>
            <a:rect l="l" t="t" r="r" b="b"/>
            <a:pathLst>
              <a:path w="1214" h="753">
                <a:moveTo>
                  <a:pt x="0" y="285"/>
                </a:moveTo>
                <a:lnTo>
                  <a:pt x="0" y="285"/>
                </a:lnTo>
                <a:lnTo>
                  <a:pt x="99" y="360"/>
                </a:lnTo>
                <a:lnTo>
                  <a:pt x="115" y="352"/>
                </a:lnTo>
                <a:lnTo>
                  <a:pt x="134" y="390"/>
                </a:lnTo>
                <a:lnTo>
                  <a:pt x="196" y="417"/>
                </a:lnTo>
                <a:lnTo>
                  <a:pt x="232" y="461"/>
                </a:lnTo>
                <a:lnTo>
                  <a:pt x="304" y="501"/>
                </a:lnTo>
                <a:lnTo>
                  <a:pt x="362" y="556"/>
                </a:lnTo>
                <a:lnTo>
                  <a:pt x="396" y="565"/>
                </a:lnTo>
                <a:lnTo>
                  <a:pt x="420" y="536"/>
                </a:lnTo>
                <a:lnTo>
                  <a:pt x="432" y="564"/>
                </a:lnTo>
                <a:lnTo>
                  <a:pt x="424" y="597"/>
                </a:lnTo>
                <a:lnTo>
                  <a:pt x="504" y="668"/>
                </a:lnTo>
                <a:lnTo>
                  <a:pt x="553" y="677"/>
                </a:lnTo>
                <a:lnTo>
                  <a:pt x="611" y="728"/>
                </a:lnTo>
                <a:lnTo>
                  <a:pt x="629" y="752"/>
                </a:lnTo>
                <a:lnTo>
                  <a:pt x="662" y="744"/>
                </a:lnTo>
                <a:lnTo>
                  <a:pt x="682" y="715"/>
                </a:lnTo>
                <a:lnTo>
                  <a:pt x="758" y="673"/>
                </a:lnTo>
                <a:lnTo>
                  <a:pt x="826" y="593"/>
                </a:lnTo>
                <a:lnTo>
                  <a:pt x="938" y="501"/>
                </a:lnTo>
                <a:lnTo>
                  <a:pt x="999" y="431"/>
                </a:lnTo>
                <a:lnTo>
                  <a:pt x="1051" y="363"/>
                </a:lnTo>
                <a:lnTo>
                  <a:pt x="1077" y="373"/>
                </a:lnTo>
                <a:lnTo>
                  <a:pt x="1110" y="340"/>
                </a:lnTo>
                <a:lnTo>
                  <a:pt x="1108" y="288"/>
                </a:lnTo>
                <a:lnTo>
                  <a:pt x="1130" y="308"/>
                </a:lnTo>
                <a:lnTo>
                  <a:pt x="1159" y="288"/>
                </a:lnTo>
                <a:lnTo>
                  <a:pt x="1153" y="272"/>
                </a:lnTo>
                <a:lnTo>
                  <a:pt x="1184" y="274"/>
                </a:lnTo>
                <a:lnTo>
                  <a:pt x="1213" y="248"/>
                </a:lnTo>
                <a:lnTo>
                  <a:pt x="1139" y="240"/>
                </a:lnTo>
                <a:lnTo>
                  <a:pt x="1127" y="262"/>
                </a:lnTo>
                <a:lnTo>
                  <a:pt x="1106" y="255"/>
                </a:lnTo>
                <a:lnTo>
                  <a:pt x="1016" y="258"/>
                </a:lnTo>
                <a:lnTo>
                  <a:pt x="992" y="284"/>
                </a:lnTo>
                <a:lnTo>
                  <a:pt x="956" y="267"/>
                </a:lnTo>
                <a:lnTo>
                  <a:pt x="912" y="255"/>
                </a:lnTo>
                <a:lnTo>
                  <a:pt x="880" y="276"/>
                </a:lnTo>
                <a:lnTo>
                  <a:pt x="816" y="308"/>
                </a:lnTo>
                <a:lnTo>
                  <a:pt x="842" y="286"/>
                </a:lnTo>
                <a:lnTo>
                  <a:pt x="911" y="209"/>
                </a:lnTo>
                <a:lnTo>
                  <a:pt x="912" y="176"/>
                </a:lnTo>
                <a:lnTo>
                  <a:pt x="871" y="204"/>
                </a:lnTo>
                <a:lnTo>
                  <a:pt x="851" y="228"/>
                </a:lnTo>
                <a:lnTo>
                  <a:pt x="854" y="196"/>
                </a:lnTo>
                <a:lnTo>
                  <a:pt x="898" y="124"/>
                </a:lnTo>
                <a:lnTo>
                  <a:pt x="897" y="28"/>
                </a:lnTo>
                <a:lnTo>
                  <a:pt x="887" y="0"/>
                </a:lnTo>
                <a:lnTo>
                  <a:pt x="793" y="3"/>
                </a:lnTo>
                <a:lnTo>
                  <a:pt x="737" y="16"/>
                </a:lnTo>
                <a:lnTo>
                  <a:pt x="613" y="10"/>
                </a:lnTo>
                <a:lnTo>
                  <a:pt x="557" y="19"/>
                </a:lnTo>
                <a:lnTo>
                  <a:pt x="450" y="15"/>
                </a:lnTo>
                <a:lnTo>
                  <a:pt x="408" y="24"/>
                </a:lnTo>
                <a:lnTo>
                  <a:pt x="452" y="57"/>
                </a:lnTo>
                <a:lnTo>
                  <a:pt x="436" y="68"/>
                </a:lnTo>
                <a:lnTo>
                  <a:pt x="391" y="41"/>
                </a:lnTo>
                <a:lnTo>
                  <a:pt x="366" y="42"/>
                </a:lnTo>
                <a:lnTo>
                  <a:pt x="347" y="19"/>
                </a:lnTo>
                <a:lnTo>
                  <a:pt x="292" y="24"/>
                </a:lnTo>
                <a:lnTo>
                  <a:pt x="282" y="63"/>
                </a:lnTo>
                <a:lnTo>
                  <a:pt x="297" y="126"/>
                </a:lnTo>
                <a:lnTo>
                  <a:pt x="297" y="226"/>
                </a:lnTo>
                <a:lnTo>
                  <a:pt x="299" y="264"/>
                </a:lnTo>
                <a:lnTo>
                  <a:pt x="262" y="276"/>
                </a:lnTo>
                <a:lnTo>
                  <a:pt x="192" y="264"/>
                </a:lnTo>
                <a:lnTo>
                  <a:pt x="124" y="277"/>
                </a:lnTo>
                <a:lnTo>
                  <a:pt x="72" y="272"/>
                </a:lnTo>
                <a:lnTo>
                  <a:pt x="65" y="297"/>
                </a:lnTo>
                <a:lnTo>
                  <a:pt x="53" y="291"/>
                </a:lnTo>
                <a:lnTo>
                  <a:pt x="39" y="273"/>
                </a:lnTo>
                <a:lnTo>
                  <a:pt x="3" y="271"/>
                </a:lnTo>
                <a:lnTo>
                  <a:pt x="0" y="285"/>
                </a:lnTo>
                <a:lnTo>
                  <a:pt x="0" y="285"/>
                </a:lnTo>
              </a:path>
            </a:pathLst>
          </a:custGeom>
          <a:solidFill>
            <a:srgbClr val="cc330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866880" y="3831840"/>
            <a:ext cx="795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Arial Narrow"/>
              </a:rPr>
              <a:t>Nella chimica il 67% delle spese di innovazione è destinato alla ricerca</a:t>
            </a:r>
            <a:br>
              <a:rPr sz="2000"/>
            </a:br>
            <a:r>
              <a:rPr b="1" lang="it-IT" sz="2000" spc="-1" strike="noStrike">
                <a:solidFill>
                  <a:srgbClr val="333399"/>
                </a:solidFill>
                <a:latin typeface="Arial Narrow"/>
              </a:rPr>
              <a:t>e non al semplice acquisto dall’esterno di macchinari innovati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058160" y="693720"/>
            <a:ext cx="205092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333399"/>
                </a:solidFill>
                <a:latin typeface="Arial"/>
              </a:rPr>
              <a:t>altri </a:t>
            </a:r>
            <a:br>
              <a:rPr sz="1500"/>
            </a:br>
            <a:r>
              <a:rPr b="1" lang="it-IT" sz="1500" spc="-1" strike="noStrike">
                <a:solidFill>
                  <a:srgbClr val="333399"/>
                </a:solidFill>
                <a:latin typeface="Arial"/>
              </a:rPr>
              <a:t>medium-high tec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58720" y="2997360"/>
            <a:ext cx="8456760" cy="0"/>
          </a:xfrm>
          <a:prstGeom prst="line">
            <a:avLst/>
          </a:prstGeom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rot="16435200">
            <a:off x="480960" y="4816080"/>
            <a:ext cx="430200" cy="287280"/>
          </a:xfrm>
          <a:custGeom>
            <a:avLst/>
            <a:gdLst/>
            <a:ahLst/>
            <a:rect l="l" t="t" r="r" b="b"/>
            <a:pathLst>
              <a:path w="1214" h="753">
                <a:moveTo>
                  <a:pt x="0" y="285"/>
                </a:moveTo>
                <a:lnTo>
                  <a:pt x="0" y="285"/>
                </a:lnTo>
                <a:lnTo>
                  <a:pt x="99" y="360"/>
                </a:lnTo>
                <a:lnTo>
                  <a:pt x="115" y="352"/>
                </a:lnTo>
                <a:lnTo>
                  <a:pt x="134" y="390"/>
                </a:lnTo>
                <a:lnTo>
                  <a:pt x="196" y="417"/>
                </a:lnTo>
                <a:lnTo>
                  <a:pt x="232" y="461"/>
                </a:lnTo>
                <a:lnTo>
                  <a:pt x="304" y="501"/>
                </a:lnTo>
                <a:lnTo>
                  <a:pt x="362" y="556"/>
                </a:lnTo>
                <a:lnTo>
                  <a:pt x="396" y="565"/>
                </a:lnTo>
                <a:lnTo>
                  <a:pt x="420" y="536"/>
                </a:lnTo>
                <a:lnTo>
                  <a:pt x="432" y="564"/>
                </a:lnTo>
                <a:lnTo>
                  <a:pt x="424" y="597"/>
                </a:lnTo>
                <a:lnTo>
                  <a:pt x="504" y="668"/>
                </a:lnTo>
                <a:lnTo>
                  <a:pt x="553" y="677"/>
                </a:lnTo>
                <a:lnTo>
                  <a:pt x="611" y="728"/>
                </a:lnTo>
                <a:lnTo>
                  <a:pt x="629" y="752"/>
                </a:lnTo>
                <a:lnTo>
                  <a:pt x="662" y="744"/>
                </a:lnTo>
                <a:lnTo>
                  <a:pt x="682" y="715"/>
                </a:lnTo>
                <a:lnTo>
                  <a:pt x="758" y="673"/>
                </a:lnTo>
                <a:lnTo>
                  <a:pt x="826" y="593"/>
                </a:lnTo>
                <a:lnTo>
                  <a:pt x="938" y="501"/>
                </a:lnTo>
                <a:lnTo>
                  <a:pt x="999" y="431"/>
                </a:lnTo>
                <a:lnTo>
                  <a:pt x="1051" y="363"/>
                </a:lnTo>
                <a:lnTo>
                  <a:pt x="1077" y="373"/>
                </a:lnTo>
                <a:lnTo>
                  <a:pt x="1110" y="340"/>
                </a:lnTo>
                <a:lnTo>
                  <a:pt x="1108" y="288"/>
                </a:lnTo>
                <a:lnTo>
                  <a:pt x="1130" y="308"/>
                </a:lnTo>
                <a:lnTo>
                  <a:pt x="1159" y="288"/>
                </a:lnTo>
                <a:lnTo>
                  <a:pt x="1153" y="272"/>
                </a:lnTo>
                <a:lnTo>
                  <a:pt x="1184" y="274"/>
                </a:lnTo>
                <a:lnTo>
                  <a:pt x="1213" y="248"/>
                </a:lnTo>
                <a:lnTo>
                  <a:pt x="1139" y="240"/>
                </a:lnTo>
                <a:lnTo>
                  <a:pt x="1127" y="262"/>
                </a:lnTo>
                <a:lnTo>
                  <a:pt x="1106" y="255"/>
                </a:lnTo>
                <a:lnTo>
                  <a:pt x="1016" y="258"/>
                </a:lnTo>
                <a:lnTo>
                  <a:pt x="992" y="284"/>
                </a:lnTo>
                <a:lnTo>
                  <a:pt x="956" y="267"/>
                </a:lnTo>
                <a:lnTo>
                  <a:pt x="912" y="255"/>
                </a:lnTo>
                <a:lnTo>
                  <a:pt x="880" y="276"/>
                </a:lnTo>
                <a:lnTo>
                  <a:pt x="816" y="308"/>
                </a:lnTo>
                <a:lnTo>
                  <a:pt x="842" y="286"/>
                </a:lnTo>
                <a:lnTo>
                  <a:pt x="911" y="209"/>
                </a:lnTo>
                <a:lnTo>
                  <a:pt x="912" y="176"/>
                </a:lnTo>
                <a:lnTo>
                  <a:pt x="871" y="204"/>
                </a:lnTo>
                <a:lnTo>
                  <a:pt x="851" y="228"/>
                </a:lnTo>
                <a:lnTo>
                  <a:pt x="854" y="196"/>
                </a:lnTo>
                <a:lnTo>
                  <a:pt x="898" y="124"/>
                </a:lnTo>
                <a:lnTo>
                  <a:pt x="897" y="28"/>
                </a:lnTo>
                <a:lnTo>
                  <a:pt x="887" y="0"/>
                </a:lnTo>
                <a:lnTo>
                  <a:pt x="793" y="3"/>
                </a:lnTo>
                <a:lnTo>
                  <a:pt x="737" y="16"/>
                </a:lnTo>
                <a:lnTo>
                  <a:pt x="613" y="10"/>
                </a:lnTo>
                <a:lnTo>
                  <a:pt x="557" y="19"/>
                </a:lnTo>
                <a:lnTo>
                  <a:pt x="450" y="15"/>
                </a:lnTo>
                <a:lnTo>
                  <a:pt x="408" y="24"/>
                </a:lnTo>
                <a:lnTo>
                  <a:pt x="452" y="57"/>
                </a:lnTo>
                <a:lnTo>
                  <a:pt x="436" y="68"/>
                </a:lnTo>
                <a:lnTo>
                  <a:pt x="391" y="41"/>
                </a:lnTo>
                <a:lnTo>
                  <a:pt x="366" y="42"/>
                </a:lnTo>
                <a:lnTo>
                  <a:pt x="347" y="19"/>
                </a:lnTo>
                <a:lnTo>
                  <a:pt x="292" y="24"/>
                </a:lnTo>
                <a:lnTo>
                  <a:pt x="282" y="63"/>
                </a:lnTo>
                <a:lnTo>
                  <a:pt x="297" y="126"/>
                </a:lnTo>
                <a:lnTo>
                  <a:pt x="297" y="226"/>
                </a:lnTo>
                <a:lnTo>
                  <a:pt x="299" y="264"/>
                </a:lnTo>
                <a:lnTo>
                  <a:pt x="262" y="276"/>
                </a:lnTo>
                <a:lnTo>
                  <a:pt x="192" y="264"/>
                </a:lnTo>
                <a:lnTo>
                  <a:pt x="124" y="277"/>
                </a:lnTo>
                <a:lnTo>
                  <a:pt x="72" y="272"/>
                </a:lnTo>
                <a:lnTo>
                  <a:pt x="65" y="297"/>
                </a:lnTo>
                <a:lnTo>
                  <a:pt x="53" y="291"/>
                </a:lnTo>
                <a:lnTo>
                  <a:pt x="39" y="273"/>
                </a:lnTo>
                <a:lnTo>
                  <a:pt x="3" y="271"/>
                </a:lnTo>
                <a:lnTo>
                  <a:pt x="0" y="285"/>
                </a:lnTo>
                <a:lnTo>
                  <a:pt x="0" y="285"/>
                </a:lnTo>
              </a:path>
            </a:pathLst>
          </a:custGeom>
          <a:solidFill>
            <a:srgbClr val="cc330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66880" y="4781160"/>
            <a:ext cx="795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Arial Narrow"/>
              </a:rPr>
              <a:t>Dal confronto con gli altri settori medium-high tech </a:t>
            </a:r>
            <a:br>
              <a:rPr sz="2000"/>
            </a:br>
            <a:r>
              <a:rPr b="1" lang="it-IT" sz="2000" spc="-1" strike="noStrike">
                <a:solidFill>
                  <a:srgbClr val="333399"/>
                </a:solidFill>
                <a:latin typeface="Arial Narrow"/>
              </a:rPr>
              <a:t>si conferma una vocazione maggiore della chimica </a:t>
            </a:r>
            <a:br>
              <a:rPr sz="2000"/>
            </a:br>
            <a:r>
              <a:rPr b="1" lang="it-IT" sz="2000" spc="-1" strike="noStrike">
                <a:solidFill>
                  <a:srgbClr val="333399"/>
                </a:solidFill>
                <a:latin typeface="Arial Narrow"/>
              </a:rPr>
              <a:t>all’innovazione basata sulla ricerca intra-mu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6093360" y="6386400"/>
            <a:ext cx="3059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333399"/>
                </a:solidFill>
                <a:latin typeface="Arial"/>
              </a:rPr>
              <a:t>Fonte: </a:t>
            </a:r>
            <a:r>
              <a:rPr b="0" lang="it-IT" sz="1400" spc="-1" strike="noStrike">
                <a:solidFill>
                  <a:srgbClr val="333399"/>
                </a:solidFill>
                <a:latin typeface="Arial"/>
              </a:rPr>
              <a:t>Euro</a:t>
            </a:r>
            <a:r>
              <a:rPr b="0" sz="1400" spc="-1" strike="noStrike">
                <a:solidFill>
                  <a:srgbClr val="333399"/>
                </a:solidFill>
                <a:latin typeface="Arial"/>
              </a:rPr>
              <a:t>stat, </a:t>
            </a:r>
            <a:br>
              <a:rPr sz="1400"/>
            </a:br>
            <a:r>
              <a:rPr b="0" sz="1400" spc="-1" strike="noStrike">
                <a:solidFill>
                  <a:srgbClr val="333399"/>
                </a:solidFill>
                <a:latin typeface="Arial"/>
              </a:rPr>
              <a:t>Community Innovation Survey, </a:t>
            </a:r>
            <a:r>
              <a:rPr b="0" lang="it-IT" sz="1400" spc="-1" strike="noStrike">
                <a:solidFill>
                  <a:srgbClr val="333399"/>
                </a:solidFill>
                <a:latin typeface="Arial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603600" y="468360"/>
            <a:ext cx="116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Arial"/>
              </a:rPr>
              <a:t>chim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805280" y="468360"/>
            <a:ext cx="105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Arial"/>
              </a:rPr>
              <a:t>indust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85640" y="6564240"/>
            <a:ext cx="38005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333399"/>
                </a:solidFill>
                <a:latin typeface="Arial"/>
              </a:rPr>
              <a:t>Not</a:t>
            </a:r>
            <a:r>
              <a:rPr b="0" sz="1400" spc="-1" strike="noStrike">
                <a:solidFill>
                  <a:srgbClr val="333399"/>
                </a:solidFill>
                <a:latin typeface="Arial"/>
              </a:rPr>
              <a:t>e: </a:t>
            </a:r>
            <a:r>
              <a:rPr b="0" lang="it-IT" sz="1400" spc="-1" strike="noStrike">
                <a:solidFill>
                  <a:srgbClr val="333399"/>
                </a:solidFill>
                <a:latin typeface="Arial"/>
              </a:rPr>
              <a:t>totale = imprese con più di 10 addett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973840" y="461880"/>
            <a:ext cx="128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Arial"/>
              </a:rPr>
              <a:t>high te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rot="16435200">
            <a:off x="480960" y="2995200"/>
            <a:ext cx="430200" cy="287280"/>
          </a:xfrm>
          <a:custGeom>
            <a:avLst/>
            <a:gdLst/>
            <a:ahLst/>
            <a:rect l="l" t="t" r="r" b="b"/>
            <a:pathLst>
              <a:path w="1214" h="753">
                <a:moveTo>
                  <a:pt x="0" y="285"/>
                </a:moveTo>
                <a:lnTo>
                  <a:pt x="0" y="285"/>
                </a:lnTo>
                <a:lnTo>
                  <a:pt x="99" y="360"/>
                </a:lnTo>
                <a:lnTo>
                  <a:pt x="115" y="352"/>
                </a:lnTo>
                <a:lnTo>
                  <a:pt x="134" y="390"/>
                </a:lnTo>
                <a:lnTo>
                  <a:pt x="196" y="417"/>
                </a:lnTo>
                <a:lnTo>
                  <a:pt x="232" y="461"/>
                </a:lnTo>
                <a:lnTo>
                  <a:pt x="304" y="501"/>
                </a:lnTo>
                <a:lnTo>
                  <a:pt x="362" y="556"/>
                </a:lnTo>
                <a:lnTo>
                  <a:pt x="396" y="565"/>
                </a:lnTo>
                <a:lnTo>
                  <a:pt x="420" y="536"/>
                </a:lnTo>
                <a:lnTo>
                  <a:pt x="432" y="564"/>
                </a:lnTo>
                <a:lnTo>
                  <a:pt x="424" y="597"/>
                </a:lnTo>
                <a:lnTo>
                  <a:pt x="504" y="668"/>
                </a:lnTo>
                <a:lnTo>
                  <a:pt x="553" y="677"/>
                </a:lnTo>
                <a:lnTo>
                  <a:pt x="611" y="728"/>
                </a:lnTo>
                <a:lnTo>
                  <a:pt x="629" y="752"/>
                </a:lnTo>
                <a:lnTo>
                  <a:pt x="662" y="744"/>
                </a:lnTo>
                <a:lnTo>
                  <a:pt x="682" y="715"/>
                </a:lnTo>
                <a:lnTo>
                  <a:pt x="758" y="673"/>
                </a:lnTo>
                <a:lnTo>
                  <a:pt x="826" y="593"/>
                </a:lnTo>
                <a:lnTo>
                  <a:pt x="938" y="501"/>
                </a:lnTo>
                <a:lnTo>
                  <a:pt x="999" y="431"/>
                </a:lnTo>
                <a:lnTo>
                  <a:pt x="1051" y="363"/>
                </a:lnTo>
                <a:lnTo>
                  <a:pt x="1077" y="373"/>
                </a:lnTo>
                <a:lnTo>
                  <a:pt x="1110" y="340"/>
                </a:lnTo>
                <a:lnTo>
                  <a:pt x="1108" y="288"/>
                </a:lnTo>
                <a:lnTo>
                  <a:pt x="1130" y="308"/>
                </a:lnTo>
                <a:lnTo>
                  <a:pt x="1159" y="288"/>
                </a:lnTo>
                <a:lnTo>
                  <a:pt x="1153" y="272"/>
                </a:lnTo>
                <a:lnTo>
                  <a:pt x="1184" y="274"/>
                </a:lnTo>
                <a:lnTo>
                  <a:pt x="1213" y="248"/>
                </a:lnTo>
                <a:lnTo>
                  <a:pt x="1139" y="240"/>
                </a:lnTo>
                <a:lnTo>
                  <a:pt x="1127" y="262"/>
                </a:lnTo>
                <a:lnTo>
                  <a:pt x="1106" y="255"/>
                </a:lnTo>
                <a:lnTo>
                  <a:pt x="1016" y="258"/>
                </a:lnTo>
                <a:lnTo>
                  <a:pt x="992" y="284"/>
                </a:lnTo>
                <a:lnTo>
                  <a:pt x="956" y="267"/>
                </a:lnTo>
                <a:lnTo>
                  <a:pt x="912" y="255"/>
                </a:lnTo>
                <a:lnTo>
                  <a:pt x="880" y="276"/>
                </a:lnTo>
                <a:lnTo>
                  <a:pt x="816" y="308"/>
                </a:lnTo>
                <a:lnTo>
                  <a:pt x="842" y="286"/>
                </a:lnTo>
                <a:lnTo>
                  <a:pt x="911" y="209"/>
                </a:lnTo>
                <a:lnTo>
                  <a:pt x="912" y="176"/>
                </a:lnTo>
                <a:lnTo>
                  <a:pt x="871" y="204"/>
                </a:lnTo>
                <a:lnTo>
                  <a:pt x="851" y="228"/>
                </a:lnTo>
                <a:lnTo>
                  <a:pt x="854" y="196"/>
                </a:lnTo>
                <a:lnTo>
                  <a:pt x="898" y="124"/>
                </a:lnTo>
                <a:lnTo>
                  <a:pt x="897" y="28"/>
                </a:lnTo>
                <a:lnTo>
                  <a:pt x="887" y="0"/>
                </a:lnTo>
                <a:lnTo>
                  <a:pt x="793" y="3"/>
                </a:lnTo>
                <a:lnTo>
                  <a:pt x="737" y="16"/>
                </a:lnTo>
                <a:lnTo>
                  <a:pt x="613" y="10"/>
                </a:lnTo>
                <a:lnTo>
                  <a:pt x="557" y="19"/>
                </a:lnTo>
                <a:lnTo>
                  <a:pt x="450" y="15"/>
                </a:lnTo>
                <a:lnTo>
                  <a:pt x="408" y="24"/>
                </a:lnTo>
                <a:lnTo>
                  <a:pt x="452" y="57"/>
                </a:lnTo>
                <a:lnTo>
                  <a:pt x="436" y="68"/>
                </a:lnTo>
                <a:lnTo>
                  <a:pt x="391" y="41"/>
                </a:lnTo>
                <a:lnTo>
                  <a:pt x="366" y="42"/>
                </a:lnTo>
                <a:lnTo>
                  <a:pt x="347" y="19"/>
                </a:lnTo>
                <a:lnTo>
                  <a:pt x="292" y="24"/>
                </a:lnTo>
                <a:lnTo>
                  <a:pt x="282" y="63"/>
                </a:lnTo>
                <a:lnTo>
                  <a:pt x="297" y="126"/>
                </a:lnTo>
                <a:lnTo>
                  <a:pt x="297" y="226"/>
                </a:lnTo>
                <a:lnTo>
                  <a:pt x="299" y="264"/>
                </a:lnTo>
                <a:lnTo>
                  <a:pt x="262" y="276"/>
                </a:lnTo>
                <a:lnTo>
                  <a:pt x="192" y="264"/>
                </a:lnTo>
                <a:lnTo>
                  <a:pt x="124" y="277"/>
                </a:lnTo>
                <a:lnTo>
                  <a:pt x="72" y="272"/>
                </a:lnTo>
                <a:lnTo>
                  <a:pt x="65" y="297"/>
                </a:lnTo>
                <a:lnTo>
                  <a:pt x="53" y="291"/>
                </a:lnTo>
                <a:lnTo>
                  <a:pt x="39" y="273"/>
                </a:lnTo>
                <a:lnTo>
                  <a:pt x="3" y="271"/>
                </a:lnTo>
                <a:lnTo>
                  <a:pt x="0" y="285"/>
                </a:lnTo>
                <a:lnTo>
                  <a:pt x="0" y="285"/>
                </a:lnTo>
              </a:path>
            </a:pathLst>
          </a:custGeom>
          <a:solidFill>
            <a:srgbClr val="cc330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866880" y="2962080"/>
            <a:ext cx="795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Arial Narrow"/>
              </a:rPr>
              <a:t>L’industria chimica in Italia realizza </a:t>
            </a:r>
            <a:br>
              <a:rPr sz="2000"/>
            </a:br>
            <a:r>
              <a:rPr b="1" lang="it-IT" sz="2000" spc="-1" strike="noStrike">
                <a:solidFill>
                  <a:srgbClr val="333399"/>
                </a:solidFill>
                <a:latin typeface="Arial Narrow"/>
              </a:rPr>
              <a:t>- spese di innovazione pari a 946 milioni di euro</a:t>
            </a:r>
            <a:br>
              <a:rPr sz="2000"/>
            </a:br>
            <a:r>
              <a:rPr b="1" lang="it-IT" sz="2000" spc="-1" strike="noStrike">
                <a:solidFill>
                  <a:srgbClr val="333399"/>
                </a:solidFill>
                <a:latin typeface="Arial Narrow"/>
              </a:rPr>
              <a:t>- spese di R&amp;S intra-muros pari a 567 milioni di eu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rot="16435200">
            <a:off x="480960" y="4004640"/>
            <a:ext cx="430200" cy="287280"/>
          </a:xfrm>
          <a:custGeom>
            <a:avLst/>
            <a:gdLst/>
            <a:ahLst/>
            <a:rect l="l" t="t" r="r" b="b"/>
            <a:pathLst>
              <a:path w="1214" h="753">
                <a:moveTo>
                  <a:pt x="0" y="285"/>
                </a:moveTo>
                <a:lnTo>
                  <a:pt x="0" y="285"/>
                </a:lnTo>
                <a:lnTo>
                  <a:pt x="99" y="360"/>
                </a:lnTo>
                <a:lnTo>
                  <a:pt x="115" y="352"/>
                </a:lnTo>
                <a:lnTo>
                  <a:pt x="134" y="390"/>
                </a:lnTo>
                <a:lnTo>
                  <a:pt x="196" y="417"/>
                </a:lnTo>
                <a:lnTo>
                  <a:pt x="232" y="461"/>
                </a:lnTo>
                <a:lnTo>
                  <a:pt x="304" y="501"/>
                </a:lnTo>
                <a:lnTo>
                  <a:pt x="362" y="556"/>
                </a:lnTo>
                <a:lnTo>
                  <a:pt x="396" y="565"/>
                </a:lnTo>
                <a:lnTo>
                  <a:pt x="420" y="536"/>
                </a:lnTo>
                <a:lnTo>
                  <a:pt x="432" y="564"/>
                </a:lnTo>
                <a:lnTo>
                  <a:pt x="424" y="597"/>
                </a:lnTo>
                <a:lnTo>
                  <a:pt x="504" y="668"/>
                </a:lnTo>
                <a:lnTo>
                  <a:pt x="553" y="677"/>
                </a:lnTo>
                <a:lnTo>
                  <a:pt x="611" y="728"/>
                </a:lnTo>
                <a:lnTo>
                  <a:pt x="629" y="752"/>
                </a:lnTo>
                <a:lnTo>
                  <a:pt x="662" y="744"/>
                </a:lnTo>
                <a:lnTo>
                  <a:pt x="682" y="715"/>
                </a:lnTo>
                <a:lnTo>
                  <a:pt x="758" y="673"/>
                </a:lnTo>
                <a:lnTo>
                  <a:pt x="826" y="593"/>
                </a:lnTo>
                <a:lnTo>
                  <a:pt x="938" y="501"/>
                </a:lnTo>
                <a:lnTo>
                  <a:pt x="999" y="431"/>
                </a:lnTo>
                <a:lnTo>
                  <a:pt x="1051" y="363"/>
                </a:lnTo>
                <a:lnTo>
                  <a:pt x="1077" y="373"/>
                </a:lnTo>
                <a:lnTo>
                  <a:pt x="1110" y="340"/>
                </a:lnTo>
                <a:lnTo>
                  <a:pt x="1108" y="288"/>
                </a:lnTo>
                <a:lnTo>
                  <a:pt x="1130" y="308"/>
                </a:lnTo>
                <a:lnTo>
                  <a:pt x="1159" y="288"/>
                </a:lnTo>
                <a:lnTo>
                  <a:pt x="1153" y="272"/>
                </a:lnTo>
                <a:lnTo>
                  <a:pt x="1184" y="274"/>
                </a:lnTo>
                <a:lnTo>
                  <a:pt x="1213" y="248"/>
                </a:lnTo>
                <a:lnTo>
                  <a:pt x="1139" y="240"/>
                </a:lnTo>
                <a:lnTo>
                  <a:pt x="1127" y="262"/>
                </a:lnTo>
                <a:lnTo>
                  <a:pt x="1106" y="255"/>
                </a:lnTo>
                <a:lnTo>
                  <a:pt x="1016" y="258"/>
                </a:lnTo>
                <a:lnTo>
                  <a:pt x="992" y="284"/>
                </a:lnTo>
                <a:lnTo>
                  <a:pt x="956" y="267"/>
                </a:lnTo>
                <a:lnTo>
                  <a:pt x="912" y="255"/>
                </a:lnTo>
                <a:lnTo>
                  <a:pt x="880" y="276"/>
                </a:lnTo>
                <a:lnTo>
                  <a:pt x="816" y="308"/>
                </a:lnTo>
                <a:lnTo>
                  <a:pt x="842" y="286"/>
                </a:lnTo>
                <a:lnTo>
                  <a:pt x="911" y="209"/>
                </a:lnTo>
                <a:lnTo>
                  <a:pt x="912" y="176"/>
                </a:lnTo>
                <a:lnTo>
                  <a:pt x="871" y="204"/>
                </a:lnTo>
                <a:lnTo>
                  <a:pt x="851" y="228"/>
                </a:lnTo>
                <a:lnTo>
                  <a:pt x="854" y="196"/>
                </a:lnTo>
                <a:lnTo>
                  <a:pt x="898" y="124"/>
                </a:lnTo>
                <a:lnTo>
                  <a:pt x="897" y="28"/>
                </a:lnTo>
                <a:lnTo>
                  <a:pt x="887" y="0"/>
                </a:lnTo>
                <a:lnTo>
                  <a:pt x="793" y="3"/>
                </a:lnTo>
                <a:lnTo>
                  <a:pt x="737" y="16"/>
                </a:lnTo>
                <a:lnTo>
                  <a:pt x="613" y="10"/>
                </a:lnTo>
                <a:lnTo>
                  <a:pt x="557" y="19"/>
                </a:lnTo>
                <a:lnTo>
                  <a:pt x="450" y="15"/>
                </a:lnTo>
                <a:lnTo>
                  <a:pt x="408" y="24"/>
                </a:lnTo>
                <a:lnTo>
                  <a:pt x="452" y="57"/>
                </a:lnTo>
                <a:lnTo>
                  <a:pt x="436" y="68"/>
                </a:lnTo>
                <a:lnTo>
                  <a:pt x="391" y="41"/>
                </a:lnTo>
                <a:lnTo>
                  <a:pt x="366" y="42"/>
                </a:lnTo>
                <a:lnTo>
                  <a:pt x="347" y="19"/>
                </a:lnTo>
                <a:lnTo>
                  <a:pt x="292" y="24"/>
                </a:lnTo>
                <a:lnTo>
                  <a:pt x="282" y="63"/>
                </a:lnTo>
                <a:lnTo>
                  <a:pt x="297" y="126"/>
                </a:lnTo>
                <a:lnTo>
                  <a:pt x="297" y="226"/>
                </a:lnTo>
                <a:lnTo>
                  <a:pt x="299" y="264"/>
                </a:lnTo>
                <a:lnTo>
                  <a:pt x="262" y="276"/>
                </a:lnTo>
                <a:lnTo>
                  <a:pt x="192" y="264"/>
                </a:lnTo>
                <a:lnTo>
                  <a:pt x="124" y="277"/>
                </a:lnTo>
                <a:lnTo>
                  <a:pt x="72" y="272"/>
                </a:lnTo>
                <a:lnTo>
                  <a:pt x="65" y="297"/>
                </a:lnTo>
                <a:lnTo>
                  <a:pt x="53" y="291"/>
                </a:lnTo>
                <a:lnTo>
                  <a:pt x="39" y="273"/>
                </a:lnTo>
                <a:lnTo>
                  <a:pt x="3" y="271"/>
                </a:lnTo>
                <a:lnTo>
                  <a:pt x="0" y="285"/>
                </a:lnTo>
                <a:lnTo>
                  <a:pt x="0" y="285"/>
                </a:lnTo>
              </a:path>
            </a:pathLst>
          </a:custGeom>
          <a:solidFill>
            <a:srgbClr val="cc330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866880" y="3946320"/>
            <a:ext cx="827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Arial Narrow"/>
              </a:rPr>
              <a:t>La statistica annuale dell’Istat sulla R&amp;S in Italia probabilmente sottostima </a:t>
            </a:r>
            <a:br>
              <a:rPr sz="2000"/>
            </a:br>
            <a:r>
              <a:rPr b="1" lang="it-IT" sz="2000" spc="-1" strike="noStrike">
                <a:solidFill>
                  <a:srgbClr val="333399"/>
                </a:solidFill>
                <a:latin typeface="Arial Narrow"/>
              </a:rPr>
              <a:t>le effettive spese di ricerca del settore chimico realizzate non solo </a:t>
            </a:r>
            <a:br>
              <a:rPr sz="2000"/>
            </a:br>
            <a:r>
              <a:rPr b="1" lang="it-IT" sz="2000" spc="-1" strike="noStrike">
                <a:solidFill>
                  <a:srgbClr val="333399"/>
                </a:solidFill>
                <a:latin typeface="Arial Narrow"/>
              </a:rPr>
              <a:t>da grandi imprese ma anche da tante PMI </a:t>
            </a:r>
            <a:br>
              <a:rPr sz="2000"/>
            </a:br>
            <a:r>
              <a:rPr b="1" lang="it-IT" sz="2000" spc="-1" strike="noStrike">
                <a:solidFill>
                  <a:srgbClr val="333399"/>
                </a:solidFill>
                <a:latin typeface="Arial Narrow"/>
              </a:rPr>
              <a:t>(non è vero altrettanto per l’industria in genera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083360" y="260280"/>
            <a:ext cx="20512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Arial"/>
              </a:rPr>
              <a:t>altri </a:t>
            </a:r>
            <a:br>
              <a:rPr sz="1600"/>
            </a:br>
            <a:r>
              <a:rPr b="1" lang="it-IT" sz="1600" spc="-1" strike="noStrike">
                <a:solidFill>
                  <a:srgbClr val="333399"/>
                </a:solidFill>
                <a:latin typeface="Arial"/>
              </a:rPr>
              <a:t>medium-high te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5480" y="809640"/>
            <a:ext cx="8456760" cy="0"/>
          </a:xfrm>
          <a:prstGeom prst="line">
            <a:avLst/>
          </a:prstGeom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57200" y="44280"/>
            <a:ext cx="8686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Arial"/>
              </a:rPr>
              <a:t>Spese di innovazione e ricerca in Ita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55480" y="1652760"/>
            <a:ext cx="8456760" cy="0"/>
          </a:xfrm>
          <a:prstGeom prst="line">
            <a:avLst/>
          </a:prstGeom>
          <a:ln w="2232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23880" y="882720"/>
            <a:ext cx="301140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spese di innovazione (mln €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23880" y="1239840"/>
            <a:ext cx="301140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spese di R&amp;S intra-muros (mln €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97120" y="860400"/>
            <a:ext cx="687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946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97120" y="1217520"/>
            <a:ext cx="687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56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603680" y="86040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1533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03680" y="121752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666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796000" y="86040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222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796000" y="121752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1459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451640" y="86040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418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451640" y="121752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227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11280" y="1714680"/>
            <a:ext cx="30114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Arial"/>
              </a:rPr>
              <a:t>in % del fatturato settori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11280" y="2076480"/>
            <a:ext cx="244800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spese di innovazion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11280" y="2433600"/>
            <a:ext cx="244800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spese di R&amp;S intra-mur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84520" y="2054160"/>
            <a:ext cx="687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1,8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84520" y="2411280"/>
            <a:ext cx="687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0000"/>
                </a:solidFill>
                <a:latin typeface="Arial"/>
              </a:rPr>
              <a:t>1,1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591080" y="205416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1,7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591080" y="241128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0000"/>
                </a:solidFill>
                <a:latin typeface="Arial"/>
              </a:rPr>
              <a:t>0,8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783400" y="205416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5,1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783400" y="241128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3,3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7439040" y="205416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2,0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439040" y="241128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0000"/>
                </a:solidFill>
                <a:latin typeface="Arial"/>
              </a:rPr>
              <a:t>1,1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58720" y="2805120"/>
            <a:ext cx="8456760" cy="0"/>
          </a:xfrm>
          <a:prstGeom prst="line">
            <a:avLst/>
          </a:prstGeom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rot="16435200">
            <a:off x="482400" y="5309640"/>
            <a:ext cx="430200" cy="287280"/>
          </a:xfrm>
          <a:custGeom>
            <a:avLst/>
            <a:gdLst/>
            <a:ahLst/>
            <a:rect l="l" t="t" r="r" b="b"/>
            <a:pathLst>
              <a:path w="1214" h="753">
                <a:moveTo>
                  <a:pt x="0" y="285"/>
                </a:moveTo>
                <a:lnTo>
                  <a:pt x="0" y="285"/>
                </a:lnTo>
                <a:lnTo>
                  <a:pt x="99" y="360"/>
                </a:lnTo>
                <a:lnTo>
                  <a:pt x="115" y="352"/>
                </a:lnTo>
                <a:lnTo>
                  <a:pt x="134" y="390"/>
                </a:lnTo>
                <a:lnTo>
                  <a:pt x="196" y="417"/>
                </a:lnTo>
                <a:lnTo>
                  <a:pt x="232" y="461"/>
                </a:lnTo>
                <a:lnTo>
                  <a:pt x="304" y="501"/>
                </a:lnTo>
                <a:lnTo>
                  <a:pt x="362" y="556"/>
                </a:lnTo>
                <a:lnTo>
                  <a:pt x="396" y="565"/>
                </a:lnTo>
                <a:lnTo>
                  <a:pt x="420" y="536"/>
                </a:lnTo>
                <a:lnTo>
                  <a:pt x="432" y="564"/>
                </a:lnTo>
                <a:lnTo>
                  <a:pt x="424" y="597"/>
                </a:lnTo>
                <a:lnTo>
                  <a:pt x="504" y="668"/>
                </a:lnTo>
                <a:lnTo>
                  <a:pt x="553" y="677"/>
                </a:lnTo>
                <a:lnTo>
                  <a:pt x="611" y="728"/>
                </a:lnTo>
                <a:lnTo>
                  <a:pt x="629" y="752"/>
                </a:lnTo>
                <a:lnTo>
                  <a:pt x="662" y="744"/>
                </a:lnTo>
                <a:lnTo>
                  <a:pt x="682" y="715"/>
                </a:lnTo>
                <a:lnTo>
                  <a:pt x="758" y="673"/>
                </a:lnTo>
                <a:lnTo>
                  <a:pt x="826" y="593"/>
                </a:lnTo>
                <a:lnTo>
                  <a:pt x="938" y="501"/>
                </a:lnTo>
                <a:lnTo>
                  <a:pt x="999" y="431"/>
                </a:lnTo>
                <a:lnTo>
                  <a:pt x="1051" y="363"/>
                </a:lnTo>
                <a:lnTo>
                  <a:pt x="1077" y="373"/>
                </a:lnTo>
                <a:lnTo>
                  <a:pt x="1110" y="340"/>
                </a:lnTo>
                <a:lnTo>
                  <a:pt x="1108" y="288"/>
                </a:lnTo>
                <a:lnTo>
                  <a:pt x="1130" y="308"/>
                </a:lnTo>
                <a:lnTo>
                  <a:pt x="1159" y="288"/>
                </a:lnTo>
                <a:lnTo>
                  <a:pt x="1153" y="272"/>
                </a:lnTo>
                <a:lnTo>
                  <a:pt x="1184" y="274"/>
                </a:lnTo>
                <a:lnTo>
                  <a:pt x="1213" y="248"/>
                </a:lnTo>
                <a:lnTo>
                  <a:pt x="1139" y="240"/>
                </a:lnTo>
                <a:lnTo>
                  <a:pt x="1127" y="262"/>
                </a:lnTo>
                <a:lnTo>
                  <a:pt x="1106" y="255"/>
                </a:lnTo>
                <a:lnTo>
                  <a:pt x="1016" y="258"/>
                </a:lnTo>
                <a:lnTo>
                  <a:pt x="992" y="284"/>
                </a:lnTo>
                <a:lnTo>
                  <a:pt x="956" y="267"/>
                </a:lnTo>
                <a:lnTo>
                  <a:pt x="912" y="255"/>
                </a:lnTo>
                <a:lnTo>
                  <a:pt x="880" y="276"/>
                </a:lnTo>
                <a:lnTo>
                  <a:pt x="816" y="308"/>
                </a:lnTo>
                <a:lnTo>
                  <a:pt x="842" y="286"/>
                </a:lnTo>
                <a:lnTo>
                  <a:pt x="911" y="209"/>
                </a:lnTo>
                <a:lnTo>
                  <a:pt x="912" y="176"/>
                </a:lnTo>
                <a:lnTo>
                  <a:pt x="871" y="204"/>
                </a:lnTo>
                <a:lnTo>
                  <a:pt x="851" y="228"/>
                </a:lnTo>
                <a:lnTo>
                  <a:pt x="854" y="196"/>
                </a:lnTo>
                <a:lnTo>
                  <a:pt x="898" y="124"/>
                </a:lnTo>
                <a:lnTo>
                  <a:pt x="897" y="28"/>
                </a:lnTo>
                <a:lnTo>
                  <a:pt x="887" y="0"/>
                </a:lnTo>
                <a:lnTo>
                  <a:pt x="793" y="3"/>
                </a:lnTo>
                <a:lnTo>
                  <a:pt x="737" y="16"/>
                </a:lnTo>
                <a:lnTo>
                  <a:pt x="613" y="10"/>
                </a:lnTo>
                <a:lnTo>
                  <a:pt x="557" y="19"/>
                </a:lnTo>
                <a:lnTo>
                  <a:pt x="450" y="15"/>
                </a:lnTo>
                <a:lnTo>
                  <a:pt x="408" y="24"/>
                </a:lnTo>
                <a:lnTo>
                  <a:pt x="452" y="57"/>
                </a:lnTo>
                <a:lnTo>
                  <a:pt x="436" y="68"/>
                </a:lnTo>
                <a:lnTo>
                  <a:pt x="391" y="41"/>
                </a:lnTo>
                <a:lnTo>
                  <a:pt x="366" y="42"/>
                </a:lnTo>
                <a:lnTo>
                  <a:pt x="347" y="19"/>
                </a:lnTo>
                <a:lnTo>
                  <a:pt x="292" y="24"/>
                </a:lnTo>
                <a:lnTo>
                  <a:pt x="282" y="63"/>
                </a:lnTo>
                <a:lnTo>
                  <a:pt x="297" y="126"/>
                </a:lnTo>
                <a:lnTo>
                  <a:pt x="297" y="226"/>
                </a:lnTo>
                <a:lnTo>
                  <a:pt x="299" y="264"/>
                </a:lnTo>
                <a:lnTo>
                  <a:pt x="262" y="276"/>
                </a:lnTo>
                <a:lnTo>
                  <a:pt x="192" y="264"/>
                </a:lnTo>
                <a:lnTo>
                  <a:pt x="124" y="277"/>
                </a:lnTo>
                <a:lnTo>
                  <a:pt x="72" y="272"/>
                </a:lnTo>
                <a:lnTo>
                  <a:pt x="65" y="297"/>
                </a:lnTo>
                <a:lnTo>
                  <a:pt x="53" y="291"/>
                </a:lnTo>
                <a:lnTo>
                  <a:pt x="39" y="273"/>
                </a:lnTo>
                <a:lnTo>
                  <a:pt x="3" y="271"/>
                </a:lnTo>
                <a:lnTo>
                  <a:pt x="0" y="285"/>
                </a:lnTo>
                <a:lnTo>
                  <a:pt x="0" y="285"/>
                </a:lnTo>
              </a:path>
            </a:pathLst>
          </a:custGeom>
          <a:solidFill>
            <a:srgbClr val="cc330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868320" y="5262480"/>
            <a:ext cx="827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Arial Narrow"/>
              </a:rPr>
              <a:t>A fronte di spese di innovazione sul fatturato simili, l’intensità di ricerca nell’industria chimica italiana è</a:t>
            </a:r>
            <a:br>
              <a:rPr sz="2000"/>
            </a:br>
            <a:r>
              <a:rPr b="1" lang="it-IT" sz="2000" spc="-1" strike="noStrike">
                <a:solidFill>
                  <a:srgbClr val="333399"/>
                </a:solidFill>
                <a:latin typeface="Arial Narrow"/>
              </a:rPr>
              <a:t>- del 30% superiore alla media dell’industria</a:t>
            </a:r>
            <a:br>
              <a:rPr sz="2000"/>
            </a:br>
            <a:r>
              <a:rPr b="1" lang="it-IT" sz="2000" spc="-1" strike="noStrike">
                <a:solidFill>
                  <a:srgbClr val="333399"/>
                </a:solidFill>
                <a:latin typeface="Arial Narrow"/>
              </a:rPr>
              <a:t>- analoga agli altri settori medium-high tech (ma più diffusa in termini di impres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555480" y="2981160"/>
            <a:ext cx="7558200" cy="0"/>
          </a:xfrm>
          <a:prstGeom prst="line">
            <a:avLst/>
          </a:prstGeom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57200" y="206064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Arial"/>
              </a:rPr>
              <a:t>Spesa di R&amp;S sul totale della spesa per innov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55480" y="4137120"/>
            <a:ext cx="7558200" cy="0"/>
          </a:xfrm>
          <a:prstGeom prst="line">
            <a:avLst/>
          </a:prstGeom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23880" y="3030480"/>
            <a:ext cx="1890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R&amp;S intra-mur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23880" y="3732120"/>
            <a:ext cx="150984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Totale R&amp;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979640" y="3030480"/>
            <a:ext cx="1281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59,9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979640" y="3755880"/>
            <a:ext cx="1281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0000"/>
                </a:solidFill>
                <a:latin typeface="Arial"/>
              </a:rPr>
              <a:t>67,2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948360" y="303048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66,9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948360" y="375588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77,8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979640" y="3382920"/>
            <a:ext cx="1281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7,3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948360" y="338292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10,8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23880" y="3382920"/>
            <a:ext cx="1890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R&amp;S extra-mur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715360" y="6324480"/>
            <a:ext cx="34027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333399"/>
                </a:solidFill>
                <a:latin typeface="Arial"/>
              </a:rPr>
              <a:t>Fonte: </a:t>
            </a:r>
            <a:r>
              <a:rPr b="0" lang="it-IT" sz="1400" spc="-1" strike="noStrike">
                <a:solidFill>
                  <a:srgbClr val="333399"/>
                </a:solidFill>
                <a:latin typeface="Arial"/>
              </a:rPr>
              <a:t>Euro</a:t>
            </a:r>
            <a:r>
              <a:rPr b="0" sz="1400" spc="-1" strike="noStrike">
                <a:solidFill>
                  <a:srgbClr val="333399"/>
                </a:solidFill>
                <a:latin typeface="Arial"/>
              </a:rPr>
              <a:t>stat, </a:t>
            </a:r>
            <a:br>
              <a:rPr sz="1400"/>
            </a:br>
            <a:r>
              <a:rPr b="0" sz="1400" spc="-1" strike="noStrike">
                <a:solidFill>
                  <a:srgbClr val="333399"/>
                </a:solidFill>
                <a:latin typeface="Arial"/>
              </a:rPr>
              <a:t>Community Innovation Survey, </a:t>
            </a:r>
            <a:r>
              <a:rPr b="0" lang="it-IT" sz="1400" spc="-1" strike="noStrike">
                <a:solidFill>
                  <a:srgbClr val="333399"/>
                </a:solidFill>
                <a:latin typeface="Arial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14400" y="6546960"/>
            <a:ext cx="5808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333399"/>
                </a:solidFill>
                <a:latin typeface="Arial"/>
              </a:rPr>
              <a:t>UE = Germania, Francia, Italia, Paesi Bassi, Spagna, Belgi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292480" y="2639880"/>
            <a:ext cx="1166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333399"/>
                </a:solidFill>
                <a:latin typeface="Arial"/>
              </a:rPr>
              <a:t>Ital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6804000" y="2639880"/>
            <a:ext cx="1440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333399"/>
                </a:solidFill>
                <a:latin typeface="Arial"/>
              </a:rPr>
              <a:t>Europ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276720" y="2411280"/>
            <a:ext cx="21603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333399"/>
                </a:solidFill>
                <a:latin typeface="Arial"/>
              </a:rPr>
              <a:t>Europa </a:t>
            </a:r>
            <a:br>
              <a:rPr sz="1500"/>
            </a:br>
            <a:r>
              <a:rPr b="1" lang="it-IT" sz="1500" spc="-1" strike="noStrike">
                <a:solidFill>
                  <a:srgbClr val="333399"/>
                </a:solidFill>
                <a:latin typeface="Arial"/>
              </a:rPr>
              <a:t>escl. German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852720" y="303228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67,2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852720" y="375768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0000"/>
                </a:solidFill>
                <a:latin typeface="Arial"/>
              </a:rPr>
              <a:t>80,4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852720" y="338472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13,2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47840" y="6278400"/>
            <a:ext cx="58086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333399"/>
                </a:solidFill>
                <a:latin typeface="Arial"/>
              </a:rPr>
              <a:t>Not</a:t>
            </a:r>
            <a:r>
              <a:rPr b="0" sz="1400" spc="-1" strike="noStrike">
                <a:solidFill>
                  <a:srgbClr val="333399"/>
                </a:solidFill>
                <a:latin typeface="Arial"/>
              </a:rPr>
              <a:t>e: </a:t>
            </a:r>
            <a:r>
              <a:rPr b="0" lang="it-IT" sz="1400" spc="-1" strike="noStrike">
                <a:solidFill>
                  <a:srgbClr val="333399"/>
                </a:solidFill>
                <a:latin typeface="Arial"/>
              </a:rPr>
              <a:t>totale = imprese con più di 10 addett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rot="16435200">
            <a:off x="490320" y="4353840"/>
            <a:ext cx="430200" cy="287280"/>
          </a:xfrm>
          <a:custGeom>
            <a:avLst/>
            <a:gdLst/>
            <a:ahLst/>
            <a:rect l="l" t="t" r="r" b="b"/>
            <a:pathLst>
              <a:path w="1214" h="753">
                <a:moveTo>
                  <a:pt x="0" y="285"/>
                </a:moveTo>
                <a:lnTo>
                  <a:pt x="0" y="285"/>
                </a:lnTo>
                <a:lnTo>
                  <a:pt x="99" y="360"/>
                </a:lnTo>
                <a:lnTo>
                  <a:pt x="115" y="352"/>
                </a:lnTo>
                <a:lnTo>
                  <a:pt x="134" y="390"/>
                </a:lnTo>
                <a:lnTo>
                  <a:pt x="196" y="417"/>
                </a:lnTo>
                <a:lnTo>
                  <a:pt x="232" y="461"/>
                </a:lnTo>
                <a:lnTo>
                  <a:pt x="304" y="501"/>
                </a:lnTo>
                <a:lnTo>
                  <a:pt x="362" y="556"/>
                </a:lnTo>
                <a:lnTo>
                  <a:pt x="396" y="565"/>
                </a:lnTo>
                <a:lnTo>
                  <a:pt x="420" y="536"/>
                </a:lnTo>
                <a:lnTo>
                  <a:pt x="432" y="564"/>
                </a:lnTo>
                <a:lnTo>
                  <a:pt x="424" y="597"/>
                </a:lnTo>
                <a:lnTo>
                  <a:pt x="504" y="668"/>
                </a:lnTo>
                <a:lnTo>
                  <a:pt x="553" y="677"/>
                </a:lnTo>
                <a:lnTo>
                  <a:pt x="611" y="728"/>
                </a:lnTo>
                <a:lnTo>
                  <a:pt x="629" y="752"/>
                </a:lnTo>
                <a:lnTo>
                  <a:pt x="662" y="744"/>
                </a:lnTo>
                <a:lnTo>
                  <a:pt x="682" y="715"/>
                </a:lnTo>
                <a:lnTo>
                  <a:pt x="758" y="673"/>
                </a:lnTo>
                <a:lnTo>
                  <a:pt x="826" y="593"/>
                </a:lnTo>
                <a:lnTo>
                  <a:pt x="938" y="501"/>
                </a:lnTo>
                <a:lnTo>
                  <a:pt x="999" y="431"/>
                </a:lnTo>
                <a:lnTo>
                  <a:pt x="1051" y="363"/>
                </a:lnTo>
                <a:lnTo>
                  <a:pt x="1077" y="373"/>
                </a:lnTo>
                <a:lnTo>
                  <a:pt x="1110" y="340"/>
                </a:lnTo>
                <a:lnTo>
                  <a:pt x="1108" y="288"/>
                </a:lnTo>
                <a:lnTo>
                  <a:pt x="1130" y="308"/>
                </a:lnTo>
                <a:lnTo>
                  <a:pt x="1159" y="288"/>
                </a:lnTo>
                <a:lnTo>
                  <a:pt x="1153" y="272"/>
                </a:lnTo>
                <a:lnTo>
                  <a:pt x="1184" y="274"/>
                </a:lnTo>
                <a:lnTo>
                  <a:pt x="1213" y="248"/>
                </a:lnTo>
                <a:lnTo>
                  <a:pt x="1139" y="240"/>
                </a:lnTo>
                <a:lnTo>
                  <a:pt x="1127" y="262"/>
                </a:lnTo>
                <a:lnTo>
                  <a:pt x="1106" y="255"/>
                </a:lnTo>
                <a:lnTo>
                  <a:pt x="1016" y="258"/>
                </a:lnTo>
                <a:lnTo>
                  <a:pt x="992" y="284"/>
                </a:lnTo>
                <a:lnTo>
                  <a:pt x="956" y="267"/>
                </a:lnTo>
                <a:lnTo>
                  <a:pt x="912" y="255"/>
                </a:lnTo>
                <a:lnTo>
                  <a:pt x="880" y="276"/>
                </a:lnTo>
                <a:lnTo>
                  <a:pt x="816" y="308"/>
                </a:lnTo>
                <a:lnTo>
                  <a:pt x="842" y="286"/>
                </a:lnTo>
                <a:lnTo>
                  <a:pt x="911" y="209"/>
                </a:lnTo>
                <a:lnTo>
                  <a:pt x="912" y="176"/>
                </a:lnTo>
                <a:lnTo>
                  <a:pt x="871" y="204"/>
                </a:lnTo>
                <a:lnTo>
                  <a:pt x="851" y="228"/>
                </a:lnTo>
                <a:lnTo>
                  <a:pt x="854" y="196"/>
                </a:lnTo>
                <a:lnTo>
                  <a:pt x="898" y="124"/>
                </a:lnTo>
                <a:lnTo>
                  <a:pt x="897" y="28"/>
                </a:lnTo>
                <a:lnTo>
                  <a:pt x="887" y="0"/>
                </a:lnTo>
                <a:lnTo>
                  <a:pt x="793" y="3"/>
                </a:lnTo>
                <a:lnTo>
                  <a:pt x="737" y="16"/>
                </a:lnTo>
                <a:lnTo>
                  <a:pt x="613" y="10"/>
                </a:lnTo>
                <a:lnTo>
                  <a:pt x="557" y="19"/>
                </a:lnTo>
                <a:lnTo>
                  <a:pt x="450" y="15"/>
                </a:lnTo>
                <a:lnTo>
                  <a:pt x="408" y="24"/>
                </a:lnTo>
                <a:lnTo>
                  <a:pt x="452" y="57"/>
                </a:lnTo>
                <a:lnTo>
                  <a:pt x="436" y="68"/>
                </a:lnTo>
                <a:lnTo>
                  <a:pt x="391" y="41"/>
                </a:lnTo>
                <a:lnTo>
                  <a:pt x="366" y="42"/>
                </a:lnTo>
                <a:lnTo>
                  <a:pt x="347" y="19"/>
                </a:lnTo>
                <a:lnTo>
                  <a:pt x="292" y="24"/>
                </a:lnTo>
                <a:lnTo>
                  <a:pt x="282" y="63"/>
                </a:lnTo>
                <a:lnTo>
                  <a:pt x="297" y="126"/>
                </a:lnTo>
                <a:lnTo>
                  <a:pt x="297" y="226"/>
                </a:lnTo>
                <a:lnTo>
                  <a:pt x="299" y="264"/>
                </a:lnTo>
                <a:lnTo>
                  <a:pt x="262" y="276"/>
                </a:lnTo>
                <a:lnTo>
                  <a:pt x="192" y="264"/>
                </a:lnTo>
                <a:lnTo>
                  <a:pt x="124" y="277"/>
                </a:lnTo>
                <a:lnTo>
                  <a:pt x="72" y="272"/>
                </a:lnTo>
                <a:lnTo>
                  <a:pt x="65" y="297"/>
                </a:lnTo>
                <a:lnTo>
                  <a:pt x="53" y="291"/>
                </a:lnTo>
                <a:lnTo>
                  <a:pt x="39" y="273"/>
                </a:lnTo>
                <a:lnTo>
                  <a:pt x="3" y="271"/>
                </a:lnTo>
                <a:lnTo>
                  <a:pt x="0" y="285"/>
                </a:lnTo>
                <a:lnTo>
                  <a:pt x="0" y="285"/>
                </a:lnTo>
              </a:path>
            </a:pathLst>
          </a:custGeom>
          <a:solidFill>
            <a:srgbClr val="cc330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876240" y="4312800"/>
            <a:ext cx="826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Arial Narrow"/>
              </a:rPr>
              <a:t>Se si considera l’intensità di innovazione e ricerca (spesa) invece della diffusione (imprese), il divario della chimica italiana rispetto alla media europea </a:t>
            </a:r>
            <a:br>
              <a:rPr sz="2000"/>
            </a:br>
            <a:r>
              <a:rPr b="1" lang="it-IT" sz="2000" spc="-1" strike="noStrike">
                <a:solidFill>
                  <a:srgbClr val="333399"/>
                </a:solidFill>
                <a:latin typeface="Arial Narrow"/>
              </a:rPr>
              <a:t>risulta più ampio, anche se meno drammatico rispetto ad altre fo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rot="16435200">
            <a:off x="490320" y="5351040"/>
            <a:ext cx="430200" cy="287280"/>
          </a:xfrm>
          <a:custGeom>
            <a:avLst/>
            <a:gdLst/>
            <a:ahLst/>
            <a:rect l="l" t="t" r="r" b="b"/>
            <a:pathLst>
              <a:path w="1214" h="753">
                <a:moveTo>
                  <a:pt x="0" y="285"/>
                </a:moveTo>
                <a:lnTo>
                  <a:pt x="0" y="285"/>
                </a:lnTo>
                <a:lnTo>
                  <a:pt x="99" y="360"/>
                </a:lnTo>
                <a:lnTo>
                  <a:pt x="115" y="352"/>
                </a:lnTo>
                <a:lnTo>
                  <a:pt x="134" y="390"/>
                </a:lnTo>
                <a:lnTo>
                  <a:pt x="196" y="417"/>
                </a:lnTo>
                <a:lnTo>
                  <a:pt x="232" y="461"/>
                </a:lnTo>
                <a:lnTo>
                  <a:pt x="304" y="501"/>
                </a:lnTo>
                <a:lnTo>
                  <a:pt x="362" y="556"/>
                </a:lnTo>
                <a:lnTo>
                  <a:pt x="396" y="565"/>
                </a:lnTo>
                <a:lnTo>
                  <a:pt x="420" y="536"/>
                </a:lnTo>
                <a:lnTo>
                  <a:pt x="432" y="564"/>
                </a:lnTo>
                <a:lnTo>
                  <a:pt x="424" y="597"/>
                </a:lnTo>
                <a:lnTo>
                  <a:pt x="504" y="668"/>
                </a:lnTo>
                <a:lnTo>
                  <a:pt x="553" y="677"/>
                </a:lnTo>
                <a:lnTo>
                  <a:pt x="611" y="728"/>
                </a:lnTo>
                <a:lnTo>
                  <a:pt x="629" y="752"/>
                </a:lnTo>
                <a:lnTo>
                  <a:pt x="662" y="744"/>
                </a:lnTo>
                <a:lnTo>
                  <a:pt x="682" y="715"/>
                </a:lnTo>
                <a:lnTo>
                  <a:pt x="758" y="673"/>
                </a:lnTo>
                <a:lnTo>
                  <a:pt x="826" y="593"/>
                </a:lnTo>
                <a:lnTo>
                  <a:pt x="938" y="501"/>
                </a:lnTo>
                <a:lnTo>
                  <a:pt x="999" y="431"/>
                </a:lnTo>
                <a:lnTo>
                  <a:pt x="1051" y="363"/>
                </a:lnTo>
                <a:lnTo>
                  <a:pt x="1077" y="373"/>
                </a:lnTo>
                <a:lnTo>
                  <a:pt x="1110" y="340"/>
                </a:lnTo>
                <a:lnTo>
                  <a:pt x="1108" y="288"/>
                </a:lnTo>
                <a:lnTo>
                  <a:pt x="1130" y="308"/>
                </a:lnTo>
                <a:lnTo>
                  <a:pt x="1159" y="288"/>
                </a:lnTo>
                <a:lnTo>
                  <a:pt x="1153" y="272"/>
                </a:lnTo>
                <a:lnTo>
                  <a:pt x="1184" y="274"/>
                </a:lnTo>
                <a:lnTo>
                  <a:pt x="1213" y="248"/>
                </a:lnTo>
                <a:lnTo>
                  <a:pt x="1139" y="240"/>
                </a:lnTo>
                <a:lnTo>
                  <a:pt x="1127" y="262"/>
                </a:lnTo>
                <a:lnTo>
                  <a:pt x="1106" y="255"/>
                </a:lnTo>
                <a:lnTo>
                  <a:pt x="1016" y="258"/>
                </a:lnTo>
                <a:lnTo>
                  <a:pt x="992" y="284"/>
                </a:lnTo>
                <a:lnTo>
                  <a:pt x="956" y="267"/>
                </a:lnTo>
                <a:lnTo>
                  <a:pt x="912" y="255"/>
                </a:lnTo>
                <a:lnTo>
                  <a:pt x="880" y="276"/>
                </a:lnTo>
                <a:lnTo>
                  <a:pt x="816" y="308"/>
                </a:lnTo>
                <a:lnTo>
                  <a:pt x="842" y="286"/>
                </a:lnTo>
                <a:lnTo>
                  <a:pt x="911" y="209"/>
                </a:lnTo>
                <a:lnTo>
                  <a:pt x="912" y="176"/>
                </a:lnTo>
                <a:lnTo>
                  <a:pt x="871" y="204"/>
                </a:lnTo>
                <a:lnTo>
                  <a:pt x="851" y="228"/>
                </a:lnTo>
                <a:lnTo>
                  <a:pt x="854" y="196"/>
                </a:lnTo>
                <a:lnTo>
                  <a:pt x="898" y="124"/>
                </a:lnTo>
                <a:lnTo>
                  <a:pt x="897" y="28"/>
                </a:lnTo>
                <a:lnTo>
                  <a:pt x="887" y="0"/>
                </a:lnTo>
                <a:lnTo>
                  <a:pt x="793" y="3"/>
                </a:lnTo>
                <a:lnTo>
                  <a:pt x="737" y="16"/>
                </a:lnTo>
                <a:lnTo>
                  <a:pt x="613" y="10"/>
                </a:lnTo>
                <a:lnTo>
                  <a:pt x="557" y="19"/>
                </a:lnTo>
                <a:lnTo>
                  <a:pt x="450" y="15"/>
                </a:lnTo>
                <a:lnTo>
                  <a:pt x="408" y="24"/>
                </a:lnTo>
                <a:lnTo>
                  <a:pt x="452" y="57"/>
                </a:lnTo>
                <a:lnTo>
                  <a:pt x="436" y="68"/>
                </a:lnTo>
                <a:lnTo>
                  <a:pt x="391" y="41"/>
                </a:lnTo>
                <a:lnTo>
                  <a:pt x="366" y="42"/>
                </a:lnTo>
                <a:lnTo>
                  <a:pt x="347" y="19"/>
                </a:lnTo>
                <a:lnTo>
                  <a:pt x="292" y="24"/>
                </a:lnTo>
                <a:lnTo>
                  <a:pt x="282" y="63"/>
                </a:lnTo>
                <a:lnTo>
                  <a:pt x="297" y="126"/>
                </a:lnTo>
                <a:lnTo>
                  <a:pt x="297" y="226"/>
                </a:lnTo>
                <a:lnTo>
                  <a:pt x="299" y="264"/>
                </a:lnTo>
                <a:lnTo>
                  <a:pt x="262" y="276"/>
                </a:lnTo>
                <a:lnTo>
                  <a:pt x="192" y="264"/>
                </a:lnTo>
                <a:lnTo>
                  <a:pt x="124" y="277"/>
                </a:lnTo>
                <a:lnTo>
                  <a:pt x="72" y="272"/>
                </a:lnTo>
                <a:lnTo>
                  <a:pt x="65" y="297"/>
                </a:lnTo>
                <a:lnTo>
                  <a:pt x="53" y="291"/>
                </a:lnTo>
                <a:lnTo>
                  <a:pt x="39" y="273"/>
                </a:lnTo>
                <a:lnTo>
                  <a:pt x="3" y="271"/>
                </a:lnTo>
                <a:lnTo>
                  <a:pt x="0" y="285"/>
                </a:lnTo>
                <a:lnTo>
                  <a:pt x="0" y="285"/>
                </a:lnTo>
              </a:path>
            </a:pathLst>
          </a:custGeom>
          <a:solidFill>
            <a:srgbClr val="cc330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876240" y="5320800"/>
            <a:ext cx="794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Arial Narrow"/>
              </a:rPr>
              <a:t>In Italia le imprese chimiche fanno innovazione in modo più informale</a:t>
            </a:r>
            <a:br>
              <a:rPr sz="2000"/>
            </a:br>
            <a:r>
              <a:rPr b="1" lang="it-IT" sz="2000" spc="-1" strike="noStrike">
                <a:solidFill>
                  <a:srgbClr val="333399"/>
                </a:solidFill>
                <a:latin typeface="Arial Narrow"/>
              </a:rPr>
              <a:t>e meno strutturato (meno innovazione basata sulla ricerca, spese di ricerca </a:t>
            </a:r>
            <a:br>
              <a:rPr sz="2000"/>
            </a:br>
            <a:r>
              <a:rPr b="1" lang="it-IT" sz="2000" spc="-1" strike="noStrike">
                <a:solidFill>
                  <a:srgbClr val="333399"/>
                </a:solidFill>
                <a:latin typeface="Arial Narrow"/>
              </a:rPr>
              <a:t>e innovazione meno identificate come specifiche voci di bilancio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467320" y="2662200"/>
            <a:ext cx="133812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333399"/>
                </a:solidFill>
                <a:latin typeface="Arial"/>
              </a:rPr>
              <a:t>German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611680" y="302580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99"/>
                </a:solidFill>
                <a:latin typeface="Arial"/>
              </a:rPr>
              <a:t>66,7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5611680" y="375120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99"/>
                </a:solidFill>
                <a:latin typeface="Arial"/>
              </a:rPr>
              <a:t>74,9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611680" y="337824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99"/>
                </a:solidFill>
                <a:latin typeface="Arial"/>
              </a:rPr>
              <a:t>8,2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555480" y="1251000"/>
            <a:ext cx="8277480" cy="0"/>
          </a:xfrm>
          <a:prstGeom prst="line">
            <a:avLst/>
          </a:prstGeom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57200" y="15840"/>
            <a:ext cx="8686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Arial"/>
              </a:rPr>
              <a:t>Intensità di innovazione e ricerca </a:t>
            </a:r>
            <a:br>
              <a:rPr sz="2400"/>
            </a:br>
            <a:r>
              <a:rPr b="1" lang="it-IT" sz="2400" spc="-1" strike="noStrike">
                <a:solidFill>
                  <a:srgbClr val="333399"/>
                </a:solidFill>
                <a:latin typeface="Arial"/>
              </a:rPr>
              <a:t>nell’industria chimica europea </a:t>
            </a: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(spese in % del fatturato settoria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55480" y="2022480"/>
            <a:ext cx="8277480" cy="0"/>
          </a:xfrm>
          <a:prstGeom prst="line">
            <a:avLst/>
          </a:prstGeom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23880" y="1293840"/>
            <a:ext cx="265284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spese di innovazion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198960" y="1293840"/>
            <a:ext cx="796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0000"/>
                </a:solidFill>
                <a:latin typeface="Arial"/>
              </a:rPr>
              <a:t>1,8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604280" y="129384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2,6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198960" y="1650960"/>
            <a:ext cx="796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0000"/>
                </a:solidFill>
                <a:latin typeface="Arial"/>
              </a:rPr>
              <a:t>1,1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604280" y="165096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1,8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23880" y="1650960"/>
            <a:ext cx="295272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spese di R&amp;S intra-mur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276720" y="919080"/>
            <a:ext cx="761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333399"/>
                </a:solidFill>
                <a:latin typeface="Arial"/>
              </a:rPr>
              <a:t>Ital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527960" y="919080"/>
            <a:ext cx="1440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333399"/>
                </a:solidFill>
                <a:latin typeface="Arial"/>
              </a:rPr>
              <a:t>Europ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356000" y="735120"/>
            <a:ext cx="158760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333399"/>
                </a:solidFill>
                <a:latin typeface="Arial"/>
              </a:rPr>
              <a:t>Europa </a:t>
            </a:r>
            <a:br>
              <a:rPr sz="1500"/>
            </a:br>
            <a:r>
              <a:rPr b="1" lang="it-IT" sz="1500" spc="-1" strike="noStrike">
                <a:solidFill>
                  <a:srgbClr val="333399"/>
                </a:solidFill>
                <a:latin typeface="Arial"/>
              </a:rPr>
              <a:t>escl. German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503600" y="129384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0000"/>
                </a:solidFill>
                <a:latin typeface="Arial"/>
              </a:rPr>
              <a:t>2,1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503600" y="165096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0000"/>
                </a:solidFill>
                <a:latin typeface="Arial"/>
              </a:rPr>
              <a:t>1,4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264360" y="129384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99"/>
                </a:solidFill>
                <a:latin typeface="Arial"/>
              </a:rPr>
              <a:t>3,5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264360" y="165096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99"/>
                </a:solidFill>
                <a:latin typeface="Arial"/>
              </a:rPr>
              <a:t>2,3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130800" y="941400"/>
            <a:ext cx="133848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333399"/>
                </a:solidFill>
                <a:latin typeface="Arial"/>
              </a:rPr>
              <a:t>German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468360" y="19080"/>
            <a:ext cx="8001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Arial"/>
              </a:rPr>
              <a:t>Imprese con collaborazioni per l’innovazione </a:t>
            </a:r>
            <a:br>
              <a:rPr sz="2400"/>
            </a:br>
            <a:r>
              <a:rPr b="1" lang="it-IT" sz="2400" spc="-1" strike="noStrike">
                <a:solidFill>
                  <a:srgbClr val="333399"/>
                </a:solidFill>
                <a:latin typeface="Arial"/>
              </a:rPr>
              <a:t>in Italia </a:t>
            </a: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(% imprese)</a:t>
            </a:r>
            <a:r>
              <a:rPr b="1" lang="it-IT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621240" y="533520"/>
            <a:ext cx="1166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333399"/>
                </a:solidFill>
                <a:latin typeface="Arial"/>
              </a:rPr>
              <a:t>chimic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567320" y="533520"/>
            <a:ext cx="1439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333399"/>
                </a:solidFill>
                <a:latin typeface="Arial"/>
              </a:rPr>
              <a:t>industr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093360" y="6362640"/>
            <a:ext cx="3059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333399"/>
                </a:solidFill>
                <a:latin typeface="Arial"/>
              </a:rPr>
              <a:t>Fonte: </a:t>
            </a:r>
            <a:r>
              <a:rPr b="0" lang="it-IT" sz="1400" spc="-1" strike="noStrike">
                <a:solidFill>
                  <a:srgbClr val="333399"/>
                </a:solidFill>
                <a:latin typeface="Arial"/>
              </a:rPr>
              <a:t>Euro</a:t>
            </a:r>
            <a:r>
              <a:rPr b="0" sz="1400" spc="-1" strike="noStrike">
                <a:solidFill>
                  <a:srgbClr val="333399"/>
                </a:solidFill>
                <a:latin typeface="Arial"/>
              </a:rPr>
              <a:t>stat, </a:t>
            </a:r>
            <a:br>
              <a:rPr sz="1400"/>
            </a:br>
            <a:r>
              <a:rPr b="0" sz="1400" spc="-1" strike="noStrike">
                <a:solidFill>
                  <a:srgbClr val="333399"/>
                </a:solidFill>
                <a:latin typeface="Arial"/>
              </a:rPr>
              <a:t>Community Innovation Survey, </a:t>
            </a:r>
            <a:r>
              <a:rPr b="0" lang="it-IT" sz="1400" spc="-1" strike="noStrike">
                <a:solidFill>
                  <a:srgbClr val="333399"/>
                </a:solidFill>
                <a:latin typeface="Arial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90680" y="858960"/>
            <a:ext cx="8456400" cy="0"/>
          </a:xfrm>
          <a:prstGeom prst="line">
            <a:avLst/>
          </a:prstGeom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58720" y="917640"/>
            <a:ext cx="2957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Ogni tipo di collaborazion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63400" y="1959120"/>
            <a:ext cx="3181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- di cui altre imprese del Grupp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646520" y="91764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0000"/>
                </a:solidFill>
                <a:latin typeface="Arial"/>
              </a:rPr>
              <a:t>6,0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646520" y="195912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20,4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63400" y="2273400"/>
            <a:ext cx="3181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- di cui fornitor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646520" y="227340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51,9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63400" y="2585880"/>
            <a:ext cx="3181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- di cui client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4646520" y="258588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31,0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563400" y="2898720"/>
            <a:ext cx="2713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- di cui imprese del setto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646520" y="289872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24,2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63400" y="3213000"/>
            <a:ext cx="3181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- di cui istituti privati di ricerc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646520" y="321300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46,0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60520" y="3525840"/>
            <a:ext cx="3181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- di cui università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643280" y="352584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35,2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73120" y="3838680"/>
            <a:ext cx="3181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- di cui istituti pubblici di ricerc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656240" y="383868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7,7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87440" y="1924200"/>
            <a:ext cx="8456400" cy="0"/>
          </a:xfrm>
          <a:prstGeom prst="line">
            <a:avLst/>
          </a:prstGeom>
          <a:ln w="2232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73120" y="1309680"/>
            <a:ext cx="31719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- di cui con partner esteri europe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656240" y="130968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25,5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73120" y="1577880"/>
            <a:ext cx="3324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- di cui con partner indiani / cinesi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656240" y="157788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5,1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87440" y="4187880"/>
            <a:ext cx="8456400" cy="0"/>
          </a:xfrm>
          <a:prstGeom prst="line">
            <a:avLst/>
          </a:prstGeom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87440" y="1285920"/>
            <a:ext cx="8456400" cy="0"/>
          </a:xfrm>
          <a:prstGeom prst="line">
            <a:avLst/>
          </a:prstGeom>
          <a:ln w="2232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567240" y="917640"/>
            <a:ext cx="900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0000"/>
                </a:solidFill>
                <a:latin typeface="Arial"/>
              </a:rPr>
              <a:t>15,7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567240" y="1959120"/>
            <a:ext cx="900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23,6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568680" y="2273400"/>
            <a:ext cx="900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7,6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570120" y="2585880"/>
            <a:ext cx="900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31,5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573360" y="2898720"/>
            <a:ext cx="900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35,5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75160" y="3213000"/>
            <a:ext cx="900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36,2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564000" y="3525840"/>
            <a:ext cx="900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0000"/>
                </a:solidFill>
                <a:latin typeface="Arial"/>
              </a:rPr>
              <a:t>28,6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76600" y="3838680"/>
            <a:ext cx="900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0000"/>
                </a:solidFill>
                <a:latin typeface="Arial"/>
              </a:rPr>
              <a:t>7,2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576600" y="1577880"/>
            <a:ext cx="900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5,1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3576600" y="1309680"/>
            <a:ext cx="900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41,7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19040" y="6564240"/>
            <a:ext cx="37926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333399"/>
                </a:solidFill>
                <a:latin typeface="Arial"/>
              </a:rPr>
              <a:t>Not</a:t>
            </a:r>
            <a:r>
              <a:rPr b="0" sz="1400" spc="-1" strike="noStrike">
                <a:solidFill>
                  <a:srgbClr val="333399"/>
                </a:solidFill>
                <a:latin typeface="Arial"/>
              </a:rPr>
              <a:t>e: </a:t>
            </a:r>
            <a:r>
              <a:rPr b="0" lang="it-IT" sz="1400" spc="-1" strike="noStrike">
                <a:solidFill>
                  <a:srgbClr val="333399"/>
                </a:solidFill>
                <a:latin typeface="Arial"/>
              </a:rPr>
              <a:t>totale = imprese con più di 10 addett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012000" y="533520"/>
            <a:ext cx="1287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333399"/>
                </a:solidFill>
                <a:latin typeface="Arial"/>
              </a:rPr>
              <a:t>high tec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934240" y="91440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26,3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5934240" y="195912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21,0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934240" y="227340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38,1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934240" y="258588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30,1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934240" y="289872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15,9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931000" y="321300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70,8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943600" y="352584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63,2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5943600" y="133524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43,6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943600" y="157464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4,4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454880" y="90504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7,8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7454880" y="195912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28,2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7454880" y="227340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49,5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454880" y="258588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32,8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454880" y="289872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19,9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454880" y="321300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42,0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7451640" y="352584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46,2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464600" y="3838680"/>
            <a:ext cx="9759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5,5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464600" y="1325520"/>
            <a:ext cx="9759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36,7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464600" y="1565280"/>
            <a:ext cx="9759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7,7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5950080" y="383868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15,4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rot="16435200">
            <a:off x="415800" y="5055840"/>
            <a:ext cx="430200" cy="287280"/>
          </a:xfrm>
          <a:custGeom>
            <a:avLst/>
            <a:gdLst/>
            <a:ahLst/>
            <a:rect l="l" t="t" r="r" b="b"/>
            <a:pathLst>
              <a:path w="1214" h="753">
                <a:moveTo>
                  <a:pt x="0" y="285"/>
                </a:moveTo>
                <a:lnTo>
                  <a:pt x="0" y="285"/>
                </a:lnTo>
                <a:lnTo>
                  <a:pt x="99" y="360"/>
                </a:lnTo>
                <a:lnTo>
                  <a:pt x="115" y="352"/>
                </a:lnTo>
                <a:lnTo>
                  <a:pt x="134" y="390"/>
                </a:lnTo>
                <a:lnTo>
                  <a:pt x="196" y="417"/>
                </a:lnTo>
                <a:lnTo>
                  <a:pt x="232" y="461"/>
                </a:lnTo>
                <a:lnTo>
                  <a:pt x="304" y="501"/>
                </a:lnTo>
                <a:lnTo>
                  <a:pt x="362" y="556"/>
                </a:lnTo>
                <a:lnTo>
                  <a:pt x="396" y="565"/>
                </a:lnTo>
                <a:lnTo>
                  <a:pt x="420" y="536"/>
                </a:lnTo>
                <a:lnTo>
                  <a:pt x="432" y="564"/>
                </a:lnTo>
                <a:lnTo>
                  <a:pt x="424" y="597"/>
                </a:lnTo>
                <a:lnTo>
                  <a:pt x="504" y="668"/>
                </a:lnTo>
                <a:lnTo>
                  <a:pt x="553" y="677"/>
                </a:lnTo>
                <a:lnTo>
                  <a:pt x="611" y="728"/>
                </a:lnTo>
                <a:lnTo>
                  <a:pt x="629" y="752"/>
                </a:lnTo>
                <a:lnTo>
                  <a:pt x="662" y="744"/>
                </a:lnTo>
                <a:lnTo>
                  <a:pt x="682" y="715"/>
                </a:lnTo>
                <a:lnTo>
                  <a:pt x="758" y="673"/>
                </a:lnTo>
                <a:lnTo>
                  <a:pt x="826" y="593"/>
                </a:lnTo>
                <a:lnTo>
                  <a:pt x="938" y="501"/>
                </a:lnTo>
                <a:lnTo>
                  <a:pt x="999" y="431"/>
                </a:lnTo>
                <a:lnTo>
                  <a:pt x="1051" y="363"/>
                </a:lnTo>
                <a:lnTo>
                  <a:pt x="1077" y="373"/>
                </a:lnTo>
                <a:lnTo>
                  <a:pt x="1110" y="340"/>
                </a:lnTo>
                <a:lnTo>
                  <a:pt x="1108" y="288"/>
                </a:lnTo>
                <a:lnTo>
                  <a:pt x="1130" y="308"/>
                </a:lnTo>
                <a:lnTo>
                  <a:pt x="1159" y="288"/>
                </a:lnTo>
                <a:lnTo>
                  <a:pt x="1153" y="272"/>
                </a:lnTo>
                <a:lnTo>
                  <a:pt x="1184" y="274"/>
                </a:lnTo>
                <a:lnTo>
                  <a:pt x="1213" y="248"/>
                </a:lnTo>
                <a:lnTo>
                  <a:pt x="1139" y="240"/>
                </a:lnTo>
                <a:lnTo>
                  <a:pt x="1127" y="262"/>
                </a:lnTo>
                <a:lnTo>
                  <a:pt x="1106" y="255"/>
                </a:lnTo>
                <a:lnTo>
                  <a:pt x="1016" y="258"/>
                </a:lnTo>
                <a:lnTo>
                  <a:pt x="992" y="284"/>
                </a:lnTo>
                <a:lnTo>
                  <a:pt x="956" y="267"/>
                </a:lnTo>
                <a:lnTo>
                  <a:pt x="912" y="255"/>
                </a:lnTo>
                <a:lnTo>
                  <a:pt x="880" y="276"/>
                </a:lnTo>
                <a:lnTo>
                  <a:pt x="816" y="308"/>
                </a:lnTo>
                <a:lnTo>
                  <a:pt x="842" y="286"/>
                </a:lnTo>
                <a:lnTo>
                  <a:pt x="911" y="209"/>
                </a:lnTo>
                <a:lnTo>
                  <a:pt x="912" y="176"/>
                </a:lnTo>
                <a:lnTo>
                  <a:pt x="871" y="204"/>
                </a:lnTo>
                <a:lnTo>
                  <a:pt x="851" y="228"/>
                </a:lnTo>
                <a:lnTo>
                  <a:pt x="854" y="196"/>
                </a:lnTo>
                <a:lnTo>
                  <a:pt x="898" y="124"/>
                </a:lnTo>
                <a:lnTo>
                  <a:pt x="897" y="28"/>
                </a:lnTo>
                <a:lnTo>
                  <a:pt x="887" y="0"/>
                </a:lnTo>
                <a:lnTo>
                  <a:pt x="793" y="3"/>
                </a:lnTo>
                <a:lnTo>
                  <a:pt x="737" y="16"/>
                </a:lnTo>
                <a:lnTo>
                  <a:pt x="613" y="10"/>
                </a:lnTo>
                <a:lnTo>
                  <a:pt x="557" y="19"/>
                </a:lnTo>
                <a:lnTo>
                  <a:pt x="450" y="15"/>
                </a:lnTo>
                <a:lnTo>
                  <a:pt x="408" y="24"/>
                </a:lnTo>
                <a:lnTo>
                  <a:pt x="452" y="57"/>
                </a:lnTo>
                <a:lnTo>
                  <a:pt x="436" y="68"/>
                </a:lnTo>
                <a:lnTo>
                  <a:pt x="391" y="41"/>
                </a:lnTo>
                <a:lnTo>
                  <a:pt x="366" y="42"/>
                </a:lnTo>
                <a:lnTo>
                  <a:pt x="347" y="19"/>
                </a:lnTo>
                <a:lnTo>
                  <a:pt x="292" y="24"/>
                </a:lnTo>
                <a:lnTo>
                  <a:pt x="282" y="63"/>
                </a:lnTo>
                <a:lnTo>
                  <a:pt x="297" y="126"/>
                </a:lnTo>
                <a:lnTo>
                  <a:pt x="297" y="226"/>
                </a:lnTo>
                <a:lnTo>
                  <a:pt x="299" y="264"/>
                </a:lnTo>
                <a:lnTo>
                  <a:pt x="262" y="276"/>
                </a:lnTo>
                <a:lnTo>
                  <a:pt x="192" y="264"/>
                </a:lnTo>
                <a:lnTo>
                  <a:pt x="124" y="277"/>
                </a:lnTo>
                <a:lnTo>
                  <a:pt x="72" y="272"/>
                </a:lnTo>
                <a:lnTo>
                  <a:pt x="65" y="297"/>
                </a:lnTo>
                <a:lnTo>
                  <a:pt x="53" y="291"/>
                </a:lnTo>
                <a:lnTo>
                  <a:pt x="39" y="273"/>
                </a:lnTo>
                <a:lnTo>
                  <a:pt x="3" y="271"/>
                </a:lnTo>
                <a:lnTo>
                  <a:pt x="0" y="285"/>
                </a:lnTo>
                <a:lnTo>
                  <a:pt x="0" y="285"/>
                </a:lnTo>
              </a:path>
            </a:pathLst>
          </a:custGeom>
          <a:solidFill>
            <a:srgbClr val="cc330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817560" y="5054760"/>
            <a:ext cx="8326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Arial Narrow"/>
              </a:rPr>
              <a:t>Rispetto agli altri comparti considerati, è (paradossalmente) più contenuto </a:t>
            </a:r>
            <a:br>
              <a:rPr sz="2000"/>
            </a:br>
            <a:r>
              <a:rPr b="1" lang="it-IT" sz="2000" spc="-1" strike="noStrike">
                <a:solidFill>
                  <a:srgbClr val="333399"/>
                </a:solidFill>
                <a:latin typeface="Arial Narrow"/>
              </a:rPr>
              <a:t>il peso relativo dell’università</a:t>
            </a:r>
            <a:br>
              <a:rPr sz="2000"/>
            </a:br>
            <a:r>
              <a:rPr b="1" lang="it-IT" sz="2000" spc="-1" strike="noStrike">
                <a:solidFill>
                  <a:srgbClr val="333399"/>
                </a:solidFill>
                <a:latin typeface="Arial Narrow"/>
              </a:rPr>
              <a:t>- nella chimica i progetti di ricerca non sono spesso tali da obbligare le imprese </a:t>
            </a:r>
            <a:br>
              <a:rPr sz="2000"/>
            </a:br>
            <a:r>
              <a:rPr b="1" lang="it-IT" sz="2000" spc="-1" strike="noStrike">
                <a:solidFill>
                  <a:srgbClr val="333399"/>
                </a:solidFill>
                <a:latin typeface="Arial Narrow"/>
              </a:rPr>
              <a:t>  a collaborare con la ricerca pubblica</a:t>
            </a:r>
            <a:br>
              <a:rPr sz="2000"/>
            </a:br>
            <a:r>
              <a:rPr b="1" lang="it-IT" sz="2000" spc="-1" strike="noStrike">
                <a:solidFill>
                  <a:srgbClr val="333399"/>
                </a:solidFill>
                <a:latin typeface="Arial Narrow"/>
              </a:rPr>
              <a:t>- ci sono difficoltà di dialogo con la ricerca pubbl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7085160" y="333360"/>
            <a:ext cx="197964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333399"/>
                </a:solidFill>
                <a:latin typeface="Arial"/>
              </a:rPr>
              <a:t>altri </a:t>
            </a:r>
            <a:br>
              <a:rPr sz="1500"/>
            </a:br>
            <a:r>
              <a:rPr b="1" lang="it-IT" sz="1500" spc="-1" strike="noStrike">
                <a:solidFill>
                  <a:srgbClr val="333399"/>
                </a:solidFill>
                <a:latin typeface="Arial"/>
              </a:rPr>
              <a:t>medium-high tec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rot="16435200">
            <a:off x="415800" y="4363560"/>
            <a:ext cx="430200" cy="287280"/>
          </a:xfrm>
          <a:custGeom>
            <a:avLst/>
            <a:gdLst/>
            <a:ahLst/>
            <a:rect l="l" t="t" r="r" b="b"/>
            <a:pathLst>
              <a:path w="1214" h="753">
                <a:moveTo>
                  <a:pt x="0" y="285"/>
                </a:moveTo>
                <a:lnTo>
                  <a:pt x="0" y="285"/>
                </a:lnTo>
                <a:lnTo>
                  <a:pt x="99" y="360"/>
                </a:lnTo>
                <a:lnTo>
                  <a:pt x="115" y="352"/>
                </a:lnTo>
                <a:lnTo>
                  <a:pt x="134" y="390"/>
                </a:lnTo>
                <a:lnTo>
                  <a:pt x="196" y="417"/>
                </a:lnTo>
                <a:lnTo>
                  <a:pt x="232" y="461"/>
                </a:lnTo>
                <a:lnTo>
                  <a:pt x="304" y="501"/>
                </a:lnTo>
                <a:lnTo>
                  <a:pt x="362" y="556"/>
                </a:lnTo>
                <a:lnTo>
                  <a:pt x="396" y="565"/>
                </a:lnTo>
                <a:lnTo>
                  <a:pt x="420" y="536"/>
                </a:lnTo>
                <a:lnTo>
                  <a:pt x="432" y="564"/>
                </a:lnTo>
                <a:lnTo>
                  <a:pt x="424" y="597"/>
                </a:lnTo>
                <a:lnTo>
                  <a:pt x="504" y="668"/>
                </a:lnTo>
                <a:lnTo>
                  <a:pt x="553" y="677"/>
                </a:lnTo>
                <a:lnTo>
                  <a:pt x="611" y="728"/>
                </a:lnTo>
                <a:lnTo>
                  <a:pt x="629" y="752"/>
                </a:lnTo>
                <a:lnTo>
                  <a:pt x="662" y="744"/>
                </a:lnTo>
                <a:lnTo>
                  <a:pt x="682" y="715"/>
                </a:lnTo>
                <a:lnTo>
                  <a:pt x="758" y="673"/>
                </a:lnTo>
                <a:lnTo>
                  <a:pt x="826" y="593"/>
                </a:lnTo>
                <a:lnTo>
                  <a:pt x="938" y="501"/>
                </a:lnTo>
                <a:lnTo>
                  <a:pt x="999" y="431"/>
                </a:lnTo>
                <a:lnTo>
                  <a:pt x="1051" y="363"/>
                </a:lnTo>
                <a:lnTo>
                  <a:pt x="1077" y="373"/>
                </a:lnTo>
                <a:lnTo>
                  <a:pt x="1110" y="340"/>
                </a:lnTo>
                <a:lnTo>
                  <a:pt x="1108" y="288"/>
                </a:lnTo>
                <a:lnTo>
                  <a:pt x="1130" y="308"/>
                </a:lnTo>
                <a:lnTo>
                  <a:pt x="1159" y="288"/>
                </a:lnTo>
                <a:lnTo>
                  <a:pt x="1153" y="272"/>
                </a:lnTo>
                <a:lnTo>
                  <a:pt x="1184" y="274"/>
                </a:lnTo>
                <a:lnTo>
                  <a:pt x="1213" y="248"/>
                </a:lnTo>
                <a:lnTo>
                  <a:pt x="1139" y="240"/>
                </a:lnTo>
                <a:lnTo>
                  <a:pt x="1127" y="262"/>
                </a:lnTo>
                <a:lnTo>
                  <a:pt x="1106" y="255"/>
                </a:lnTo>
                <a:lnTo>
                  <a:pt x="1016" y="258"/>
                </a:lnTo>
                <a:lnTo>
                  <a:pt x="992" y="284"/>
                </a:lnTo>
                <a:lnTo>
                  <a:pt x="956" y="267"/>
                </a:lnTo>
                <a:lnTo>
                  <a:pt x="912" y="255"/>
                </a:lnTo>
                <a:lnTo>
                  <a:pt x="880" y="276"/>
                </a:lnTo>
                <a:lnTo>
                  <a:pt x="816" y="308"/>
                </a:lnTo>
                <a:lnTo>
                  <a:pt x="842" y="286"/>
                </a:lnTo>
                <a:lnTo>
                  <a:pt x="911" y="209"/>
                </a:lnTo>
                <a:lnTo>
                  <a:pt x="912" y="176"/>
                </a:lnTo>
                <a:lnTo>
                  <a:pt x="871" y="204"/>
                </a:lnTo>
                <a:lnTo>
                  <a:pt x="851" y="228"/>
                </a:lnTo>
                <a:lnTo>
                  <a:pt x="854" y="196"/>
                </a:lnTo>
                <a:lnTo>
                  <a:pt x="898" y="124"/>
                </a:lnTo>
                <a:lnTo>
                  <a:pt x="897" y="28"/>
                </a:lnTo>
                <a:lnTo>
                  <a:pt x="887" y="0"/>
                </a:lnTo>
                <a:lnTo>
                  <a:pt x="793" y="3"/>
                </a:lnTo>
                <a:lnTo>
                  <a:pt x="737" y="16"/>
                </a:lnTo>
                <a:lnTo>
                  <a:pt x="613" y="10"/>
                </a:lnTo>
                <a:lnTo>
                  <a:pt x="557" y="19"/>
                </a:lnTo>
                <a:lnTo>
                  <a:pt x="450" y="15"/>
                </a:lnTo>
                <a:lnTo>
                  <a:pt x="408" y="24"/>
                </a:lnTo>
                <a:lnTo>
                  <a:pt x="452" y="57"/>
                </a:lnTo>
                <a:lnTo>
                  <a:pt x="436" y="68"/>
                </a:lnTo>
                <a:lnTo>
                  <a:pt x="391" y="41"/>
                </a:lnTo>
                <a:lnTo>
                  <a:pt x="366" y="42"/>
                </a:lnTo>
                <a:lnTo>
                  <a:pt x="347" y="19"/>
                </a:lnTo>
                <a:lnTo>
                  <a:pt x="292" y="24"/>
                </a:lnTo>
                <a:lnTo>
                  <a:pt x="282" y="63"/>
                </a:lnTo>
                <a:lnTo>
                  <a:pt x="297" y="126"/>
                </a:lnTo>
                <a:lnTo>
                  <a:pt x="297" y="226"/>
                </a:lnTo>
                <a:lnTo>
                  <a:pt x="299" y="264"/>
                </a:lnTo>
                <a:lnTo>
                  <a:pt x="262" y="276"/>
                </a:lnTo>
                <a:lnTo>
                  <a:pt x="192" y="264"/>
                </a:lnTo>
                <a:lnTo>
                  <a:pt x="124" y="277"/>
                </a:lnTo>
                <a:lnTo>
                  <a:pt x="72" y="272"/>
                </a:lnTo>
                <a:lnTo>
                  <a:pt x="65" y="297"/>
                </a:lnTo>
                <a:lnTo>
                  <a:pt x="53" y="291"/>
                </a:lnTo>
                <a:lnTo>
                  <a:pt x="39" y="273"/>
                </a:lnTo>
                <a:lnTo>
                  <a:pt x="3" y="271"/>
                </a:lnTo>
                <a:lnTo>
                  <a:pt x="0" y="285"/>
                </a:lnTo>
                <a:lnTo>
                  <a:pt x="0" y="285"/>
                </a:lnTo>
              </a:path>
            </a:pathLst>
          </a:custGeom>
          <a:solidFill>
            <a:srgbClr val="cc330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817560" y="4299840"/>
            <a:ext cx="800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Arial Narrow"/>
              </a:rPr>
              <a:t>Nella chimica italiana circa 280 imprese collaborano con terzi sull’innovazione, con una quota quasi tripla rispetto alla media dell’industr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522360" y="1333440"/>
            <a:ext cx="8277120" cy="0"/>
          </a:xfrm>
          <a:prstGeom prst="line">
            <a:avLst/>
          </a:prstGeom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23720" y="0"/>
            <a:ext cx="8001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Arial"/>
              </a:rPr>
              <a:t>Imprese chimiche europee</a:t>
            </a:r>
            <a:br>
              <a:rPr sz="2400"/>
            </a:br>
            <a:r>
              <a:rPr b="1" lang="it-IT" sz="2400" spc="-1" strike="noStrike">
                <a:solidFill>
                  <a:srgbClr val="333399"/>
                </a:solidFill>
                <a:latin typeface="Arial"/>
              </a:rPr>
              <a:t>con collaborazioni per l’innovazione </a:t>
            </a: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(% imprese)</a:t>
            </a:r>
            <a:r>
              <a:rPr b="1" lang="it-IT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590400" y="1392120"/>
            <a:ext cx="2957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Ogni tipo di collaborazion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676680" y="1392120"/>
            <a:ext cx="900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0000"/>
                </a:solidFill>
                <a:latin typeface="Arial"/>
              </a:rPr>
              <a:t>15,7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7743960" y="139212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27,0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676680" y="2521080"/>
            <a:ext cx="900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23,6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7743960" y="252108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44,3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95440" y="2521080"/>
            <a:ext cx="3181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- di cui altre imprese del Grupp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890640" y="6540480"/>
            <a:ext cx="49766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333399"/>
                </a:solidFill>
                <a:latin typeface="Arial"/>
              </a:rPr>
              <a:t>UE = Germania, Francia, Italia, Paesi Bassi, Spagna, Belgi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3635280" y="1019160"/>
            <a:ext cx="1166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333399"/>
                </a:solidFill>
                <a:latin typeface="Arial"/>
              </a:rPr>
              <a:t>Ital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7815240" y="1019160"/>
            <a:ext cx="1089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333399"/>
                </a:solidFill>
                <a:latin typeface="Arial"/>
              </a:rPr>
              <a:t>Europ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4695840" y="806400"/>
            <a:ext cx="158904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333399"/>
                </a:solidFill>
                <a:latin typeface="Arial"/>
              </a:rPr>
              <a:t>Europa </a:t>
            </a:r>
            <a:br>
              <a:rPr sz="1500"/>
            </a:br>
            <a:r>
              <a:rPr b="1" lang="it-IT" sz="1500" spc="-1" strike="noStrike">
                <a:solidFill>
                  <a:srgbClr val="333399"/>
                </a:solidFill>
                <a:latin typeface="Arial"/>
              </a:rPr>
              <a:t>escl. German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938840" y="139392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0000"/>
                </a:solidFill>
                <a:latin typeface="Arial"/>
              </a:rPr>
              <a:t>24,0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938840" y="252252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41,1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093360" y="6318360"/>
            <a:ext cx="3059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333399"/>
                </a:solidFill>
                <a:latin typeface="Arial"/>
              </a:rPr>
              <a:t>Fonte: </a:t>
            </a:r>
            <a:r>
              <a:rPr b="0" lang="it-IT" sz="1400" spc="-1" strike="noStrike">
                <a:solidFill>
                  <a:srgbClr val="333399"/>
                </a:solidFill>
                <a:latin typeface="Arial"/>
              </a:rPr>
              <a:t>Euro</a:t>
            </a:r>
            <a:r>
              <a:rPr b="0" sz="1400" spc="-1" strike="noStrike">
                <a:solidFill>
                  <a:srgbClr val="333399"/>
                </a:solidFill>
                <a:latin typeface="Arial"/>
              </a:rPr>
              <a:t>stat, </a:t>
            </a:r>
            <a:br>
              <a:rPr sz="1400"/>
            </a:br>
            <a:r>
              <a:rPr b="0" sz="1400" spc="-1" strike="noStrike">
                <a:solidFill>
                  <a:srgbClr val="333399"/>
                </a:solidFill>
                <a:latin typeface="Arial"/>
              </a:rPr>
              <a:t>Community Innovation Survey, </a:t>
            </a:r>
            <a:r>
              <a:rPr b="0" lang="it-IT" sz="1400" spc="-1" strike="noStrike">
                <a:solidFill>
                  <a:srgbClr val="333399"/>
                </a:solidFill>
                <a:latin typeface="Arial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676680" y="2832120"/>
            <a:ext cx="900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7,6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7743960" y="283212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35,1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95440" y="2832120"/>
            <a:ext cx="3181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- di cui fornitor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4938840" y="283356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39,1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676680" y="3170160"/>
            <a:ext cx="900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31,5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7751880" y="418788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52,6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95440" y="3170160"/>
            <a:ext cx="3181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- di cui client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938840" y="317016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50,0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676680" y="3510000"/>
            <a:ext cx="900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35,5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7743960" y="317016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52,7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95440" y="3510000"/>
            <a:ext cx="3112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- di cui imprese del setto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938840" y="351000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27,6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676680" y="3848040"/>
            <a:ext cx="900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36,2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7743960" y="351000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22,7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95440" y="3848040"/>
            <a:ext cx="3181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- di cui istituti privati di ricerc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938840" y="384804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45,7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673440" y="4187880"/>
            <a:ext cx="900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28,6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7740720" y="384804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39,1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92200" y="4187880"/>
            <a:ext cx="3181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- di cui università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935600" y="418932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46,3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686040" y="4527720"/>
            <a:ext cx="900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7,2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7753320" y="452772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29,9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04800" y="4527720"/>
            <a:ext cx="34765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- di cui istituti pubblici di ricerc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4948200" y="452916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28,5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19120" y="2465280"/>
            <a:ext cx="8277120" cy="0"/>
          </a:xfrm>
          <a:prstGeom prst="line">
            <a:avLst/>
          </a:prstGeom>
          <a:ln w="2232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686040" y="2089080"/>
            <a:ext cx="900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5,1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7753320" y="208908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9,4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04800" y="2089080"/>
            <a:ext cx="3324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- di cui con partner indiani / cinesi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948200" y="209088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7,8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19120" y="4941720"/>
            <a:ext cx="8277120" cy="0"/>
          </a:xfrm>
          <a:prstGeom prst="line">
            <a:avLst/>
          </a:prstGeom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500040" y="1760400"/>
            <a:ext cx="8277120" cy="0"/>
          </a:xfrm>
          <a:prstGeom prst="line">
            <a:avLst/>
          </a:prstGeom>
          <a:ln w="2232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686040" y="1812960"/>
            <a:ext cx="900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41,7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7753320" y="181296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45,4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604800" y="1812960"/>
            <a:ext cx="3324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- di cui con partner esteri europe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4948200" y="181440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46,9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433440" y="6264360"/>
            <a:ext cx="41418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333399"/>
                </a:solidFill>
                <a:latin typeface="Arial"/>
              </a:rPr>
              <a:t>Not</a:t>
            </a:r>
            <a:r>
              <a:rPr b="0" sz="1400" spc="-1" strike="noStrike">
                <a:solidFill>
                  <a:srgbClr val="333399"/>
                </a:solidFill>
                <a:latin typeface="Arial"/>
              </a:rPr>
              <a:t>e: </a:t>
            </a:r>
            <a:r>
              <a:rPr b="0" lang="it-IT" sz="1400" spc="-1" strike="noStrike">
                <a:solidFill>
                  <a:srgbClr val="333399"/>
                </a:solidFill>
                <a:latin typeface="Arial"/>
              </a:rPr>
              <a:t>totale = imprese con più di 10 addett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 rot="16435200">
            <a:off x="456840" y="5288760"/>
            <a:ext cx="430200" cy="287640"/>
          </a:xfrm>
          <a:custGeom>
            <a:avLst/>
            <a:gdLst/>
            <a:ahLst/>
            <a:rect l="l" t="t" r="r" b="b"/>
            <a:pathLst>
              <a:path w="1214" h="753">
                <a:moveTo>
                  <a:pt x="0" y="285"/>
                </a:moveTo>
                <a:lnTo>
                  <a:pt x="0" y="285"/>
                </a:lnTo>
                <a:lnTo>
                  <a:pt x="99" y="360"/>
                </a:lnTo>
                <a:lnTo>
                  <a:pt x="115" y="352"/>
                </a:lnTo>
                <a:lnTo>
                  <a:pt x="134" y="390"/>
                </a:lnTo>
                <a:lnTo>
                  <a:pt x="196" y="417"/>
                </a:lnTo>
                <a:lnTo>
                  <a:pt x="232" y="461"/>
                </a:lnTo>
                <a:lnTo>
                  <a:pt x="304" y="501"/>
                </a:lnTo>
                <a:lnTo>
                  <a:pt x="362" y="556"/>
                </a:lnTo>
                <a:lnTo>
                  <a:pt x="396" y="565"/>
                </a:lnTo>
                <a:lnTo>
                  <a:pt x="420" y="536"/>
                </a:lnTo>
                <a:lnTo>
                  <a:pt x="432" y="564"/>
                </a:lnTo>
                <a:lnTo>
                  <a:pt x="424" y="597"/>
                </a:lnTo>
                <a:lnTo>
                  <a:pt x="504" y="668"/>
                </a:lnTo>
                <a:lnTo>
                  <a:pt x="553" y="677"/>
                </a:lnTo>
                <a:lnTo>
                  <a:pt x="611" y="728"/>
                </a:lnTo>
                <a:lnTo>
                  <a:pt x="629" y="752"/>
                </a:lnTo>
                <a:lnTo>
                  <a:pt x="662" y="744"/>
                </a:lnTo>
                <a:lnTo>
                  <a:pt x="682" y="715"/>
                </a:lnTo>
                <a:lnTo>
                  <a:pt x="758" y="673"/>
                </a:lnTo>
                <a:lnTo>
                  <a:pt x="826" y="593"/>
                </a:lnTo>
                <a:lnTo>
                  <a:pt x="938" y="501"/>
                </a:lnTo>
                <a:lnTo>
                  <a:pt x="999" y="431"/>
                </a:lnTo>
                <a:lnTo>
                  <a:pt x="1051" y="363"/>
                </a:lnTo>
                <a:lnTo>
                  <a:pt x="1077" y="373"/>
                </a:lnTo>
                <a:lnTo>
                  <a:pt x="1110" y="340"/>
                </a:lnTo>
                <a:lnTo>
                  <a:pt x="1108" y="288"/>
                </a:lnTo>
                <a:lnTo>
                  <a:pt x="1130" y="308"/>
                </a:lnTo>
                <a:lnTo>
                  <a:pt x="1159" y="288"/>
                </a:lnTo>
                <a:lnTo>
                  <a:pt x="1153" y="272"/>
                </a:lnTo>
                <a:lnTo>
                  <a:pt x="1184" y="274"/>
                </a:lnTo>
                <a:lnTo>
                  <a:pt x="1213" y="248"/>
                </a:lnTo>
                <a:lnTo>
                  <a:pt x="1139" y="240"/>
                </a:lnTo>
                <a:lnTo>
                  <a:pt x="1127" y="262"/>
                </a:lnTo>
                <a:lnTo>
                  <a:pt x="1106" y="255"/>
                </a:lnTo>
                <a:lnTo>
                  <a:pt x="1016" y="258"/>
                </a:lnTo>
                <a:lnTo>
                  <a:pt x="992" y="284"/>
                </a:lnTo>
                <a:lnTo>
                  <a:pt x="956" y="267"/>
                </a:lnTo>
                <a:lnTo>
                  <a:pt x="912" y="255"/>
                </a:lnTo>
                <a:lnTo>
                  <a:pt x="880" y="276"/>
                </a:lnTo>
                <a:lnTo>
                  <a:pt x="816" y="308"/>
                </a:lnTo>
                <a:lnTo>
                  <a:pt x="842" y="286"/>
                </a:lnTo>
                <a:lnTo>
                  <a:pt x="911" y="209"/>
                </a:lnTo>
                <a:lnTo>
                  <a:pt x="912" y="176"/>
                </a:lnTo>
                <a:lnTo>
                  <a:pt x="871" y="204"/>
                </a:lnTo>
                <a:lnTo>
                  <a:pt x="851" y="228"/>
                </a:lnTo>
                <a:lnTo>
                  <a:pt x="854" y="196"/>
                </a:lnTo>
                <a:lnTo>
                  <a:pt x="898" y="124"/>
                </a:lnTo>
                <a:lnTo>
                  <a:pt x="897" y="28"/>
                </a:lnTo>
                <a:lnTo>
                  <a:pt x="887" y="0"/>
                </a:lnTo>
                <a:lnTo>
                  <a:pt x="793" y="3"/>
                </a:lnTo>
                <a:lnTo>
                  <a:pt x="737" y="16"/>
                </a:lnTo>
                <a:lnTo>
                  <a:pt x="613" y="10"/>
                </a:lnTo>
                <a:lnTo>
                  <a:pt x="557" y="19"/>
                </a:lnTo>
                <a:lnTo>
                  <a:pt x="450" y="15"/>
                </a:lnTo>
                <a:lnTo>
                  <a:pt x="408" y="24"/>
                </a:lnTo>
                <a:lnTo>
                  <a:pt x="452" y="57"/>
                </a:lnTo>
                <a:lnTo>
                  <a:pt x="436" y="68"/>
                </a:lnTo>
                <a:lnTo>
                  <a:pt x="391" y="41"/>
                </a:lnTo>
                <a:lnTo>
                  <a:pt x="366" y="42"/>
                </a:lnTo>
                <a:lnTo>
                  <a:pt x="347" y="19"/>
                </a:lnTo>
                <a:lnTo>
                  <a:pt x="292" y="24"/>
                </a:lnTo>
                <a:lnTo>
                  <a:pt x="282" y="63"/>
                </a:lnTo>
                <a:lnTo>
                  <a:pt x="297" y="126"/>
                </a:lnTo>
                <a:lnTo>
                  <a:pt x="297" y="226"/>
                </a:lnTo>
                <a:lnTo>
                  <a:pt x="299" y="264"/>
                </a:lnTo>
                <a:lnTo>
                  <a:pt x="262" y="276"/>
                </a:lnTo>
                <a:lnTo>
                  <a:pt x="192" y="264"/>
                </a:lnTo>
                <a:lnTo>
                  <a:pt x="124" y="277"/>
                </a:lnTo>
                <a:lnTo>
                  <a:pt x="72" y="272"/>
                </a:lnTo>
                <a:lnTo>
                  <a:pt x="65" y="297"/>
                </a:lnTo>
                <a:lnTo>
                  <a:pt x="53" y="291"/>
                </a:lnTo>
                <a:lnTo>
                  <a:pt x="39" y="273"/>
                </a:lnTo>
                <a:lnTo>
                  <a:pt x="3" y="271"/>
                </a:lnTo>
                <a:lnTo>
                  <a:pt x="0" y="285"/>
                </a:lnTo>
                <a:lnTo>
                  <a:pt x="0" y="285"/>
                </a:lnTo>
              </a:path>
            </a:pathLst>
          </a:custGeom>
          <a:solidFill>
            <a:srgbClr val="cc330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843120" y="5235120"/>
            <a:ext cx="761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Arial Narrow"/>
              </a:rPr>
              <a:t>Nella chimica italiana sono meno diffuse le collaborazioni di ogni tipo </a:t>
            </a:r>
            <a:br>
              <a:rPr sz="2000"/>
            </a:br>
            <a:r>
              <a:rPr b="1" lang="it-IT" sz="2000" spc="-1" strike="noStrike">
                <a:solidFill>
                  <a:srgbClr val="333399"/>
                </a:solidFill>
                <a:latin typeface="Arial Narrow"/>
              </a:rPr>
              <a:t>e, in particolar modo, quelle con università e istituti di ricerca pubbl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6365880" y="1012680"/>
            <a:ext cx="130176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333399"/>
                </a:solidFill>
                <a:latin typeface="Arial"/>
              </a:rPr>
              <a:t>German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426360" y="139212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36,0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6426360" y="252108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50,9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6426360" y="283212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27,0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434280" y="418788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65,4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6426360" y="317016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58,1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426360" y="351000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12,9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423120" y="384804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25,6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6435720" y="452772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32,8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6435720" y="208908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12,6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6435720" y="181296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42,4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574560" y="3021120"/>
            <a:ext cx="8456760" cy="0"/>
          </a:xfrm>
          <a:prstGeom prst="line">
            <a:avLst/>
          </a:prstGeom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76280" y="25146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Arial"/>
              </a:rPr>
              <a:t>Imprese chimiche </a:t>
            </a: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(%)</a:t>
            </a:r>
            <a:r>
              <a:rPr b="1" lang="it-IT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74560" y="3828960"/>
            <a:ext cx="8456760" cy="0"/>
          </a:xfrm>
          <a:prstGeom prst="line">
            <a:avLst/>
          </a:prstGeom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42960" y="3070080"/>
            <a:ext cx="2957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Finanziamenti pubblic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3708360" y="3070080"/>
            <a:ext cx="900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0000"/>
                </a:solidFill>
                <a:latin typeface="Arial"/>
              </a:rPr>
              <a:t>20,5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7885080" y="307008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20,9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708360" y="3422520"/>
            <a:ext cx="900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0000"/>
                </a:solidFill>
                <a:latin typeface="Arial"/>
              </a:rPr>
              <a:t>0,9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7885080" y="342252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2,2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47640" y="3422520"/>
            <a:ext cx="3181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6° o 7° Programma Quadr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485640" y="3876840"/>
            <a:ext cx="5808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333399"/>
                </a:solidFill>
                <a:latin typeface="Arial"/>
              </a:rPr>
              <a:t>Not</a:t>
            </a:r>
            <a:r>
              <a:rPr b="0" sz="1400" spc="-1" strike="noStrike">
                <a:solidFill>
                  <a:srgbClr val="333399"/>
                </a:solidFill>
                <a:latin typeface="Arial"/>
              </a:rPr>
              <a:t>e: </a:t>
            </a:r>
            <a:r>
              <a:rPr b="0" lang="it-IT" sz="1400" spc="-1" strike="noStrike">
                <a:solidFill>
                  <a:srgbClr val="333399"/>
                </a:solidFill>
                <a:latin typeface="Arial"/>
              </a:rPr>
              <a:t>UE = Germania, Francia, Italia, Paesi Bassi, Spagna, Belgi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3908520" y="2604960"/>
            <a:ext cx="1166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333399"/>
                </a:solidFill>
                <a:latin typeface="Arial"/>
              </a:rPr>
              <a:t>Ital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7740720" y="2604960"/>
            <a:ext cx="1439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333399"/>
                </a:solidFill>
                <a:latin typeface="Arial"/>
              </a:rPr>
              <a:t>Europ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4788000" y="2421000"/>
            <a:ext cx="15825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333399"/>
                </a:solidFill>
                <a:latin typeface="Arial"/>
              </a:rPr>
              <a:t>Europa </a:t>
            </a:r>
            <a:br>
              <a:rPr sz="1500"/>
            </a:br>
            <a:r>
              <a:rPr b="1" lang="it-IT" sz="1500" spc="-1" strike="noStrike">
                <a:solidFill>
                  <a:srgbClr val="333399"/>
                </a:solidFill>
                <a:latin typeface="Arial"/>
              </a:rPr>
              <a:t>escl. German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5003640" y="307188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19,6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003640" y="342432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1,2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574560" y="1430280"/>
            <a:ext cx="8456760" cy="0"/>
          </a:xfrm>
          <a:prstGeom prst="line">
            <a:avLst/>
          </a:prstGeom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476280" y="316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Arial"/>
              </a:rPr>
              <a:t>Finanziamenti pubblici all’innovazione nel 2006-2008</a:t>
            </a:r>
            <a:br>
              <a:rPr sz="2400"/>
            </a:br>
            <a:r>
              <a:rPr b="1" lang="it-IT" sz="2400" spc="-1" strike="noStrike">
                <a:solidFill>
                  <a:srgbClr val="333399"/>
                </a:solidFill>
                <a:latin typeface="Arial"/>
              </a:rPr>
              <a:t>(locali, nazionali ed europe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574560" y="2205000"/>
            <a:ext cx="8456760" cy="0"/>
          </a:xfrm>
          <a:prstGeom prst="line">
            <a:avLst/>
          </a:prstGeom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642960" y="1479600"/>
            <a:ext cx="2273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Finanziamenti pubblic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3635280" y="1479600"/>
            <a:ext cx="806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0000"/>
                </a:solidFill>
                <a:latin typeface="Arial"/>
              </a:rPr>
              <a:t>20,5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4645080" y="147960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15,7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3635280" y="1832040"/>
            <a:ext cx="806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0000"/>
                </a:solidFill>
                <a:latin typeface="Arial"/>
              </a:rPr>
              <a:t>0,9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645080" y="183204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0,3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647640" y="1832040"/>
            <a:ext cx="3181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6° o 7° Programma Quadr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549600" y="1020600"/>
            <a:ext cx="1166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333399"/>
                </a:solidFill>
                <a:latin typeface="Arial"/>
              </a:rPr>
              <a:t>chimic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4500720" y="1020600"/>
            <a:ext cx="1439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333399"/>
                </a:solidFill>
                <a:latin typeface="Arial"/>
              </a:rPr>
              <a:t>industr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 rot="16435200">
            <a:off x="480960" y="5515920"/>
            <a:ext cx="430200" cy="287280"/>
          </a:xfrm>
          <a:custGeom>
            <a:avLst/>
            <a:gdLst/>
            <a:ahLst/>
            <a:rect l="l" t="t" r="r" b="b"/>
            <a:pathLst>
              <a:path w="1214" h="753">
                <a:moveTo>
                  <a:pt x="0" y="285"/>
                </a:moveTo>
                <a:lnTo>
                  <a:pt x="0" y="285"/>
                </a:lnTo>
                <a:lnTo>
                  <a:pt x="99" y="360"/>
                </a:lnTo>
                <a:lnTo>
                  <a:pt x="115" y="352"/>
                </a:lnTo>
                <a:lnTo>
                  <a:pt x="134" y="390"/>
                </a:lnTo>
                <a:lnTo>
                  <a:pt x="196" y="417"/>
                </a:lnTo>
                <a:lnTo>
                  <a:pt x="232" y="461"/>
                </a:lnTo>
                <a:lnTo>
                  <a:pt x="304" y="501"/>
                </a:lnTo>
                <a:lnTo>
                  <a:pt x="362" y="556"/>
                </a:lnTo>
                <a:lnTo>
                  <a:pt x="396" y="565"/>
                </a:lnTo>
                <a:lnTo>
                  <a:pt x="420" y="536"/>
                </a:lnTo>
                <a:lnTo>
                  <a:pt x="432" y="564"/>
                </a:lnTo>
                <a:lnTo>
                  <a:pt x="424" y="597"/>
                </a:lnTo>
                <a:lnTo>
                  <a:pt x="504" y="668"/>
                </a:lnTo>
                <a:lnTo>
                  <a:pt x="553" y="677"/>
                </a:lnTo>
                <a:lnTo>
                  <a:pt x="611" y="728"/>
                </a:lnTo>
                <a:lnTo>
                  <a:pt x="629" y="752"/>
                </a:lnTo>
                <a:lnTo>
                  <a:pt x="662" y="744"/>
                </a:lnTo>
                <a:lnTo>
                  <a:pt x="682" y="715"/>
                </a:lnTo>
                <a:lnTo>
                  <a:pt x="758" y="673"/>
                </a:lnTo>
                <a:lnTo>
                  <a:pt x="826" y="593"/>
                </a:lnTo>
                <a:lnTo>
                  <a:pt x="938" y="501"/>
                </a:lnTo>
                <a:lnTo>
                  <a:pt x="999" y="431"/>
                </a:lnTo>
                <a:lnTo>
                  <a:pt x="1051" y="363"/>
                </a:lnTo>
                <a:lnTo>
                  <a:pt x="1077" y="373"/>
                </a:lnTo>
                <a:lnTo>
                  <a:pt x="1110" y="340"/>
                </a:lnTo>
                <a:lnTo>
                  <a:pt x="1108" y="288"/>
                </a:lnTo>
                <a:lnTo>
                  <a:pt x="1130" y="308"/>
                </a:lnTo>
                <a:lnTo>
                  <a:pt x="1159" y="288"/>
                </a:lnTo>
                <a:lnTo>
                  <a:pt x="1153" y="272"/>
                </a:lnTo>
                <a:lnTo>
                  <a:pt x="1184" y="274"/>
                </a:lnTo>
                <a:lnTo>
                  <a:pt x="1213" y="248"/>
                </a:lnTo>
                <a:lnTo>
                  <a:pt x="1139" y="240"/>
                </a:lnTo>
                <a:lnTo>
                  <a:pt x="1127" y="262"/>
                </a:lnTo>
                <a:lnTo>
                  <a:pt x="1106" y="255"/>
                </a:lnTo>
                <a:lnTo>
                  <a:pt x="1016" y="258"/>
                </a:lnTo>
                <a:lnTo>
                  <a:pt x="992" y="284"/>
                </a:lnTo>
                <a:lnTo>
                  <a:pt x="956" y="267"/>
                </a:lnTo>
                <a:lnTo>
                  <a:pt x="912" y="255"/>
                </a:lnTo>
                <a:lnTo>
                  <a:pt x="880" y="276"/>
                </a:lnTo>
                <a:lnTo>
                  <a:pt x="816" y="308"/>
                </a:lnTo>
                <a:lnTo>
                  <a:pt x="842" y="286"/>
                </a:lnTo>
                <a:lnTo>
                  <a:pt x="911" y="209"/>
                </a:lnTo>
                <a:lnTo>
                  <a:pt x="912" y="176"/>
                </a:lnTo>
                <a:lnTo>
                  <a:pt x="871" y="204"/>
                </a:lnTo>
                <a:lnTo>
                  <a:pt x="851" y="228"/>
                </a:lnTo>
                <a:lnTo>
                  <a:pt x="854" y="196"/>
                </a:lnTo>
                <a:lnTo>
                  <a:pt x="898" y="124"/>
                </a:lnTo>
                <a:lnTo>
                  <a:pt x="897" y="28"/>
                </a:lnTo>
                <a:lnTo>
                  <a:pt x="887" y="0"/>
                </a:lnTo>
                <a:lnTo>
                  <a:pt x="793" y="3"/>
                </a:lnTo>
                <a:lnTo>
                  <a:pt x="737" y="16"/>
                </a:lnTo>
                <a:lnTo>
                  <a:pt x="613" y="10"/>
                </a:lnTo>
                <a:lnTo>
                  <a:pt x="557" y="19"/>
                </a:lnTo>
                <a:lnTo>
                  <a:pt x="450" y="15"/>
                </a:lnTo>
                <a:lnTo>
                  <a:pt x="408" y="24"/>
                </a:lnTo>
                <a:lnTo>
                  <a:pt x="452" y="57"/>
                </a:lnTo>
                <a:lnTo>
                  <a:pt x="436" y="68"/>
                </a:lnTo>
                <a:lnTo>
                  <a:pt x="391" y="41"/>
                </a:lnTo>
                <a:lnTo>
                  <a:pt x="366" y="42"/>
                </a:lnTo>
                <a:lnTo>
                  <a:pt x="347" y="19"/>
                </a:lnTo>
                <a:lnTo>
                  <a:pt x="292" y="24"/>
                </a:lnTo>
                <a:lnTo>
                  <a:pt x="282" y="63"/>
                </a:lnTo>
                <a:lnTo>
                  <a:pt x="297" y="126"/>
                </a:lnTo>
                <a:lnTo>
                  <a:pt x="297" y="226"/>
                </a:lnTo>
                <a:lnTo>
                  <a:pt x="299" y="264"/>
                </a:lnTo>
                <a:lnTo>
                  <a:pt x="262" y="276"/>
                </a:lnTo>
                <a:lnTo>
                  <a:pt x="192" y="264"/>
                </a:lnTo>
                <a:lnTo>
                  <a:pt x="124" y="277"/>
                </a:lnTo>
                <a:lnTo>
                  <a:pt x="72" y="272"/>
                </a:lnTo>
                <a:lnTo>
                  <a:pt x="65" y="297"/>
                </a:lnTo>
                <a:lnTo>
                  <a:pt x="53" y="291"/>
                </a:lnTo>
                <a:lnTo>
                  <a:pt x="39" y="273"/>
                </a:lnTo>
                <a:lnTo>
                  <a:pt x="3" y="271"/>
                </a:lnTo>
                <a:lnTo>
                  <a:pt x="0" y="285"/>
                </a:lnTo>
                <a:lnTo>
                  <a:pt x="0" y="285"/>
                </a:lnTo>
              </a:path>
            </a:pathLst>
          </a:custGeom>
          <a:solidFill>
            <a:srgbClr val="cc330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866880" y="5452560"/>
            <a:ext cx="7665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Arial Narrow"/>
              </a:rPr>
              <a:t>La quota di imprese chimiche in Italia è analoga alla media europea, </a:t>
            </a:r>
            <a:br>
              <a:rPr sz="2000"/>
            </a:br>
            <a:r>
              <a:rPr b="1" lang="it-IT" sz="2000" spc="-1" strike="noStrike">
                <a:solidFill>
                  <a:srgbClr val="333399"/>
                </a:solidFill>
                <a:latin typeface="Arial Narrow"/>
              </a:rPr>
              <a:t>ma è inferiore la partecipazione al 6° o 7° Programma Quadro</a:t>
            </a:r>
            <a:br>
              <a:rPr sz="2000"/>
            </a:br>
            <a:r>
              <a:rPr b="1" lang="it-IT" sz="2000" spc="-1" strike="noStrike">
                <a:solidFill>
                  <a:srgbClr val="333399"/>
                </a:solidFill>
                <a:latin typeface="Arial Narrow"/>
              </a:rPr>
              <a:t>(relativamente elevata la partecipazione tedesc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948280" y="1020600"/>
            <a:ext cx="1287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333399"/>
                </a:solidFill>
                <a:latin typeface="Arial"/>
              </a:rPr>
              <a:t>high tec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476280" y="91440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Arial"/>
              </a:rPr>
              <a:t>Imprese in Italia </a:t>
            </a: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867280" y="148284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29,6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867280" y="183528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2,5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7556400" y="148428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19,8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7556400" y="183672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0,2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rot="16435200">
            <a:off x="480960" y="4414320"/>
            <a:ext cx="430200" cy="287280"/>
          </a:xfrm>
          <a:custGeom>
            <a:avLst/>
            <a:gdLst/>
            <a:ahLst/>
            <a:rect l="l" t="t" r="r" b="b"/>
            <a:pathLst>
              <a:path w="1214" h="753">
                <a:moveTo>
                  <a:pt x="0" y="285"/>
                </a:moveTo>
                <a:lnTo>
                  <a:pt x="0" y="285"/>
                </a:lnTo>
                <a:lnTo>
                  <a:pt x="99" y="360"/>
                </a:lnTo>
                <a:lnTo>
                  <a:pt x="115" y="352"/>
                </a:lnTo>
                <a:lnTo>
                  <a:pt x="134" y="390"/>
                </a:lnTo>
                <a:lnTo>
                  <a:pt x="196" y="417"/>
                </a:lnTo>
                <a:lnTo>
                  <a:pt x="232" y="461"/>
                </a:lnTo>
                <a:lnTo>
                  <a:pt x="304" y="501"/>
                </a:lnTo>
                <a:lnTo>
                  <a:pt x="362" y="556"/>
                </a:lnTo>
                <a:lnTo>
                  <a:pt x="396" y="565"/>
                </a:lnTo>
                <a:lnTo>
                  <a:pt x="420" y="536"/>
                </a:lnTo>
                <a:lnTo>
                  <a:pt x="432" y="564"/>
                </a:lnTo>
                <a:lnTo>
                  <a:pt x="424" y="597"/>
                </a:lnTo>
                <a:lnTo>
                  <a:pt x="504" y="668"/>
                </a:lnTo>
                <a:lnTo>
                  <a:pt x="553" y="677"/>
                </a:lnTo>
                <a:lnTo>
                  <a:pt x="611" y="728"/>
                </a:lnTo>
                <a:lnTo>
                  <a:pt x="629" y="752"/>
                </a:lnTo>
                <a:lnTo>
                  <a:pt x="662" y="744"/>
                </a:lnTo>
                <a:lnTo>
                  <a:pt x="682" y="715"/>
                </a:lnTo>
                <a:lnTo>
                  <a:pt x="758" y="673"/>
                </a:lnTo>
                <a:lnTo>
                  <a:pt x="826" y="593"/>
                </a:lnTo>
                <a:lnTo>
                  <a:pt x="938" y="501"/>
                </a:lnTo>
                <a:lnTo>
                  <a:pt x="999" y="431"/>
                </a:lnTo>
                <a:lnTo>
                  <a:pt x="1051" y="363"/>
                </a:lnTo>
                <a:lnTo>
                  <a:pt x="1077" y="373"/>
                </a:lnTo>
                <a:lnTo>
                  <a:pt x="1110" y="340"/>
                </a:lnTo>
                <a:lnTo>
                  <a:pt x="1108" y="288"/>
                </a:lnTo>
                <a:lnTo>
                  <a:pt x="1130" y="308"/>
                </a:lnTo>
                <a:lnTo>
                  <a:pt x="1159" y="288"/>
                </a:lnTo>
                <a:lnTo>
                  <a:pt x="1153" y="272"/>
                </a:lnTo>
                <a:lnTo>
                  <a:pt x="1184" y="274"/>
                </a:lnTo>
                <a:lnTo>
                  <a:pt x="1213" y="248"/>
                </a:lnTo>
                <a:lnTo>
                  <a:pt x="1139" y="240"/>
                </a:lnTo>
                <a:lnTo>
                  <a:pt x="1127" y="262"/>
                </a:lnTo>
                <a:lnTo>
                  <a:pt x="1106" y="255"/>
                </a:lnTo>
                <a:lnTo>
                  <a:pt x="1016" y="258"/>
                </a:lnTo>
                <a:lnTo>
                  <a:pt x="992" y="284"/>
                </a:lnTo>
                <a:lnTo>
                  <a:pt x="956" y="267"/>
                </a:lnTo>
                <a:lnTo>
                  <a:pt x="912" y="255"/>
                </a:lnTo>
                <a:lnTo>
                  <a:pt x="880" y="276"/>
                </a:lnTo>
                <a:lnTo>
                  <a:pt x="816" y="308"/>
                </a:lnTo>
                <a:lnTo>
                  <a:pt x="842" y="286"/>
                </a:lnTo>
                <a:lnTo>
                  <a:pt x="911" y="209"/>
                </a:lnTo>
                <a:lnTo>
                  <a:pt x="912" y="176"/>
                </a:lnTo>
                <a:lnTo>
                  <a:pt x="871" y="204"/>
                </a:lnTo>
                <a:lnTo>
                  <a:pt x="851" y="228"/>
                </a:lnTo>
                <a:lnTo>
                  <a:pt x="854" y="196"/>
                </a:lnTo>
                <a:lnTo>
                  <a:pt x="898" y="124"/>
                </a:lnTo>
                <a:lnTo>
                  <a:pt x="897" y="28"/>
                </a:lnTo>
                <a:lnTo>
                  <a:pt x="887" y="0"/>
                </a:lnTo>
                <a:lnTo>
                  <a:pt x="793" y="3"/>
                </a:lnTo>
                <a:lnTo>
                  <a:pt x="737" y="16"/>
                </a:lnTo>
                <a:lnTo>
                  <a:pt x="613" y="10"/>
                </a:lnTo>
                <a:lnTo>
                  <a:pt x="557" y="19"/>
                </a:lnTo>
                <a:lnTo>
                  <a:pt x="450" y="15"/>
                </a:lnTo>
                <a:lnTo>
                  <a:pt x="408" y="24"/>
                </a:lnTo>
                <a:lnTo>
                  <a:pt x="452" y="57"/>
                </a:lnTo>
                <a:lnTo>
                  <a:pt x="436" y="68"/>
                </a:lnTo>
                <a:lnTo>
                  <a:pt x="391" y="41"/>
                </a:lnTo>
                <a:lnTo>
                  <a:pt x="366" y="42"/>
                </a:lnTo>
                <a:lnTo>
                  <a:pt x="347" y="19"/>
                </a:lnTo>
                <a:lnTo>
                  <a:pt x="292" y="24"/>
                </a:lnTo>
                <a:lnTo>
                  <a:pt x="282" y="63"/>
                </a:lnTo>
                <a:lnTo>
                  <a:pt x="297" y="126"/>
                </a:lnTo>
                <a:lnTo>
                  <a:pt x="297" y="226"/>
                </a:lnTo>
                <a:lnTo>
                  <a:pt x="299" y="264"/>
                </a:lnTo>
                <a:lnTo>
                  <a:pt x="262" y="276"/>
                </a:lnTo>
                <a:lnTo>
                  <a:pt x="192" y="264"/>
                </a:lnTo>
                <a:lnTo>
                  <a:pt x="124" y="277"/>
                </a:lnTo>
                <a:lnTo>
                  <a:pt x="72" y="272"/>
                </a:lnTo>
                <a:lnTo>
                  <a:pt x="65" y="297"/>
                </a:lnTo>
                <a:lnTo>
                  <a:pt x="53" y="291"/>
                </a:lnTo>
                <a:lnTo>
                  <a:pt x="39" y="273"/>
                </a:lnTo>
                <a:lnTo>
                  <a:pt x="3" y="271"/>
                </a:lnTo>
                <a:lnTo>
                  <a:pt x="0" y="285"/>
                </a:lnTo>
                <a:lnTo>
                  <a:pt x="0" y="285"/>
                </a:lnTo>
              </a:path>
            </a:pathLst>
          </a:custGeom>
          <a:solidFill>
            <a:srgbClr val="cc330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866880" y="4382640"/>
            <a:ext cx="827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Arial Narrow"/>
              </a:rPr>
              <a:t>In Italia la quota di imprese chimiche che ha goduto di finanziamenti pubblici</a:t>
            </a:r>
            <a:br>
              <a:rPr sz="2000"/>
            </a:br>
            <a:r>
              <a:rPr b="1" lang="it-IT" sz="2000" spc="-1" strike="noStrike">
                <a:solidFill>
                  <a:srgbClr val="333399"/>
                </a:solidFill>
                <a:latin typeface="Arial Narrow"/>
              </a:rPr>
              <a:t>all’innovazione nel triennio è in linea con gli altri settori medium-high tech</a:t>
            </a:r>
            <a:br>
              <a:rPr sz="2000"/>
            </a:br>
            <a:r>
              <a:rPr b="1" lang="it-IT" sz="2000" spc="-1" strike="noStrike">
                <a:solidFill>
                  <a:srgbClr val="333399"/>
                </a:solidFill>
                <a:latin typeface="Arial Narrow"/>
              </a:rPr>
              <a:t>nonostante questi abbiano una minore propensione alla ricer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715360" y="6324480"/>
            <a:ext cx="34027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333399"/>
                </a:solidFill>
                <a:latin typeface="Arial"/>
              </a:rPr>
              <a:t>Fonte: </a:t>
            </a:r>
            <a:r>
              <a:rPr b="0" lang="it-IT" sz="1400" spc="-1" strike="noStrike">
                <a:solidFill>
                  <a:srgbClr val="333399"/>
                </a:solidFill>
                <a:latin typeface="Arial"/>
              </a:rPr>
              <a:t>Euro</a:t>
            </a:r>
            <a:r>
              <a:rPr b="0" sz="1400" spc="-1" strike="noStrike">
                <a:solidFill>
                  <a:srgbClr val="333399"/>
                </a:solidFill>
                <a:latin typeface="Arial"/>
              </a:rPr>
              <a:t>stat, </a:t>
            </a:r>
            <a:br>
              <a:rPr sz="1400"/>
            </a:br>
            <a:r>
              <a:rPr b="0" sz="1400" spc="-1" strike="noStrike">
                <a:solidFill>
                  <a:srgbClr val="333399"/>
                </a:solidFill>
                <a:latin typeface="Arial"/>
              </a:rPr>
              <a:t>Community Innovation Survey, </a:t>
            </a:r>
            <a:r>
              <a:rPr b="0" lang="it-IT" sz="1400" spc="-1" strike="noStrike">
                <a:solidFill>
                  <a:srgbClr val="333399"/>
                </a:solidFill>
                <a:latin typeface="Arial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66560" y="6526080"/>
            <a:ext cx="58089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333399"/>
                </a:solidFill>
                <a:latin typeface="Arial"/>
              </a:rPr>
              <a:t>Not</a:t>
            </a:r>
            <a:r>
              <a:rPr b="0" sz="1400" spc="-1" strike="noStrike">
                <a:solidFill>
                  <a:srgbClr val="333399"/>
                </a:solidFill>
                <a:latin typeface="Arial"/>
              </a:rPr>
              <a:t>e: </a:t>
            </a:r>
            <a:r>
              <a:rPr b="0" lang="it-IT" sz="1400" spc="-1" strike="noStrike">
                <a:solidFill>
                  <a:srgbClr val="333399"/>
                </a:solidFill>
                <a:latin typeface="Arial"/>
              </a:rPr>
              <a:t>totale = imprese con più di 10 addett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7085160" y="836640"/>
            <a:ext cx="197964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333399"/>
                </a:solidFill>
                <a:latin typeface="Arial"/>
              </a:rPr>
              <a:t>altri </a:t>
            </a:r>
            <a:br>
              <a:rPr sz="1500"/>
            </a:br>
            <a:r>
              <a:rPr b="1" lang="it-IT" sz="1500" spc="-1" strike="noStrike">
                <a:solidFill>
                  <a:srgbClr val="333399"/>
                </a:solidFill>
                <a:latin typeface="Arial"/>
              </a:rPr>
              <a:t>medium-high tec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6372360" y="2627280"/>
            <a:ext cx="158256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333399"/>
                </a:solidFill>
                <a:latin typeface="Arial"/>
              </a:rPr>
              <a:t>German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6588000" y="307188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24,8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588000" y="342432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5,1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/>
          <p:nvPr/>
        </p:nvSpPr>
        <p:spPr>
          <a:xfrm>
            <a:off x="476280" y="76320"/>
            <a:ext cx="8128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Arial"/>
              </a:rPr>
              <a:t>Obiettivi dell’innovazione in Italia</a:t>
            </a:r>
            <a:br>
              <a:rPr sz="2400"/>
            </a:b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(% imprese innovative che li considerano di importanza medio-alta)</a:t>
            </a:r>
            <a:r>
              <a:rPr b="1" lang="it-IT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30280" y="1284120"/>
            <a:ext cx="8456400" cy="0"/>
          </a:xfrm>
          <a:prstGeom prst="line">
            <a:avLst/>
          </a:prstGeom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433680" y="1328760"/>
            <a:ext cx="900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49,1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648320" y="132876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44,5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458640" y="1328760"/>
            <a:ext cx="3181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Gamma prodotti / serviz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475200" y="6518160"/>
            <a:ext cx="43826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333399"/>
                </a:solidFill>
                <a:latin typeface="Arial"/>
              </a:rPr>
              <a:t>Fonte: </a:t>
            </a:r>
            <a:r>
              <a:rPr b="0" lang="it-IT" sz="1400" spc="-1" strike="noStrike">
                <a:solidFill>
                  <a:srgbClr val="333399"/>
                </a:solidFill>
                <a:latin typeface="Arial"/>
              </a:rPr>
              <a:t>Euro</a:t>
            </a:r>
            <a:r>
              <a:rPr b="0" sz="1400" spc="-1" strike="noStrike">
                <a:solidFill>
                  <a:srgbClr val="333399"/>
                </a:solidFill>
                <a:latin typeface="Arial"/>
              </a:rPr>
              <a:t>stat, Community Innovation Survey, </a:t>
            </a:r>
            <a:r>
              <a:rPr b="0" lang="it-IT" sz="1400" spc="-1" strike="noStrike">
                <a:solidFill>
                  <a:srgbClr val="333399"/>
                </a:solidFill>
                <a:latin typeface="Arial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433680" y="1639800"/>
            <a:ext cx="900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0000"/>
                </a:solidFill>
                <a:latin typeface="Arial"/>
              </a:rPr>
              <a:t>35,8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4648320" y="163980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26,3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458640" y="1639800"/>
            <a:ext cx="3181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Sostituzione prodotti / process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3433680" y="1978200"/>
            <a:ext cx="900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32,7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656240" y="299556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27,4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58640" y="1978200"/>
            <a:ext cx="3181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Ingresso in nuovi mercat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3433680" y="2317680"/>
            <a:ext cx="900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34,1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648320" y="197820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29,4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458640" y="2317680"/>
            <a:ext cx="3257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Aumento quota di mercat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433680" y="2655720"/>
            <a:ext cx="900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56,8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4648320" y="231768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29,1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458640" y="2655720"/>
            <a:ext cx="3181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Qualità prodotti / serviz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430440" y="2995560"/>
            <a:ext cx="900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31,1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4645080" y="265572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50,5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55760" y="2995560"/>
            <a:ext cx="3181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Flessibilità produttiv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3443400" y="3335400"/>
            <a:ext cx="900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19,0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4657680" y="333540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30,3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468360" y="3335400"/>
            <a:ext cx="34765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Capacità produttiv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6400" y="4435560"/>
            <a:ext cx="8456760" cy="0"/>
          </a:xfrm>
          <a:prstGeom prst="line">
            <a:avLst/>
          </a:prstGeom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90680" y="6107040"/>
            <a:ext cx="58086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333399"/>
                </a:solidFill>
                <a:latin typeface="Arial"/>
              </a:rPr>
              <a:t>Not</a:t>
            </a:r>
            <a:r>
              <a:rPr b="0" sz="1400" spc="-1" strike="noStrike">
                <a:solidFill>
                  <a:srgbClr val="333399"/>
                </a:solidFill>
                <a:latin typeface="Arial"/>
              </a:rPr>
              <a:t>e: </a:t>
            </a:r>
            <a:r>
              <a:rPr b="0" lang="it-IT" sz="1400" spc="-1" strike="noStrike">
                <a:solidFill>
                  <a:srgbClr val="333399"/>
                </a:solidFill>
                <a:latin typeface="Arial"/>
              </a:rPr>
              <a:t>totale = imprese con più di 10 addett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3440160" y="3697200"/>
            <a:ext cx="900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0000"/>
                </a:solidFill>
                <a:latin typeface="Arial"/>
              </a:rPr>
              <a:t>49,2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654440" y="369720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29,8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465120" y="3697200"/>
            <a:ext cx="34765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Sicurezza e salut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3443400" y="4049640"/>
            <a:ext cx="900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21,8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4657680" y="404964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19,7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468360" y="4049640"/>
            <a:ext cx="34765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Costo del lavor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3487680" y="914400"/>
            <a:ext cx="1166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333399"/>
                </a:solidFill>
                <a:latin typeface="Arial"/>
              </a:rPr>
              <a:t>chimic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4500720" y="914400"/>
            <a:ext cx="1439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333399"/>
                </a:solidFill>
                <a:latin typeface="Arial"/>
              </a:rPr>
              <a:t>industr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5985000" y="914400"/>
            <a:ext cx="1287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333399"/>
                </a:solidFill>
                <a:latin typeface="Arial"/>
              </a:rPr>
              <a:t>high tec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5943600" y="132084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51,4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5943600" y="163188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32,0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5951520" y="298764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18,3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943600" y="196992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35,0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5943600" y="230976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39,0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5940360" y="264780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47,3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5952960" y="332748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17,0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5950080" y="368928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19,3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5952960" y="404172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15,8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7547040" y="132084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45,1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7547040" y="163188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29,6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7554960" y="298764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23,0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7547040" y="196992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31,9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7547040" y="230976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38,0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7543800" y="264780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54,9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7556400" y="332748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28,3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7553160" y="368928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30,0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7556400" y="404172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19,3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 rot="16435200">
            <a:off x="447480" y="4652280"/>
            <a:ext cx="430200" cy="287280"/>
          </a:xfrm>
          <a:custGeom>
            <a:avLst/>
            <a:gdLst/>
            <a:ahLst/>
            <a:rect l="l" t="t" r="r" b="b"/>
            <a:pathLst>
              <a:path w="1214" h="753">
                <a:moveTo>
                  <a:pt x="0" y="285"/>
                </a:moveTo>
                <a:lnTo>
                  <a:pt x="0" y="285"/>
                </a:lnTo>
                <a:lnTo>
                  <a:pt x="99" y="360"/>
                </a:lnTo>
                <a:lnTo>
                  <a:pt x="115" y="352"/>
                </a:lnTo>
                <a:lnTo>
                  <a:pt x="134" y="390"/>
                </a:lnTo>
                <a:lnTo>
                  <a:pt x="196" y="417"/>
                </a:lnTo>
                <a:lnTo>
                  <a:pt x="232" y="461"/>
                </a:lnTo>
                <a:lnTo>
                  <a:pt x="304" y="501"/>
                </a:lnTo>
                <a:lnTo>
                  <a:pt x="362" y="556"/>
                </a:lnTo>
                <a:lnTo>
                  <a:pt x="396" y="565"/>
                </a:lnTo>
                <a:lnTo>
                  <a:pt x="420" y="536"/>
                </a:lnTo>
                <a:lnTo>
                  <a:pt x="432" y="564"/>
                </a:lnTo>
                <a:lnTo>
                  <a:pt x="424" y="597"/>
                </a:lnTo>
                <a:lnTo>
                  <a:pt x="504" y="668"/>
                </a:lnTo>
                <a:lnTo>
                  <a:pt x="553" y="677"/>
                </a:lnTo>
                <a:lnTo>
                  <a:pt x="611" y="728"/>
                </a:lnTo>
                <a:lnTo>
                  <a:pt x="629" y="752"/>
                </a:lnTo>
                <a:lnTo>
                  <a:pt x="662" y="744"/>
                </a:lnTo>
                <a:lnTo>
                  <a:pt x="682" y="715"/>
                </a:lnTo>
                <a:lnTo>
                  <a:pt x="758" y="673"/>
                </a:lnTo>
                <a:lnTo>
                  <a:pt x="826" y="593"/>
                </a:lnTo>
                <a:lnTo>
                  <a:pt x="938" y="501"/>
                </a:lnTo>
                <a:lnTo>
                  <a:pt x="999" y="431"/>
                </a:lnTo>
                <a:lnTo>
                  <a:pt x="1051" y="363"/>
                </a:lnTo>
                <a:lnTo>
                  <a:pt x="1077" y="373"/>
                </a:lnTo>
                <a:lnTo>
                  <a:pt x="1110" y="340"/>
                </a:lnTo>
                <a:lnTo>
                  <a:pt x="1108" y="288"/>
                </a:lnTo>
                <a:lnTo>
                  <a:pt x="1130" y="308"/>
                </a:lnTo>
                <a:lnTo>
                  <a:pt x="1159" y="288"/>
                </a:lnTo>
                <a:lnTo>
                  <a:pt x="1153" y="272"/>
                </a:lnTo>
                <a:lnTo>
                  <a:pt x="1184" y="274"/>
                </a:lnTo>
                <a:lnTo>
                  <a:pt x="1213" y="248"/>
                </a:lnTo>
                <a:lnTo>
                  <a:pt x="1139" y="240"/>
                </a:lnTo>
                <a:lnTo>
                  <a:pt x="1127" y="262"/>
                </a:lnTo>
                <a:lnTo>
                  <a:pt x="1106" y="255"/>
                </a:lnTo>
                <a:lnTo>
                  <a:pt x="1016" y="258"/>
                </a:lnTo>
                <a:lnTo>
                  <a:pt x="992" y="284"/>
                </a:lnTo>
                <a:lnTo>
                  <a:pt x="956" y="267"/>
                </a:lnTo>
                <a:lnTo>
                  <a:pt x="912" y="255"/>
                </a:lnTo>
                <a:lnTo>
                  <a:pt x="880" y="276"/>
                </a:lnTo>
                <a:lnTo>
                  <a:pt x="816" y="308"/>
                </a:lnTo>
                <a:lnTo>
                  <a:pt x="842" y="286"/>
                </a:lnTo>
                <a:lnTo>
                  <a:pt x="911" y="209"/>
                </a:lnTo>
                <a:lnTo>
                  <a:pt x="912" y="176"/>
                </a:lnTo>
                <a:lnTo>
                  <a:pt x="871" y="204"/>
                </a:lnTo>
                <a:lnTo>
                  <a:pt x="851" y="228"/>
                </a:lnTo>
                <a:lnTo>
                  <a:pt x="854" y="196"/>
                </a:lnTo>
                <a:lnTo>
                  <a:pt x="898" y="124"/>
                </a:lnTo>
                <a:lnTo>
                  <a:pt x="897" y="28"/>
                </a:lnTo>
                <a:lnTo>
                  <a:pt x="887" y="0"/>
                </a:lnTo>
                <a:lnTo>
                  <a:pt x="793" y="3"/>
                </a:lnTo>
                <a:lnTo>
                  <a:pt x="737" y="16"/>
                </a:lnTo>
                <a:lnTo>
                  <a:pt x="613" y="10"/>
                </a:lnTo>
                <a:lnTo>
                  <a:pt x="557" y="19"/>
                </a:lnTo>
                <a:lnTo>
                  <a:pt x="450" y="15"/>
                </a:lnTo>
                <a:lnTo>
                  <a:pt x="408" y="24"/>
                </a:lnTo>
                <a:lnTo>
                  <a:pt x="452" y="57"/>
                </a:lnTo>
                <a:lnTo>
                  <a:pt x="436" y="68"/>
                </a:lnTo>
                <a:lnTo>
                  <a:pt x="391" y="41"/>
                </a:lnTo>
                <a:lnTo>
                  <a:pt x="366" y="42"/>
                </a:lnTo>
                <a:lnTo>
                  <a:pt x="347" y="19"/>
                </a:lnTo>
                <a:lnTo>
                  <a:pt x="292" y="24"/>
                </a:lnTo>
                <a:lnTo>
                  <a:pt x="282" y="63"/>
                </a:lnTo>
                <a:lnTo>
                  <a:pt x="297" y="126"/>
                </a:lnTo>
                <a:lnTo>
                  <a:pt x="297" y="226"/>
                </a:lnTo>
                <a:lnTo>
                  <a:pt x="299" y="264"/>
                </a:lnTo>
                <a:lnTo>
                  <a:pt x="262" y="276"/>
                </a:lnTo>
                <a:lnTo>
                  <a:pt x="192" y="264"/>
                </a:lnTo>
                <a:lnTo>
                  <a:pt x="124" y="277"/>
                </a:lnTo>
                <a:lnTo>
                  <a:pt x="72" y="272"/>
                </a:lnTo>
                <a:lnTo>
                  <a:pt x="65" y="297"/>
                </a:lnTo>
                <a:lnTo>
                  <a:pt x="53" y="291"/>
                </a:lnTo>
                <a:lnTo>
                  <a:pt x="39" y="273"/>
                </a:lnTo>
                <a:lnTo>
                  <a:pt x="3" y="271"/>
                </a:lnTo>
                <a:lnTo>
                  <a:pt x="0" y="285"/>
                </a:lnTo>
                <a:lnTo>
                  <a:pt x="0" y="285"/>
                </a:lnTo>
              </a:path>
            </a:pathLst>
          </a:custGeom>
          <a:solidFill>
            <a:srgbClr val="cc330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833400" y="4600080"/>
            <a:ext cx="77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Arial Narrow"/>
              </a:rPr>
              <a:t>Rispetto agli altri comparti considerati,</a:t>
            </a:r>
            <a:br>
              <a:rPr sz="2000"/>
            </a:br>
            <a:r>
              <a:rPr b="1" lang="it-IT" sz="2000" spc="-1" strike="noStrike">
                <a:solidFill>
                  <a:srgbClr val="333399"/>
                </a:solidFill>
                <a:latin typeface="Arial Narrow"/>
              </a:rPr>
              <a:t>emerge la rilevanza per la chimica degli obiettivi legati a sicurezza e sal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7085160" y="711360"/>
            <a:ext cx="197964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333399"/>
                </a:solidFill>
                <a:latin typeface="Arial"/>
              </a:rPr>
              <a:t>altri </a:t>
            </a:r>
            <a:br>
              <a:rPr sz="1500"/>
            </a:br>
            <a:r>
              <a:rPr b="1" lang="it-IT" sz="1500" spc="-1" strike="noStrike">
                <a:solidFill>
                  <a:srgbClr val="333399"/>
                </a:solidFill>
                <a:latin typeface="Arial"/>
              </a:rPr>
              <a:t>medium-high tec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 rot="16435200">
            <a:off x="448920" y="5374440"/>
            <a:ext cx="430200" cy="287640"/>
          </a:xfrm>
          <a:custGeom>
            <a:avLst/>
            <a:gdLst/>
            <a:ahLst/>
            <a:rect l="l" t="t" r="r" b="b"/>
            <a:pathLst>
              <a:path w="1214" h="753">
                <a:moveTo>
                  <a:pt x="0" y="285"/>
                </a:moveTo>
                <a:lnTo>
                  <a:pt x="0" y="285"/>
                </a:lnTo>
                <a:lnTo>
                  <a:pt x="99" y="360"/>
                </a:lnTo>
                <a:lnTo>
                  <a:pt x="115" y="352"/>
                </a:lnTo>
                <a:lnTo>
                  <a:pt x="134" y="390"/>
                </a:lnTo>
                <a:lnTo>
                  <a:pt x="196" y="417"/>
                </a:lnTo>
                <a:lnTo>
                  <a:pt x="232" y="461"/>
                </a:lnTo>
                <a:lnTo>
                  <a:pt x="304" y="501"/>
                </a:lnTo>
                <a:lnTo>
                  <a:pt x="362" y="556"/>
                </a:lnTo>
                <a:lnTo>
                  <a:pt x="396" y="565"/>
                </a:lnTo>
                <a:lnTo>
                  <a:pt x="420" y="536"/>
                </a:lnTo>
                <a:lnTo>
                  <a:pt x="432" y="564"/>
                </a:lnTo>
                <a:lnTo>
                  <a:pt x="424" y="597"/>
                </a:lnTo>
                <a:lnTo>
                  <a:pt x="504" y="668"/>
                </a:lnTo>
                <a:lnTo>
                  <a:pt x="553" y="677"/>
                </a:lnTo>
                <a:lnTo>
                  <a:pt x="611" y="728"/>
                </a:lnTo>
                <a:lnTo>
                  <a:pt x="629" y="752"/>
                </a:lnTo>
                <a:lnTo>
                  <a:pt x="662" y="744"/>
                </a:lnTo>
                <a:lnTo>
                  <a:pt x="682" y="715"/>
                </a:lnTo>
                <a:lnTo>
                  <a:pt x="758" y="673"/>
                </a:lnTo>
                <a:lnTo>
                  <a:pt x="826" y="593"/>
                </a:lnTo>
                <a:lnTo>
                  <a:pt x="938" y="501"/>
                </a:lnTo>
                <a:lnTo>
                  <a:pt x="999" y="431"/>
                </a:lnTo>
                <a:lnTo>
                  <a:pt x="1051" y="363"/>
                </a:lnTo>
                <a:lnTo>
                  <a:pt x="1077" y="373"/>
                </a:lnTo>
                <a:lnTo>
                  <a:pt x="1110" y="340"/>
                </a:lnTo>
                <a:lnTo>
                  <a:pt x="1108" y="288"/>
                </a:lnTo>
                <a:lnTo>
                  <a:pt x="1130" y="308"/>
                </a:lnTo>
                <a:lnTo>
                  <a:pt x="1159" y="288"/>
                </a:lnTo>
                <a:lnTo>
                  <a:pt x="1153" y="272"/>
                </a:lnTo>
                <a:lnTo>
                  <a:pt x="1184" y="274"/>
                </a:lnTo>
                <a:lnTo>
                  <a:pt x="1213" y="248"/>
                </a:lnTo>
                <a:lnTo>
                  <a:pt x="1139" y="240"/>
                </a:lnTo>
                <a:lnTo>
                  <a:pt x="1127" y="262"/>
                </a:lnTo>
                <a:lnTo>
                  <a:pt x="1106" y="255"/>
                </a:lnTo>
                <a:lnTo>
                  <a:pt x="1016" y="258"/>
                </a:lnTo>
                <a:lnTo>
                  <a:pt x="992" y="284"/>
                </a:lnTo>
                <a:lnTo>
                  <a:pt x="956" y="267"/>
                </a:lnTo>
                <a:lnTo>
                  <a:pt x="912" y="255"/>
                </a:lnTo>
                <a:lnTo>
                  <a:pt x="880" y="276"/>
                </a:lnTo>
                <a:lnTo>
                  <a:pt x="816" y="308"/>
                </a:lnTo>
                <a:lnTo>
                  <a:pt x="842" y="286"/>
                </a:lnTo>
                <a:lnTo>
                  <a:pt x="911" y="209"/>
                </a:lnTo>
                <a:lnTo>
                  <a:pt x="912" y="176"/>
                </a:lnTo>
                <a:lnTo>
                  <a:pt x="871" y="204"/>
                </a:lnTo>
                <a:lnTo>
                  <a:pt x="851" y="228"/>
                </a:lnTo>
                <a:lnTo>
                  <a:pt x="854" y="196"/>
                </a:lnTo>
                <a:lnTo>
                  <a:pt x="898" y="124"/>
                </a:lnTo>
                <a:lnTo>
                  <a:pt x="897" y="28"/>
                </a:lnTo>
                <a:lnTo>
                  <a:pt x="887" y="0"/>
                </a:lnTo>
                <a:lnTo>
                  <a:pt x="793" y="3"/>
                </a:lnTo>
                <a:lnTo>
                  <a:pt x="737" y="16"/>
                </a:lnTo>
                <a:lnTo>
                  <a:pt x="613" y="10"/>
                </a:lnTo>
                <a:lnTo>
                  <a:pt x="557" y="19"/>
                </a:lnTo>
                <a:lnTo>
                  <a:pt x="450" y="15"/>
                </a:lnTo>
                <a:lnTo>
                  <a:pt x="408" y="24"/>
                </a:lnTo>
                <a:lnTo>
                  <a:pt x="452" y="57"/>
                </a:lnTo>
                <a:lnTo>
                  <a:pt x="436" y="68"/>
                </a:lnTo>
                <a:lnTo>
                  <a:pt x="391" y="41"/>
                </a:lnTo>
                <a:lnTo>
                  <a:pt x="366" y="42"/>
                </a:lnTo>
                <a:lnTo>
                  <a:pt x="347" y="19"/>
                </a:lnTo>
                <a:lnTo>
                  <a:pt x="292" y="24"/>
                </a:lnTo>
                <a:lnTo>
                  <a:pt x="282" y="63"/>
                </a:lnTo>
                <a:lnTo>
                  <a:pt x="297" y="126"/>
                </a:lnTo>
                <a:lnTo>
                  <a:pt x="297" y="226"/>
                </a:lnTo>
                <a:lnTo>
                  <a:pt x="299" y="264"/>
                </a:lnTo>
                <a:lnTo>
                  <a:pt x="262" y="276"/>
                </a:lnTo>
                <a:lnTo>
                  <a:pt x="192" y="264"/>
                </a:lnTo>
                <a:lnTo>
                  <a:pt x="124" y="277"/>
                </a:lnTo>
                <a:lnTo>
                  <a:pt x="72" y="272"/>
                </a:lnTo>
                <a:lnTo>
                  <a:pt x="65" y="297"/>
                </a:lnTo>
                <a:lnTo>
                  <a:pt x="53" y="291"/>
                </a:lnTo>
                <a:lnTo>
                  <a:pt x="39" y="273"/>
                </a:lnTo>
                <a:lnTo>
                  <a:pt x="3" y="271"/>
                </a:lnTo>
                <a:lnTo>
                  <a:pt x="0" y="285"/>
                </a:lnTo>
                <a:lnTo>
                  <a:pt x="0" y="285"/>
                </a:lnTo>
              </a:path>
            </a:pathLst>
          </a:custGeom>
          <a:solidFill>
            <a:srgbClr val="cc330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835200" y="5338080"/>
            <a:ext cx="77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Arial Narrow"/>
              </a:rPr>
              <a:t>In parte rientra in questo ambito anche la “sostituzione di prodotti </a:t>
            </a:r>
            <a:br>
              <a:rPr sz="2000"/>
            </a:br>
            <a:r>
              <a:rPr b="1" lang="it-IT" sz="2000" spc="-1" strike="noStrike">
                <a:solidFill>
                  <a:srgbClr val="333399"/>
                </a:solidFill>
                <a:latin typeface="Arial Narrow"/>
              </a:rPr>
              <a:t>e processi non più competitivi perché superati o obsoleti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68360" y="-720"/>
            <a:ext cx="7750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Arial Narrow"/>
              </a:rPr>
              <a:t>Sintesi dei principali risultati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3720" y="476280"/>
            <a:ext cx="8745840" cy="0"/>
          </a:xfrm>
          <a:prstGeom prst="line">
            <a:avLst/>
          </a:prstGeom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2800" y="577440"/>
            <a:ext cx="832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Arial Narrow"/>
              </a:rPr>
              <a:t>L’innovazione è importante perché consente più facilmente </a:t>
            </a:r>
            <a:br>
              <a:rPr sz="2000"/>
            </a:br>
            <a:r>
              <a:rPr b="1" lang="it-IT" sz="2000" spc="-1" strike="noStrike">
                <a:solidFill>
                  <a:srgbClr val="333399"/>
                </a:solidFill>
                <a:latin typeface="Arial Narrow"/>
              </a:rPr>
              <a:t>alle imprese chimiche di esportare e di difendere l’occupazione in Ital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12800" y="1215720"/>
            <a:ext cx="832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Arial Narrow"/>
              </a:rPr>
              <a:t>La chimica italiana ha tante imprese innovative (1200) </a:t>
            </a:r>
            <a:br>
              <a:rPr sz="2000"/>
            </a:br>
            <a:r>
              <a:rPr b="1" lang="it-IT" sz="2000" spc="-1" strike="noStrike">
                <a:solidFill>
                  <a:srgbClr val="333399"/>
                </a:solidFill>
                <a:latin typeface="Arial Narrow"/>
              </a:rPr>
              <a:t>e tante imprese impegnate nella ricerca (800), </a:t>
            </a:r>
            <a:br>
              <a:rPr sz="2000"/>
            </a:br>
            <a:r>
              <a:rPr b="1" lang="it-IT" sz="2000" spc="-1" strike="noStrike">
                <a:solidFill>
                  <a:srgbClr val="333399"/>
                </a:solidFill>
                <a:latin typeface="Arial Narrow"/>
              </a:rPr>
              <a:t>la loro numerosità in ambito europeo è seconda solo alla Germa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12800" y="3744720"/>
            <a:ext cx="829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Arial Narrow"/>
              </a:rPr>
              <a:t>Nella chimica italiana la diffusione dell’attività di ricerca </a:t>
            </a:r>
            <a:br>
              <a:rPr sz="2000"/>
            </a:br>
            <a:r>
              <a:rPr b="1" lang="it-IT" sz="2000" spc="-1" strike="noStrike">
                <a:solidFill>
                  <a:srgbClr val="333399"/>
                </a:solidFill>
                <a:latin typeface="Arial Narrow"/>
              </a:rPr>
              <a:t>(47% delle imprese) non solo è doppia rispetto alla media dell’industria (21%) </a:t>
            </a:r>
            <a:br>
              <a:rPr sz="2000"/>
            </a:br>
            <a:r>
              <a:rPr b="1" lang="it-IT" sz="2000" spc="-1" strike="noStrike">
                <a:solidFill>
                  <a:srgbClr val="333399"/>
                </a:solidFill>
                <a:latin typeface="Arial Narrow"/>
              </a:rPr>
              <a:t>ma è superiore anche agli altri settori medium-high tech (34%), in particolare perché fanno innovazione tante PMI chimich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12800" y="4731480"/>
            <a:ext cx="7891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Arial Narrow"/>
              </a:rPr>
              <a:t>In presenza di una struttura dimensionale della chimica italiana </a:t>
            </a:r>
            <a:br>
              <a:rPr sz="2000"/>
            </a:br>
            <a:r>
              <a:rPr b="1" lang="it-IT" sz="2000" spc="-1" strike="noStrike">
                <a:solidFill>
                  <a:srgbClr val="333399"/>
                </a:solidFill>
                <a:latin typeface="Arial Narrow"/>
              </a:rPr>
              <a:t>più sbilanciata verso le PMI, la diffusione dell’attività innovativa </a:t>
            </a:r>
            <a:br>
              <a:rPr sz="2000"/>
            </a:br>
            <a:r>
              <a:rPr b="1" lang="it-IT" sz="2000" spc="-1" strike="noStrike">
                <a:solidFill>
                  <a:srgbClr val="333399"/>
                </a:solidFill>
                <a:latin typeface="Arial Narrow"/>
              </a:rPr>
              <a:t>è simile alla media europea (67% delle imprese vs. 68%, Germania esclusa) </a:t>
            </a:r>
            <a:br>
              <a:rPr sz="2000"/>
            </a:br>
            <a:r>
              <a:rPr b="1" lang="it-IT" sz="2000" spc="-1" strike="noStrike">
                <a:solidFill>
                  <a:srgbClr val="333399"/>
                </a:solidFill>
                <a:latin typeface="Arial Narrow"/>
              </a:rPr>
              <a:t>e la diffusione della ricerca non ne è lontana (47% vs. 52%, Germania esclus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12800" y="2204640"/>
            <a:ext cx="825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Arial Narrow"/>
              </a:rPr>
              <a:t>Le imprese chimiche innovative, oltre ad essere numerose, rivestono </a:t>
            </a:r>
            <a:br>
              <a:rPr sz="2000"/>
            </a:br>
            <a:r>
              <a:rPr b="1" lang="it-IT" sz="2000" spc="-1" strike="noStrike">
                <a:solidFill>
                  <a:srgbClr val="333399"/>
                </a:solidFill>
                <a:latin typeface="Arial Narrow"/>
              </a:rPr>
              <a:t>una quota assolutamente predominante del fatturato settoriale (86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4360" y="2852280"/>
            <a:ext cx="818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Arial Narrow"/>
              </a:rPr>
              <a:t>Nella chimica quasi tutte le imprese innovative fanno innovazione </a:t>
            </a:r>
            <a:br>
              <a:rPr sz="2000"/>
            </a:br>
            <a:r>
              <a:rPr b="1" lang="it-IT" sz="2000" spc="-1" strike="noStrike">
                <a:solidFill>
                  <a:srgbClr val="333399"/>
                </a:solidFill>
                <a:latin typeface="Arial Narrow"/>
              </a:rPr>
              <a:t>di prodotto (83%) e una quota rilevante del fatturato (9%) è generata </a:t>
            </a:r>
            <a:br>
              <a:rPr sz="2000"/>
            </a:br>
            <a:r>
              <a:rPr b="1" lang="it-IT" sz="2000" spc="-1" strike="noStrike">
                <a:solidFill>
                  <a:srgbClr val="333399"/>
                </a:solidFill>
                <a:latin typeface="Arial Narrow"/>
              </a:rPr>
              <a:t>da prodotti nuovi per il mercato (e non solo per l’impres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1280" y="72720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11280" y="1341360"/>
            <a:ext cx="712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11280" y="2349360"/>
            <a:ext cx="712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299736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11280" y="3860640"/>
            <a:ext cx="712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11280" y="501336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12800" y="6092280"/>
            <a:ext cx="84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Arial Narrow"/>
              </a:rPr>
              <a:t>Tra il 2000 e il 2008 in Italia è considerevolmente aumentata la quota di imprese chimiche innovative (+16 punti percentuali) e con attività di ricerca (+9 p.p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1280" y="623736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468360" y="74520"/>
            <a:ext cx="86756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Arial"/>
              </a:rPr>
              <a:t>Obiettivi dell’innovazione nell’industria chimica europea </a:t>
            </a:r>
            <a:br>
              <a:rPr sz="2400"/>
            </a:b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(% imprese innovative che li considerano di importanza medio-alta)</a:t>
            </a:r>
            <a:r>
              <a:rPr b="1" lang="it-IT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566640" y="1324080"/>
            <a:ext cx="8277480" cy="0"/>
          </a:xfrm>
          <a:prstGeom prst="line">
            <a:avLst/>
          </a:prstGeom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3530520" y="1368360"/>
            <a:ext cx="900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49,1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7773840" y="136836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52,3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639720" y="1368360"/>
            <a:ext cx="3181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Gamma prodotti / serviz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934920" y="6203880"/>
            <a:ext cx="7686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333399"/>
                </a:solidFill>
                <a:latin typeface="Arial"/>
              </a:rPr>
              <a:t>UE = Germania, Francia, Italia, Paesi Bassi, Spagna, Belgi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597120" y="1019160"/>
            <a:ext cx="87948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333399"/>
                </a:solidFill>
                <a:latin typeface="Arial"/>
              </a:rPr>
              <a:t>Ital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7916760" y="1019160"/>
            <a:ext cx="93672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333399"/>
                </a:solidFill>
                <a:latin typeface="Arial"/>
              </a:rPr>
              <a:t>Europ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4643280" y="812880"/>
            <a:ext cx="161784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333399"/>
                </a:solidFill>
                <a:latin typeface="Arial"/>
              </a:rPr>
              <a:t>Europa </a:t>
            </a:r>
            <a:br>
              <a:rPr sz="1500"/>
            </a:br>
            <a:r>
              <a:rPr b="1" lang="it-IT" sz="1500" spc="-1" strike="noStrike">
                <a:solidFill>
                  <a:srgbClr val="333399"/>
                </a:solidFill>
                <a:latin typeface="Arial"/>
              </a:rPr>
              <a:t>escl. German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4865760" y="137016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52,1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462240" y="6518160"/>
            <a:ext cx="43826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333399"/>
                </a:solidFill>
                <a:latin typeface="Arial"/>
              </a:rPr>
              <a:t>Fonte: </a:t>
            </a:r>
            <a:r>
              <a:rPr b="0" lang="it-IT" sz="1400" spc="-1" strike="noStrike">
                <a:solidFill>
                  <a:srgbClr val="333399"/>
                </a:solidFill>
                <a:latin typeface="Arial"/>
              </a:rPr>
              <a:t>Euro</a:t>
            </a:r>
            <a:r>
              <a:rPr b="0" sz="1400" spc="-1" strike="noStrike">
                <a:solidFill>
                  <a:srgbClr val="333399"/>
                </a:solidFill>
                <a:latin typeface="Arial"/>
              </a:rPr>
              <a:t>stat, Community Innovation Survey, </a:t>
            </a:r>
            <a:r>
              <a:rPr b="0" lang="it-IT" sz="1400" spc="-1" strike="noStrike">
                <a:solidFill>
                  <a:srgbClr val="333399"/>
                </a:solidFill>
                <a:latin typeface="Arial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530520" y="1679400"/>
            <a:ext cx="900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35,8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7773840" y="167940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35,4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639720" y="1679400"/>
            <a:ext cx="3181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Sostituzione prodotti / process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530520" y="2017800"/>
            <a:ext cx="900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32,7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7781760" y="303516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23,4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639720" y="2017800"/>
            <a:ext cx="3181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Ingresso in nuovi mercat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3530520" y="2357280"/>
            <a:ext cx="900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34,1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7773840" y="201780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99"/>
                </a:solidFill>
                <a:latin typeface="Arial"/>
              </a:rPr>
              <a:t>41,2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639720" y="2357280"/>
            <a:ext cx="3257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Aumento quota di mercat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3530520" y="2695680"/>
            <a:ext cx="900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0000"/>
                </a:solidFill>
                <a:latin typeface="Arial"/>
              </a:rPr>
              <a:t>56,8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7773840" y="235728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99"/>
                </a:solidFill>
                <a:latin typeface="Arial"/>
              </a:rPr>
              <a:t>45,7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639720" y="2695680"/>
            <a:ext cx="3181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Qualità prodotti / serviz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527280" y="3035160"/>
            <a:ext cx="900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0000"/>
                </a:solidFill>
                <a:latin typeface="Arial"/>
              </a:rPr>
              <a:t>31,1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7770960" y="269568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46,8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636480" y="3035160"/>
            <a:ext cx="3181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Flessibilità produttiv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3540240" y="3375000"/>
            <a:ext cx="900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19,0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7783560" y="337500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23,7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649440" y="3375000"/>
            <a:ext cx="34765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Capacità produttiv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573120" y="4475160"/>
            <a:ext cx="8277120" cy="0"/>
          </a:xfrm>
          <a:prstGeom prst="line">
            <a:avLst/>
          </a:prstGeom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477720" y="5927760"/>
            <a:ext cx="58089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333399"/>
                </a:solidFill>
                <a:latin typeface="Arial"/>
              </a:rPr>
              <a:t>Not</a:t>
            </a:r>
            <a:r>
              <a:rPr b="0" sz="1400" spc="-1" strike="noStrike">
                <a:solidFill>
                  <a:srgbClr val="333399"/>
                </a:solidFill>
                <a:latin typeface="Arial"/>
              </a:rPr>
              <a:t>e: </a:t>
            </a:r>
            <a:r>
              <a:rPr b="0" lang="it-IT" sz="1400" spc="-1" strike="noStrike">
                <a:solidFill>
                  <a:srgbClr val="333399"/>
                </a:solidFill>
                <a:latin typeface="Arial"/>
              </a:rPr>
              <a:t>totale = imprese con più di 10 addett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3537000" y="3736800"/>
            <a:ext cx="900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49,2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7780320" y="373680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36,1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646200" y="3736800"/>
            <a:ext cx="34765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Sicurezza e salut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540240" y="4089240"/>
            <a:ext cx="900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21,8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7783560" y="408924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19,8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49440" y="4089240"/>
            <a:ext cx="34765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Costo del lavor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4862520" y="167472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32,8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4870440" y="303048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23,2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4862520" y="201312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0000"/>
                </a:solidFill>
                <a:latin typeface="Arial"/>
              </a:rPr>
              <a:t>37,8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4862520" y="235260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0000"/>
                </a:solidFill>
                <a:latin typeface="Arial"/>
              </a:rPr>
              <a:t>42,4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4859280" y="269064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49,8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4871880" y="337032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22,1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869000" y="373212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39,0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4871880" y="408456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21,6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 rot="16435200">
            <a:off x="473040" y="4763520"/>
            <a:ext cx="430200" cy="287280"/>
          </a:xfrm>
          <a:custGeom>
            <a:avLst/>
            <a:gdLst/>
            <a:ahLst/>
            <a:rect l="l" t="t" r="r" b="b"/>
            <a:pathLst>
              <a:path w="1214" h="753">
                <a:moveTo>
                  <a:pt x="0" y="285"/>
                </a:moveTo>
                <a:lnTo>
                  <a:pt x="0" y="285"/>
                </a:lnTo>
                <a:lnTo>
                  <a:pt x="99" y="360"/>
                </a:lnTo>
                <a:lnTo>
                  <a:pt x="115" y="352"/>
                </a:lnTo>
                <a:lnTo>
                  <a:pt x="134" y="390"/>
                </a:lnTo>
                <a:lnTo>
                  <a:pt x="196" y="417"/>
                </a:lnTo>
                <a:lnTo>
                  <a:pt x="232" y="461"/>
                </a:lnTo>
                <a:lnTo>
                  <a:pt x="304" y="501"/>
                </a:lnTo>
                <a:lnTo>
                  <a:pt x="362" y="556"/>
                </a:lnTo>
                <a:lnTo>
                  <a:pt x="396" y="565"/>
                </a:lnTo>
                <a:lnTo>
                  <a:pt x="420" y="536"/>
                </a:lnTo>
                <a:lnTo>
                  <a:pt x="432" y="564"/>
                </a:lnTo>
                <a:lnTo>
                  <a:pt x="424" y="597"/>
                </a:lnTo>
                <a:lnTo>
                  <a:pt x="504" y="668"/>
                </a:lnTo>
                <a:lnTo>
                  <a:pt x="553" y="677"/>
                </a:lnTo>
                <a:lnTo>
                  <a:pt x="611" y="728"/>
                </a:lnTo>
                <a:lnTo>
                  <a:pt x="629" y="752"/>
                </a:lnTo>
                <a:lnTo>
                  <a:pt x="662" y="744"/>
                </a:lnTo>
                <a:lnTo>
                  <a:pt x="682" y="715"/>
                </a:lnTo>
                <a:lnTo>
                  <a:pt x="758" y="673"/>
                </a:lnTo>
                <a:lnTo>
                  <a:pt x="826" y="593"/>
                </a:lnTo>
                <a:lnTo>
                  <a:pt x="938" y="501"/>
                </a:lnTo>
                <a:lnTo>
                  <a:pt x="999" y="431"/>
                </a:lnTo>
                <a:lnTo>
                  <a:pt x="1051" y="363"/>
                </a:lnTo>
                <a:lnTo>
                  <a:pt x="1077" y="373"/>
                </a:lnTo>
                <a:lnTo>
                  <a:pt x="1110" y="340"/>
                </a:lnTo>
                <a:lnTo>
                  <a:pt x="1108" y="288"/>
                </a:lnTo>
                <a:lnTo>
                  <a:pt x="1130" y="308"/>
                </a:lnTo>
                <a:lnTo>
                  <a:pt x="1159" y="288"/>
                </a:lnTo>
                <a:lnTo>
                  <a:pt x="1153" y="272"/>
                </a:lnTo>
                <a:lnTo>
                  <a:pt x="1184" y="274"/>
                </a:lnTo>
                <a:lnTo>
                  <a:pt x="1213" y="248"/>
                </a:lnTo>
                <a:lnTo>
                  <a:pt x="1139" y="240"/>
                </a:lnTo>
                <a:lnTo>
                  <a:pt x="1127" y="262"/>
                </a:lnTo>
                <a:lnTo>
                  <a:pt x="1106" y="255"/>
                </a:lnTo>
                <a:lnTo>
                  <a:pt x="1016" y="258"/>
                </a:lnTo>
                <a:lnTo>
                  <a:pt x="992" y="284"/>
                </a:lnTo>
                <a:lnTo>
                  <a:pt x="956" y="267"/>
                </a:lnTo>
                <a:lnTo>
                  <a:pt x="912" y="255"/>
                </a:lnTo>
                <a:lnTo>
                  <a:pt x="880" y="276"/>
                </a:lnTo>
                <a:lnTo>
                  <a:pt x="816" y="308"/>
                </a:lnTo>
                <a:lnTo>
                  <a:pt x="842" y="286"/>
                </a:lnTo>
                <a:lnTo>
                  <a:pt x="911" y="209"/>
                </a:lnTo>
                <a:lnTo>
                  <a:pt x="912" y="176"/>
                </a:lnTo>
                <a:lnTo>
                  <a:pt x="871" y="204"/>
                </a:lnTo>
                <a:lnTo>
                  <a:pt x="851" y="228"/>
                </a:lnTo>
                <a:lnTo>
                  <a:pt x="854" y="196"/>
                </a:lnTo>
                <a:lnTo>
                  <a:pt x="898" y="124"/>
                </a:lnTo>
                <a:lnTo>
                  <a:pt x="897" y="28"/>
                </a:lnTo>
                <a:lnTo>
                  <a:pt x="887" y="0"/>
                </a:lnTo>
                <a:lnTo>
                  <a:pt x="793" y="3"/>
                </a:lnTo>
                <a:lnTo>
                  <a:pt x="737" y="16"/>
                </a:lnTo>
                <a:lnTo>
                  <a:pt x="613" y="10"/>
                </a:lnTo>
                <a:lnTo>
                  <a:pt x="557" y="19"/>
                </a:lnTo>
                <a:lnTo>
                  <a:pt x="450" y="15"/>
                </a:lnTo>
                <a:lnTo>
                  <a:pt x="408" y="24"/>
                </a:lnTo>
                <a:lnTo>
                  <a:pt x="452" y="57"/>
                </a:lnTo>
                <a:lnTo>
                  <a:pt x="436" y="68"/>
                </a:lnTo>
                <a:lnTo>
                  <a:pt x="391" y="41"/>
                </a:lnTo>
                <a:lnTo>
                  <a:pt x="366" y="42"/>
                </a:lnTo>
                <a:lnTo>
                  <a:pt x="347" y="19"/>
                </a:lnTo>
                <a:lnTo>
                  <a:pt x="292" y="24"/>
                </a:lnTo>
                <a:lnTo>
                  <a:pt x="282" y="63"/>
                </a:lnTo>
                <a:lnTo>
                  <a:pt x="297" y="126"/>
                </a:lnTo>
                <a:lnTo>
                  <a:pt x="297" y="226"/>
                </a:lnTo>
                <a:lnTo>
                  <a:pt x="299" y="264"/>
                </a:lnTo>
                <a:lnTo>
                  <a:pt x="262" y="276"/>
                </a:lnTo>
                <a:lnTo>
                  <a:pt x="192" y="264"/>
                </a:lnTo>
                <a:lnTo>
                  <a:pt x="124" y="277"/>
                </a:lnTo>
                <a:lnTo>
                  <a:pt x="72" y="272"/>
                </a:lnTo>
                <a:lnTo>
                  <a:pt x="65" y="297"/>
                </a:lnTo>
                <a:lnTo>
                  <a:pt x="53" y="291"/>
                </a:lnTo>
                <a:lnTo>
                  <a:pt x="39" y="273"/>
                </a:lnTo>
                <a:lnTo>
                  <a:pt x="3" y="271"/>
                </a:lnTo>
                <a:lnTo>
                  <a:pt x="0" y="285"/>
                </a:lnTo>
                <a:lnTo>
                  <a:pt x="0" y="285"/>
                </a:lnTo>
              </a:path>
            </a:pathLst>
          </a:custGeom>
          <a:solidFill>
            <a:srgbClr val="cc330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858960" y="4744800"/>
            <a:ext cx="788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Arial Narrow"/>
              </a:rPr>
              <a:t>Rispetto alla media europea, </a:t>
            </a:r>
            <a:br>
              <a:rPr sz="2000"/>
            </a:br>
            <a:r>
              <a:rPr b="1" lang="it-IT" sz="2000" spc="-1" strike="noStrike">
                <a:solidFill>
                  <a:srgbClr val="333399"/>
                </a:solidFill>
                <a:latin typeface="Arial Narrow"/>
              </a:rPr>
              <a:t>gli obiettivi perseguiti tramite l’innovazione dalle imprese chimiche italiane sembrano in misura maggiore di natura difens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154560" y="1019160"/>
            <a:ext cx="161784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333399"/>
                </a:solidFill>
                <a:latin typeface="Arial"/>
              </a:rPr>
              <a:t>German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6377040" y="137304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52,7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6373800" y="167796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41,2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6381720" y="303372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23,7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6373800" y="201600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49,1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6373800" y="235584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53,1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6370560" y="269388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40,1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6383160" y="337356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27,5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6380280" y="373536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29,6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6383160" y="408780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15,6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/>
          <p:nvPr/>
        </p:nvSpPr>
        <p:spPr>
          <a:xfrm>
            <a:off x="501480" y="44280"/>
            <a:ext cx="73105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Arial"/>
              </a:rPr>
              <a:t>Innovazione con benefici ambientali in Italia</a:t>
            </a:r>
            <a:br>
              <a:rPr sz="2400"/>
            </a:b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(% imprese)</a:t>
            </a:r>
            <a:r>
              <a:rPr b="1" lang="it-IT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565200" y="849240"/>
            <a:ext cx="7916760" cy="0"/>
          </a:xfrm>
          <a:prstGeom prst="line">
            <a:avLst/>
          </a:prstGeom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5545080" y="2384280"/>
            <a:ext cx="9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16,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7248600" y="2384280"/>
            <a:ext cx="97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9,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638280" y="2384280"/>
            <a:ext cx="318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Riduzione uso materie pr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5495760" y="428760"/>
            <a:ext cx="116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chim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7104240" y="4287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indust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6093360" y="6334200"/>
            <a:ext cx="3059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333399"/>
                </a:solidFill>
                <a:latin typeface="Arial"/>
              </a:rPr>
              <a:t>Fonte: </a:t>
            </a:r>
            <a:r>
              <a:rPr b="0" lang="it-IT" sz="1400" spc="-1" strike="noStrike">
                <a:solidFill>
                  <a:srgbClr val="333399"/>
                </a:solidFill>
                <a:latin typeface="Arial"/>
              </a:rPr>
              <a:t>Euro</a:t>
            </a:r>
            <a:r>
              <a:rPr b="0" sz="1400" spc="-1" strike="noStrike">
                <a:solidFill>
                  <a:srgbClr val="333399"/>
                </a:solidFill>
                <a:latin typeface="Arial"/>
              </a:rPr>
              <a:t>stat, </a:t>
            </a:r>
            <a:br>
              <a:rPr sz="1400"/>
            </a:br>
            <a:r>
              <a:rPr b="0" sz="1400" spc="-1" strike="noStrike">
                <a:solidFill>
                  <a:srgbClr val="333399"/>
                </a:solidFill>
                <a:latin typeface="Arial"/>
              </a:rPr>
              <a:t>Community Innovation Survey, </a:t>
            </a:r>
            <a:r>
              <a:rPr b="0" lang="it-IT" sz="1400" spc="-1" strike="noStrike">
                <a:solidFill>
                  <a:srgbClr val="333399"/>
                </a:solidFill>
                <a:latin typeface="Arial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5545080" y="2789280"/>
            <a:ext cx="9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19,9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7248600" y="2789280"/>
            <a:ext cx="97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10,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638280" y="2789280"/>
            <a:ext cx="318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Riduzione uso energ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5545080" y="3156120"/>
            <a:ext cx="9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11,1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638280" y="3156120"/>
            <a:ext cx="3181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Riduzione emissioni CO</a:t>
            </a:r>
            <a:r>
              <a:rPr b="0" lang="it-IT" sz="16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5545080" y="1914480"/>
            <a:ext cx="9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22,1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7248600" y="3156120"/>
            <a:ext cx="97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8,6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638280" y="1809720"/>
            <a:ext cx="371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Sostituzione materiali </a:t>
            </a:r>
            <a:br>
              <a:rPr sz="1600"/>
            </a:b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con meno pericolosi / eco-compatibi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5545080" y="979560"/>
            <a:ext cx="9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30,4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7248600" y="1914480"/>
            <a:ext cx="97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9,2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638280" y="871560"/>
            <a:ext cx="36385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Riduzione inquinamento</a:t>
            </a:r>
            <a:br>
              <a:rPr sz="1600"/>
            </a:br>
            <a:r>
              <a:rPr b="0" lang="it-IT" sz="1400" spc="-1" strike="noStrike">
                <a:solidFill>
                  <a:srgbClr val="333399"/>
                </a:solidFill>
                <a:latin typeface="Arial"/>
              </a:rPr>
              <a:t>(atmosferico, idrico, sonoro e del suolo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245360" y="979560"/>
            <a:ext cx="97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15,3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5554800" y="3614760"/>
            <a:ext cx="9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22,1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7257960" y="3614760"/>
            <a:ext cx="97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13,1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647640" y="3614760"/>
            <a:ext cx="37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Benefici per utilizzatori – uso energ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571680" y="4724280"/>
            <a:ext cx="7916760" cy="0"/>
          </a:xfrm>
          <a:prstGeom prst="line">
            <a:avLst/>
          </a:prstGeom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476280" y="6535800"/>
            <a:ext cx="58086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333399"/>
                </a:solidFill>
                <a:latin typeface="Arial"/>
              </a:rPr>
              <a:t>Not</a:t>
            </a:r>
            <a:r>
              <a:rPr b="0" sz="1400" spc="-1" strike="noStrike">
                <a:solidFill>
                  <a:srgbClr val="333399"/>
                </a:solidFill>
                <a:latin typeface="Arial"/>
              </a:rPr>
              <a:t>e: </a:t>
            </a:r>
            <a:r>
              <a:rPr b="0" lang="it-IT" sz="1400" spc="-1" strike="noStrike">
                <a:solidFill>
                  <a:srgbClr val="333399"/>
                </a:solidFill>
                <a:latin typeface="Arial"/>
              </a:rPr>
              <a:t>totale = imprese con più di 10 addett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5551560" y="3976560"/>
            <a:ext cx="9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23,4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7254720" y="3976560"/>
            <a:ext cx="97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14,1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5554800" y="4348080"/>
            <a:ext cx="9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27,2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257960" y="4348080"/>
            <a:ext cx="97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13,2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581040" y="3571920"/>
            <a:ext cx="7916760" cy="0"/>
          </a:xfrm>
          <a:prstGeom prst="line">
            <a:avLst/>
          </a:prstGeom>
          <a:ln w="2232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647640" y="3976560"/>
            <a:ext cx="37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Benefici per utilizzatori – inquinam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647640" y="4348080"/>
            <a:ext cx="46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Benefici per utilizzatori – riciclo dopo l’u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5540400" y="1454040"/>
            <a:ext cx="9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28,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633240" y="1454040"/>
            <a:ext cx="40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Riciclo rifiuti / acqua / materie pr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7240680" y="1454040"/>
            <a:ext cx="97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15,4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 rot="16435200">
            <a:off x="509400" y="4868280"/>
            <a:ext cx="430200" cy="287280"/>
          </a:xfrm>
          <a:custGeom>
            <a:avLst/>
            <a:gdLst/>
            <a:ahLst/>
            <a:rect l="l" t="t" r="r" b="b"/>
            <a:pathLst>
              <a:path w="1214" h="753">
                <a:moveTo>
                  <a:pt x="0" y="285"/>
                </a:moveTo>
                <a:lnTo>
                  <a:pt x="0" y="285"/>
                </a:lnTo>
                <a:lnTo>
                  <a:pt x="99" y="360"/>
                </a:lnTo>
                <a:lnTo>
                  <a:pt x="115" y="352"/>
                </a:lnTo>
                <a:lnTo>
                  <a:pt x="134" y="390"/>
                </a:lnTo>
                <a:lnTo>
                  <a:pt x="196" y="417"/>
                </a:lnTo>
                <a:lnTo>
                  <a:pt x="232" y="461"/>
                </a:lnTo>
                <a:lnTo>
                  <a:pt x="304" y="501"/>
                </a:lnTo>
                <a:lnTo>
                  <a:pt x="362" y="556"/>
                </a:lnTo>
                <a:lnTo>
                  <a:pt x="396" y="565"/>
                </a:lnTo>
                <a:lnTo>
                  <a:pt x="420" y="536"/>
                </a:lnTo>
                <a:lnTo>
                  <a:pt x="432" y="564"/>
                </a:lnTo>
                <a:lnTo>
                  <a:pt x="424" y="597"/>
                </a:lnTo>
                <a:lnTo>
                  <a:pt x="504" y="668"/>
                </a:lnTo>
                <a:lnTo>
                  <a:pt x="553" y="677"/>
                </a:lnTo>
                <a:lnTo>
                  <a:pt x="611" y="728"/>
                </a:lnTo>
                <a:lnTo>
                  <a:pt x="629" y="752"/>
                </a:lnTo>
                <a:lnTo>
                  <a:pt x="662" y="744"/>
                </a:lnTo>
                <a:lnTo>
                  <a:pt x="682" y="715"/>
                </a:lnTo>
                <a:lnTo>
                  <a:pt x="758" y="673"/>
                </a:lnTo>
                <a:lnTo>
                  <a:pt x="826" y="593"/>
                </a:lnTo>
                <a:lnTo>
                  <a:pt x="938" y="501"/>
                </a:lnTo>
                <a:lnTo>
                  <a:pt x="999" y="431"/>
                </a:lnTo>
                <a:lnTo>
                  <a:pt x="1051" y="363"/>
                </a:lnTo>
                <a:lnTo>
                  <a:pt x="1077" y="373"/>
                </a:lnTo>
                <a:lnTo>
                  <a:pt x="1110" y="340"/>
                </a:lnTo>
                <a:lnTo>
                  <a:pt x="1108" y="288"/>
                </a:lnTo>
                <a:lnTo>
                  <a:pt x="1130" y="308"/>
                </a:lnTo>
                <a:lnTo>
                  <a:pt x="1159" y="288"/>
                </a:lnTo>
                <a:lnTo>
                  <a:pt x="1153" y="272"/>
                </a:lnTo>
                <a:lnTo>
                  <a:pt x="1184" y="274"/>
                </a:lnTo>
                <a:lnTo>
                  <a:pt x="1213" y="248"/>
                </a:lnTo>
                <a:lnTo>
                  <a:pt x="1139" y="240"/>
                </a:lnTo>
                <a:lnTo>
                  <a:pt x="1127" y="262"/>
                </a:lnTo>
                <a:lnTo>
                  <a:pt x="1106" y="255"/>
                </a:lnTo>
                <a:lnTo>
                  <a:pt x="1016" y="258"/>
                </a:lnTo>
                <a:lnTo>
                  <a:pt x="992" y="284"/>
                </a:lnTo>
                <a:lnTo>
                  <a:pt x="956" y="267"/>
                </a:lnTo>
                <a:lnTo>
                  <a:pt x="912" y="255"/>
                </a:lnTo>
                <a:lnTo>
                  <a:pt x="880" y="276"/>
                </a:lnTo>
                <a:lnTo>
                  <a:pt x="816" y="308"/>
                </a:lnTo>
                <a:lnTo>
                  <a:pt x="842" y="286"/>
                </a:lnTo>
                <a:lnTo>
                  <a:pt x="911" y="209"/>
                </a:lnTo>
                <a:lnTo>
                  <a:pt x="912" y="176"/>
                </a:lnTo>
                <a:lnTo>
                  <a:pt x="871" y="204"/>
                </a:lnTo>
                <a:lnTo>
                  <a:pt x="851" y="228"/>
                </a:lnTo>
                <a:lnTo>
                  <a:pt x="854" y="196"/>
                </a:lnTo>
                <a:lnTo>
                  <a:pt x="898" y="124"/>
                </a:lnTo>
                <a:lnTo>
                  <a:pt x="897" y="28"/>
                </a:lnTo>
                <a:lnTo>
                  <a:pt x="887" y="0"/>
                </a:lnTo>
                <a:lnTo>
                  <a:pt x="793" y="3"/>
                </a:lnTo>
                <a:lnTo>
                  <a:pt x="737" y="16"/>
                </a:lnTo>
                <a:lnTo>
                  <a:pt x="613" y="10"/>
                </a:lnTo>
                <a:lnTo>
                  <a:pt x="557" y="19"/>
                </a:lnTo>
                <a:lnTo>
                  <a:pt x="450" y="15"/>
                </a:lnTo>
                <a:lnTo>
                  <a:pt x="408" y="24"/>
                </a:lnTo>
                <a:lnTo>
                  <a:pt x="452" y="57"/>
                </a:lnTo>
                <a:lnTo>
                  <a:pt x="436" y="68"/>
                </a:lnTo>
                <a:lnTo>
                  <a:pt x="391" y="41"/>
                </a:lnTo>
                <a:lnTo>
                  <a:pt x="366" y="42"/>
                </a:lnTo>
                <a:lnTo>
                  <a:pt x="347" y="19"/>
                </a:lnTo>
                <a:lnTo>
                  <a:pt x="292" y="24"/>
                </a:lnTo>
                <a:lnTo>
                  <a:pt x="282" y="63"/>
                </a:lnTo>
                <a:lnTo>
                  <a:pt x="297" y="126"/>
                </a:lnTo>
                <a:lnTo>
                  <a:pt x="297" y="226"/>
                </a:lnTo>
                <a:lnTo>
                  <a:pt x="299" y="264"/>
                </a:lnTo>
                <a:lnTo>
                  <a:pt x="262" y="276"/>
                </a:lnTo>
                <a:lnTo>
                  <a:pt x="192" y="264"/>
                </a:lnTo>
                <a:lnTo>
                  <a:pt x="124" y="277"/>
                </a:lnTo>
                <a:lnTo>
                  <a:pt x="72" y="272"/>
                </a:lnTo>
                <a:lnTo>
                  <a:pt x="65" y="297"/>
                </a:lnTo>
                <a:lnTo>
                  <a:pt x="53" y="291"/>
                </a:lnTo>
                <a:lnTo>
                  <a:pt x="39" y="273"/>
                </a:lnTo>
                <a:lnTo>
                  <a:pt x="3" y="271"/>
                </a:lnTo>
                <a:lnTo>
                  <a:pt x="0" y="285"/>
                </a:lnTo>
                <a:lnTo>
                  <a:pt x="0" y="285"/>
                </a:lnTo>
              </a:path>
            </a:pathLst>
          </a:custGeom>
          <a:solidFill>
            <a:srgbClr val="cc330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895320" y="4849560"/>
            <a:ext cx="824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Arial Narrow"/>
              </a:rPr>
              <a:t>Emerge con chiarezza da tutti gli indicatori </a:t>
            </a:r>
            <a:br>
              <a:rPr sz="2000"/>
            </a:br>
            <a:r>
              <a:rPr b="1" lang="it-IT" sz="2000" spc="-1" strike="noStrike">
                <a:solidFill>
                  <a:srgbClr val="333399"/>
                </a:solidFill>
                <a:latin typeface="Arial Narrow"/>
              </a:rPr>
              <a:t>l’impegno della chimica italiana verso un’innovazione con benefici ambientali, non solo al proprio interno ma anche nei confronti degli utilizzat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 rot="16435200">
            <a:off x="510840" y="5895000"/>
            <a:ext cx="430200" cy="287640"/>
          </a:xfrm>
          <a:custGeom>
            <a:avLst/>
            <a:gdLst/>
            <a:ahLst/>
            <a:rect l="l" t="t" r="r" b="b"/>
            <a:pathLst>
              <a:path w="1214" h="753">
                <a:moveTo>
                  <a:pt x="0" y="285"/>
                </a:moveTo>
                <a:lnTo>
                  <a:pt x="0" y="285"/>
                </a:lnTo>
                <a:lnTo>
                  <a:pt x="99" y="360"/>
                </a:lnTo>
                <a:lnTo>
                  <a:pt x="115" y="352"/>
                </a:lnTo>
                <a:lnTo>
                  <a:pt x="134" y="390"/>
                </a:lnTo>
                <a:lnTo>
                  <a:pt x="196" y="417"/>
                </a:lnTo>
                <a:lnTo>
                  <a:pt x="232" y="461"/>
                </a:lnTo>
                <a:lnTo>
                  <a:pt x="304" y="501"/>
                </a:lnTo>
                <a:lnTo>
                  <a:pt x="362" y="556"/>
                </a:lnTo>
                <a:lnTo>
                  <a:pt x="396" y="565"/>
                </a:lnTo>
                <a:lnTo>
                  <a:pt x="420" y="536"/>
                </a:lnTo>
                <a:lnTo>
                  <a:pt x="432" y="564"/>
                </a:lnTo>
                <a:lnTo>
                  <a:pt x="424" y="597"/>
                </a:lnTo>
                <a:lnTo>
                  <a:pt x="504" y="668"/>
                </a:lnTo>
                <a:lnTo>
                  <a:pt x="553" y="677"/>
                </a:lnTo>
                <a:lnTo>
                  <a:pt x="611" y="728"/>
                </a:lnTo>
                <a:lnTo>
                  <a:pt x="629" y="752"/>
                </a:lnTo>
                <a:lnTo>
                  <a:pt x="662" y="744"/>
                </a:lnTo>
                <a:lnTo>
                  <a:pt x="682" y="715"/>
                </a:lnTo>
                <a:lnTo>
                  <a:pt x="758" y="673"/>
                </a:lnTo>
                <a:lnTo>
                  <a:pt x="826" y="593"/>
                </a:lnTo>
                <a:lnTo>
                  <a:pt x="938" y="501"/>
                </a:lnTo>
                <a:lnTo>
                  <a:pt x="999" y="431"/>
                </a:lnTo>
                <a:lnTo>
                  <a:pt x="1051" y="363"/>
                </a:lnTo>
                <a:lnTo>
                  <a:pt x="1077" y="373"/>
                </a:lnTo>
                <a:lnTo>
                  <a:pt x="1110" y="340"/>
                </a:lnTo>
                <a:lnTo>
                  <a:pt x="1108" y="288"/>
                </a:lnTo>
                <a:lnTo>
                  <a:pt x="1130" y="308"/>
                </a:lnTo>
                <a:lnTo>
                  <a:pt x="1159" y="288"/>
                </a:lnTo>
                <a:lnTo>
                  <a:pt x="1153" y="272"/>
                </a:lnTo>
                <a:lnTo>
                  <a:pt x="1184" y="274"/>
                </a:lnTo>
                <a:lnTo>
                  <a:pt x="1213" y="248"/>
                </a:lnTo>
                <a:lnTo>
                  <a:pt x="1139" y="240"/>
                </a:lnTo>
                <a:lnTo>
                  <a:pt x="1127" y="262"/>
                </a:lnTo>
                <a:lnTo>
                  <a:pt x="1106" y="255"/>
                </a:lnTo>
                <a:lnTo>
                  <a:pt x="1016" y="258"/>
                </a:lnTo>
                <a:lnTo>
                  <a:pt x="992" y="284"/>
                </a:lnTo>
                <a:lnTo>
                  <a:pt x="956" y="267"/>
                </a:lnTo>
                <a:lnTo>
                  <a:pt x="912" y="255"/>
                </a:lnTo>
                <a:lnTo>
                  <a:pt x="880" y="276"/>
                </a:lnTo>
                <a:lnTo>
                  <a:pt x="816" y="308"/>
                </a:lnTo>
                <a:lnTo>
                  <a:pt x="842" y="286"/>
                </a:lnTo>
                <a:lnTo>
                  <a:pt x="911" y="209"/>
                </a:lnTo>
                <a:lnTo>
                  <a:pt x="912" y="176"/>
                </a:lnTo>
                <a:lnTo>
                  <a:pt x="871" y="204"/>
                </a:lnTo>
                <a:lnTo>
                  <a:pt x="851" y="228"/>
                </a:lnTo>
                <a:lnTo>
                  <a:pt x="854" y="196"/>
                </a:lnTo>
                <a:lnTo>
                  <a:pt x="898" y="124"/>
                </a:lnTo>
                <a:lnTo>
                  <a:pt x="897" y="28"/>
                </a:lnTo>
                <a:lnTo>
                  <a:pt x="887" y="0"/>
                </a:lnTo>
                <a:lnTo>
                  <a:pt x="793" y="3"/>
                </a:lnTo>
                <a:lnTo>
                  <a:pt x="737" y="16"/>
                </a:lnTo>
                <a:lnTo>
                  <a:pt x="613" y="10"/>
                </a:lnTo>
                <a:lnTo>
                  <a:pt x="557" y="19"/>
                </a:lnTo>
                <a:lnTo>
                  <a:pt x="450" y="15"/>
                </a:lnTo>
                <a:lnTo>
                  <a:pt x="408" y="24"/>
                </a:lnTo>
                <a:lnTo>
                  <a:pt x="452" y="57"/>
                </a:lnTo>
                <a:lnTo>
                  <a:pt x="436" y="68"/>
                </a:lnTo>
                <a:lnTo>
                  <a:pt x="391" y="41"/>
                </a:lnTo>
                <a:lnTo>
                  <a:pt x="366" y="42"/>
                </a:lnTo>
                <a:lnTo>
                  <a:pt x="347" y="19"/>
                </a:lnTo>
                <a:lnTo>
                  <a:pt x="292" y="24"/>
                </a:lnTo>
                <a:lnTo>
                  <a:pt x="282" y="63"/>
                </a:lnTo>
                <a:lnTo>
                  <a:pt x="297" y="126"/>
                </a:lnTo>
                <a:lnTo>
                  <a:pt x="297" y="226"/>
                </a:lnTo>
                <a:lnTo>
                  <a:pt x="299" y="264"/>
                </a:lnTo>
                <a:lnTo>
                  <a:pt x="262" y="276"/>
                </a:lnTo>
                <a:lnTo>
                  <a:pt x="192" y="264"/>
                </a:lnTo>
                <a:lnTo>
                  <a:pt x="124" y="277"/>
                </a:lnTo>
                <a:lnTo>
                  <a:pt x="72" y="272"/>
                </a:lnTo>
                <a:lnTo>
                  <a:pt x="65" y="297"/>
                </a:lnTo>
                <a:lnTo>
                  <a:pt x="53" y="291"/>
                </a:lnTo>
                <a:lnTo>
                  <a:pt x="39" y="273"/>
                </a:lnTo>
                <a:lnTo>
                  <a:pt x="3" y="271"/>
                </a:lnTo>
                <a:lnTo>
                  <a:pt x="0" y="285"/>
                </a:lnTo>
                <a:lnTo>
                  <a:pt x="0" y="285"/>
                </a:lnTo>
              </a:path>
            </a:pathLst>
          </a:custGeom>
          <a:solidFill>
            <a:srgbClr val="cc330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895320" y="5846400"/>
            <a:ext cx="824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Arial Narrow"/>
              </a:rPr>
              <a:t>Per la chimica l’innovazione in ambito ambientale comporta </a:t>
            </a:r>
            <a:br>
              <a:rPr sz="2000"/>
            </a:br>
            <a:r>
              <a:rPr b="1" lang="it-IT" sz="2000" spc="-1" strike="noStrike">
                <a:solidFill>
                  <a:srgbClr val="333399"/>
                </a:solidFill>
                <a:latin typeface="Arial Narrow"/>
              </a:rPr>
              <a:t>un impegno su molti fronti divers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/>
          <p:nvPr/>
        </p:nvSpPr>
        <p:spPr>
          <a:xfrm>
            <a:off x="458640" y="0"/>
            <a:ext cx="868536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333399"/>
                </a:solidFill>
                <a:latin typeface="Arial"/>
              </a:rPr>
              <a:t>Innovazione con benefici ambientali: posizionamento </a:t>
            </a:r>
            <a:br>
              <a:rPr sz="2200"/>
            </a:br>
            <a:r>
              <a:rPr b="1" lang="it-IT" sz="2200" spc="-1" strike="noStrike">
                <a:solidFill>
                  <a:srgbClr val="333399"/>
                </a:solidFill>
                <a:latin typeface="Arial"/>
              </a:rPr>
              <a:t>della chimica italia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557280" y="1152360"/>
            <a:ext cx="8456400" cy="0"/>
          </a:xfrm>
          <a:prstGeom prst="line">
            <a:avLst/>
          </a:prstGeom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5292720" y="2576520"/>
            <a:ext cx="9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5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453960" y="2576520"/>
            <a:ext cx="318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333399"/>
                </a:solidFill>
                <a:latin typeface="Arial"/>
              </a:rPr>
              <a:t>Riduzione uso materie pr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5815080" y="620640"/>
            <a:ext cx="33098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Posizione su 50 </a:t>
            </a:r>
            <a:br>
              <a:rPr sz="1600"/>
            </a:b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settori di attività econom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4772520" y="6564240"/>
            <a:ext cx="43826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333399"/>
                </a:solidFill>
                <a:latin typeface="Arial"/>
              </a:rPr>
              <a:t>Fonte: </a:t>
            </a:r>
            <a:r>
              <a:rPr b="0" lang="it-IT" sz="1400" spc="-1" strike="noStrike">
                <a:solidFill>
                  <a:srgbClr val="333399"/>
                </a:solidFill>
                <a:latin typeface="Arial"/>
              </a:rPr>
              <a:t>Euro</a:t>
            </a:r>
            <a:r>
              <a:rPr b="0" sz="1400" spc="-1" strike="noStrike">
                <a:solidFill>
                  <a:srgbClr val="333399"/>
                </a:solidFill>
                <a:latin typeface="Arial"/>
              </a:rPr>
              <a:t>stat, Community Innovation Survey, </a:t>
            </a:r>
            <a:r>
              <a:rPr b="0" lang="it-IT" sz="1400" spc="-1" strike="noStrike">
                <a:solidFill>
                  <a:srgbClr val="333399"/>
                </a:solidFill>
                <a:latin typeface="Arial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5292720" y="3152880"/>
            <a:ext cx="9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4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453960" y="3152880"/>
            <a:ext cx="318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333399"/>
                </a:solidFill>
                <a:latin typeface="Arial"/>
              </a:rPr>
              <a:t>Riduzione uso energ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5292720" y="3790800"/>
            <a:ext cx="9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6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453960" y="3790800"/>
            <a:ext cx="3181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333399"/>
                </a:solidFill>
                <a:latin typeface="Arial"/>
              </a:rPr>
              <a:t>Riduzione emissioni CO</a:t>
            </a:r>
            <a:r>
              <a:rPr b="0" lang="it-IT" sz="1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5292720" y="2100240"/>
            <a:ext cx="9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2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453960" y="1995480"/>
            <a:ext cx="3714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333399"/>
                </a:solidFill>
                <a:latin typeface="Arial"/>
              </a:rPr>
              <a:t>Sostituzione materiali </a:t>
            </a:r>
            <a:br>
              <a:rPr sz="1400"/>
            </a:br>
            <a:r>
              <a:rPr b="0" lang="it-IT" sz="1400" spc="-1" strike="noStrike">
                <a:solidFill>
                  <a:srgbClr val="333399"/>
                </a:solidFill>
                <a:latin typeface="Arial"/>
              </a:rPr>
              <a:t>con meno pericolosi / eco-compatibi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5292720" y="1246320"/>
            <a:ext cx="9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1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453960" y="1138320"/>
            <a:ext cx="36385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333399"/>
                </a:solidFill>
                <a:latin typeface="Arial"/>
              </a:rPr>
              <a:t>Riduzione inquinamento</a:t>
            </a:r>
            <a:br>
              <a:rPr sz="1400"/>
            </a:br>
            <a:r>
              <a:rPr b="1" lang="it-IT" sz="1200" spc="-1" strike="noStrike">
                <a:solidFill>
                  <a:srgbClr val="333399"/>
                </a:solidFill>
                <a:latin typeface="Arial"/>
              </a:rPr>
              <a:t>(atmosferico, idrico, sonoro e del suolo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5292720" y="4626000"/>
            <a:ext cx="9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2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463680" y="4626000"/>
            <a:ext cx="37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333399"/>
                </a:solidFill>
                <a:latin typeface="Arial"/>
              </a:rPr>
              <a:t>Benefici per utilizzatori – uso energ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563400" y="5904000"/>
            <a:ext cx="8456760" cy="0"/>
          </a:xfrm>
          <a:prstGeom prst="line">
            <a:avLst/>
          </a:prstGeom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458640" y="6564240"/>
            <a:ext cx="37339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333399"/>
                </a:solidFill>
                <a:latin typeface="Arial"/>
              </a:rPr>
              <a:t>Not</a:t>
            </a:r>
            <a:r>
              <a:rPr b="0" sz="1400" spc="-1" strike="noStrike">
                <a:solidFill>
                  <a:srgbClr val="333399"/>
                </a:solidFill>
                <a:latin typeface="Arial"/>
              </a:rPr>
              <a:t>e: </a:t>
            </a:r>
            <a:r>
              <a:rPr b="0" lang="it-IT" sz="1400" spc="-1" strike="noStrike">
                <a:solidFill>
                  <a:srgbClr val="333399"/>
                </a:solidFill>
                <a:latin typeface="Arial"/>
              </a:rPr>
              <a:t>totale = imprese con più di 10 addett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5292720" y="5033880"/>
            <a:ext cx="9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2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5292720" y="5451480"/>
            <a:ext cx="9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2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573120" y="4564080"/>
            <a:ext cx="8456760" cy="0"/>
          </a:xfrm>
          <a:prstGeom prst="line">
            <a:avLst/>
          </a:prstGeom>
          <a:ln w="2232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463680" y="5033880"/>
            <a:ext cx="37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333399"/>
                </a:solidFill>
                <a:latin typeface="Arial"/>
              </a:rPr>
              <a:t>Benefici per utilizzatori – inquina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463680" y="5451480"/>
            <a:ext cx="37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333399"/>
                </a:solidFill>
                <a:latin typeface="Arial"/>
              </a:rPr>
              <a:t>Benefici per utilizzatori – riciclo dopo l’u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5292720" y="1660680"/>
            <a:ext cx="9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2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449280" y="1660680"/>
            <a:ext cx="4024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Riciclo rifiuti / acqua / materie prim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6254640" y="4592520"/>
            <a:ext cx="24242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99"/>
                </a:solidFill>
                <a:latin typeface="Arial"/>
              </a:rPr>
              <a:t>(1° = servizi di risanamento </a:t>
            </a:r>
            <a:br>
              <a:rPr sz="1200"/>
            </a:br>
            <a:r>
              <a:rPr b="1" lang="it-IT" sz="1200" spc="-1" strike="noStrike">
                <a:solidFill>
                  <a:srgbClr val="333399"/>
                </a:solidFill>
                <a:latin typeface="Arial"/>
              </a:rPr>
              <a:t>e gestione rifiut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6254640" y="5035680"/>
            <a:ext cx="24242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99"/>
                </a:solidFill>
                <a:latin typeface="Arial"/>
              </a:rPr>
              <a:t>(1° = servizi di risanamento </a:t>
            </a:r>
            <a:br>
              <a:rPr sz="1200"/>
            </a:br>
            <a:r>
              <a:rPr b="1" lang="it-IT" sz="1200" spc="-1" strike="noStrike">
                <a:solidFill>
                  <a:srgbClr val="333399"/>
                </a:solidFill>
                <a:latin typeface="Arial"/>
              </a:rPr>
              <a:t>e gestione rifiut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6254640" y="5481720"/>
            <a:ext cx="24242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99"/>
                </a:solidFill>
                <a:latin typeface="Arial"/>
              </a:rPr>
              <a:t>(1° = servizi di risanamento </a:t>
            </a:r>
            <a:br>
              <a:rPr sz="1200"/>
            </a:br>
            <a:r>
              <a:rPr b="1" lang="it-IT" sz="1200" spc="-1" strike="noStrike">
                <a:solidFill>
                  <a:srgbClr val="333399"/>
                </a:solidFill>
                <a:latin typeface="Arial"/>
              </a:rPr>
              <a:t>e gestione rifiut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6254640" y="1628640"/>
            <a:ext cx="24242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99"/>
                </a:solidFill>
                <a:latin typeface="Arial"/>
              </a:rPr>
              <a:t>(1° = servizi di risanamento </a:t>
            </a:r>
            <a:br>
              <a:rPr sz="1200"/>
            </a:br>
            <a:r>
              <a:rPr b="1" lang="it-IT" sz="1200" spc="-1" strike="noStrike">
                <a:solidFill>
                  <a:srgbClr val="333399"/>
                </a:solidFill>
                <a:latin typeface="Arial"/>
              </a:rPr>
              <a:t>e gestione rifiut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6254640" y="2093760"/>
            <a:ext cx="24242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99"/>
                </a:solidFill>
                <a:latin typeface="Arial"/>
              </a:rPr>
              <a:t>(1° = servizi di risanamento </a:t>
            </a:r>
            <a:br>
              <a:rPr sz="1200"/>
            </a:br>
            <a:r>
              <a:rPr b="1" lang="it-IT" sz="1200" spc="-1" strike="noStrike">
                <a:solidFill>
                  <a:srgbClr val="333399"/>
                </a:solidFill>
                <a:latin typeface="Arial"/>
              </a:rPr>
              <a:t>e gestione rifiut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6254640" y="3790800"/>
            <a:ext cx="27720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99"/>
                </a:solidFill>
                <a:latin typeface="Arial"/>
              </a:rPr>
              <a:t>(1° = servizi di risanamento </a:t>
            </a:r>
            <a:br>
              <a:rPr sz="1200"/>
            </a:br>
            <a:r>
              <a:rPr b="1" lang="it-IT" sz="1200" spc="-1" strike="noStrike">
                <a:solidFill>
                  <a:srgbClr val="333399"/>
                </a:solidFill>
                <a:latin typeface="Arial"/>
              </a:rPr>
              <a:t>e gestione rifiuti; 2° = farmaceutica; 3° = metallurgia; 4° petrolifero; </a:t>
            </a:r>
            <a:br>
              <a:rPr sz="1200"/>
            </a:br>
            <a:r>
              <a:rPr b="1" lang="it-IT" sz="1200" spc="-1" strike="noStrike">
                <a:solidFill>
                  <a:srgbClr val="333399"/>
                </a:solidFill>
                <a:latin typeface="Arial"/>
              </a:rPr>
              <a:t>5° alimenta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3348000" y="333360"/>
            <a:ext cx="529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333399"/>
                </a:solidFill>
                <a:latin typeface="Arial"/>
              </a:rPr>
              <a:t>(in base alla % di imprese innovative a favore dell’ambien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6264360" y="3174840"/>
            <a:ext cx="277164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99"/>
                </a:solidFill>
                <a:latin typeface="Arial"/>
              </a:rPr>
              <a:t>(1° = servizi di risanamento </a:t>
            </a:r>
            <a:br>
              <a:rPr sz="1200"/>
            </a:br>
            <a:r>
              <a:rPr b="1" lang="it-IT" sz="1200" spc="-1" strike="noStrike">
                <a:solidFill>
                  <a:srgbClr val="333399"/>
                </a:solidFill>
                <a:latin typeface="Arial"/>
              </a:rPr>
              <a:t>e gestione rifiuti; 2° = farmaceutica; 3° = metallurgia;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6283440" y="2576520"/>
            <a:ext cx="277164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99"/>
                </a:solidFill>
                <a:latin typeface="Arial"/>
              </a:rPr>
              <a:t>(1° = servizi di risanamento </a:t>
            </a:r>
            <a:br>
              <a:rPr sz="1200"/>
            </a:br>
            <a:r>
              <a:rPr b="1" lang="it-IT" sz="1200" spc="-1" strike="noStrike">
                <a:solidFill>
                  <a:srgbClr val="333399"/>
                </a:solidFill>
                <a:latin typeface="Arial"/>
              </a:rPr>
              <a:t>e gestione rifiuti; 2° = automotive; 3° = farmaceutica; 4° petrolife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 rot="16435200">
            <a:off x="509400" y="6077880"/>
            <a:ext cx="430200" cy="287280"/>
          </a:xfrm>
          <a:custGeom>
            <a:avLst/>
            <a:gdLst/>
            <a:ahLst/>
            <a:rect l="l" t="t" r="r" b="b"/>
            <a:pathLst>
              <a:path w="1214" h="753">
                <a:moveTo>
                  <a:pt x="0" y="285"/>
                </a:moveTo>
                <a:lnTo>
                  <a:pt x="0" y="285"/>
                </a:lnTo>
                <a:lnTo>
                  <a:pt x="99" y="360"/>
                </a:lnTo>
                <a:lnTo>
                  <a:pt x="115" y="352"/>
                </a:lnTo>
                <a:lnTo>
                  <a:pt x="134" y="390"/>
                </a:lnTo>
                <a:lnTo>
                  <a:pt x="196" y="417"/>
                </a:lnTo>
                <a:lnTo>
                  <a:pt x="232" y="461"/>
                </a:lnTo>
                <a:lnTo>
                  <a:pt x="304" y="501"/>
                </a:lnTo>
                <a:lnTo>
                  <a:pt x="362" y="556"/>
                </a:lnTo>
                <a:lnTo>
                  <a:pt x="396" y="565"/>
                </a:lnTo>
                <a:lnTo>
                  <a:pt x="420" y="536"/>
                </a:lnTo>
                <a:lnTo>
                  <a:pt x="432" y="564"/>
                </a:lnTo>
                <a:lnTo>
                  <a:pt x="424" y="597"/>
                </a:lnTo>
                <a:lnTo>
                  <a:pt x="504" y="668"/>
                </a:lnTo>
                <a:lnTo>
                  <a:pt x="553" y="677"/>
                </a:lnTo>
                <a:lnTo>
                  <a:pt x="611" y="728"/>
                </a:lnTo>
                <a:lnTo>
                  <a:pt x="629" y="752"/>
                </a:lnTo>
                <a:lnTo>
                  <a:pt x="662" y="744"/>
                </a:lnTo>
                <a:lnTo>
                  <a:pt x="682" y="715"/>
                </a:lnTo>
                <a:lnTo>
                  <a:pt x="758" y="673"/>
                </a:lnTo>
                <a:lnTo>
                  <a:pt x="826" y="593"/>
                </a:lnTo>
                <a:lnTo>
                  <a:pt x="938" y="501"/>
                </a:lnTo>
                <a:lnTo>
                  <a:pt x="999" y="431"/>
                </a:lnTo>
                <a:lnTo>
                  <a:pt x="1051" y="363"/>
                </a:lnTo>
                <a:lnTo>
                  <a:pt x="1077" y="373"/>
                </a:lnTo>
                <a:lnTo>
                  <a:pt x="1110" y="340"/>
                </a:lnTo>
                <a:lnTo>
                  <a:pt x="1108" y="288"/>
                </a:lnTo>
                <a:lnTo>
                  <a:pt x="1130" y="308"/>
                </a:lnTo>
                <a:lnTo>
                  <a:pt x="1159" y="288"/>
                </a:lnTo>
                <a:lnTo>
                  <a:pt x="1153" y="272"/>
                </a:lnTo>
                <a:lnTo>
                  <a:pt x="1184" y="274"/>
                </a:lnTo>
                <a:lnTo>
                  <a:pt x="1213" y="248"/>
                </a:lnTo>
                <a:lnTo>
                  <a:pt x="1139" y="240"/>
                </a:lnTo>
                <a:lnTo>
                  <a:pt x="1127" y="262"/>
                </a:lnTo>
                <a:lnTo>
                  <a:pt x="1106" y="255"/>
                </a:lnTo>
                <a:lnTo>
                  <a:pt x="1016" y="258"/>
                </a:lnTo>
                <a:lnTo>
                  <a:pt x="992" y="284"/>
                </a:lnTo>
                <a:lnTo>
                  <a:pt x="956" y="267"/>
                </a:lnTo>
                <a:lnTo>
                  <a:pt x="912" y="255"/>
                </a:lnTo>
                <a:lnTo>
                  <a:pt x="880" y="276"/>
                </a:lnTo>
                <a:lnTo>
                  <a:pt x="816" y="308"/>
                </a:lnTo>
                <a:lnTo>
                  <a:pt x="842" y="286"/>
                </a:lnTo>
                <a:lnTo>
                  <a:pt x="911" y="209"/>
                </a:lnTo>
                <a:lnTo>
                  <a:pt x="912" y="176"/>
                </a:lnTo>
                <a:lnTo>
                  <a:pt x="871" y="204"/>
                </a:lnTo>
                <a:lnTo>
                  <a:pt x="851" y="228"/>
                </a:lnTo>
                <a:lnTo>
                  <a:pt x="854" y="196"/>
                </a:lnTo>
                <a:lnTo>
                  <a:pt x="898" y="124"/>
                </a:lnTo>
                <a:lnTo>
                  <a:pt x="897" y="28"/>
                </a:lnTo>
                <a:lnTo>
                  <a:pt x="887" y="0"/>
                </a:lnTo>
                <a:lnTo>
                  <a:pt x="793" y="3"/>
                </a:lnTo>
                <a:lnTo>
                  <a:pt x="737" y="16"/>
                </a:lnTo>
                <a:lnTo>
                  <a:pt x="613" y="10"/>
                </a:lnTo>
                <a:lnTo>
                  <a:pt x="557" y="19"/>
                </a:lnTo>
                <a:lnTo>
                  <a:pt x="450" y="15"/>
                </a:lnTo>
                <a:lnTo>
                  <a:pt x="408" y="24"/>
                </a:lnTo>
                <a:lnTo>
                  <a:pt x="452" y="57"/>
                </a:lnTo>
                <a:lnTo>
                  <a:pt x="436" y="68"/>
                </a:lnTo>
                <a:lnTo>
                  <a:pt x="391" y="41"/>
                </a:lnTo>
                <a:lnTo>
                  <a:pt x="366" y="42"/>
                </a:lnTo>
                <a:lnTo>
                  <a:pt x="347" y="19"/>
                </a:lnTo>
                <a:lnTo>
                  <a:pt x="292" y="24"/>
                </a:lnTo>
                <a:lnTo>
                  <a:pt x="282" y="63"/>
                </a:lnTo>
                <a:lnTo>
                  <a:pt x="297" y="126"/>
                </a:lnTo>
                <a:lnTo>
                  <a:pt x="297" y="226"/>
                </a:lnTo>
                <a:lnTo>
                  <a:pt x="299" y="264"/>
                </a:lnTo>
                <a:lnTo>
                  <a:pt x="262" y="276"/>
                </a:lnTo>
                <a:lnTo>
                  <a:pt x="192" y="264"/>
                </a:lnTo>
                <a:lnTo>
                  <a:pt x="124" y="277"/>
                </a:lnTo>
                <a:lnTo>
                  <a:pt x="72" y="272"/>
                </a:lnTo>
                <a:lnTo>
                  <a:pt x="65" y="297"/>
                </a:lnTo>
                <a:lnTo>
                  <a:pt x="53" y="291"/>
                </a:lnTo>
                <a:lnTo>
                  <a:pt x="39" y="273"/>
                </a:lnTo>
                <a:lnTo>
                  <a:pt x="3" y="271"/>
                </a:lnTo>
                <a:lnTo>
                  <a:pt x="0" y="285"/>
                </a:lnTo>
                <a:lnTo>
                  <a:pt x="0" y="285"/>
                </a:lnTo>
              </a:path>
            </a:pathLst>
          </a:custGeom>
          <a:solidFill>
            <a:srgbClr val="cc330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895320" y="5949360"/>
            <a:ext cx="824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Arial Narrow"/>
              </a:rPr>
              <a:t>La chimica italiana si posiziona sempre ai primi posti, anche in termini </a:t>
            </a:r>
            <a:br>
              <a:rPr sz="2000"/>
            </a:br>
            <a:r>
              <a:rPr b="1" lang="it-IT" sz="2000" spc="-1" strike="noStrike">
                <a:solidFill>
                  <a:srgbClr val="333399"/>
                </a:solidFill>
                <a:latin typeface="Arial Narrow"/>
              </a:rPr>
              <a:t>di benefici ambientali per gli utilizzatori (ruolo di “solution provider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3564000" y="620640"/>
            <a:ext cx="21016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Posizione su 22</a:t>
            </a:r>
            <a:br>
              <a:rPr sz="1600"/>
            </a:b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settori industria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3672000" y="2560680"/>
            <a:ext cx="9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4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3672000" y="3137040"/>
            <a:ext cx="9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3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3672000" y="3774960"/>
            <a:ext cx="9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5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3672000" y="2084400"/>
            <a:ext cx="9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1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3672000" y="1230480"/>
            <a:ext cx="9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1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3672000" y="4610160"/>
            <a:ext cx="9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1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3672000" y="5018040"/>
            <a:ext cx="9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1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3672000" y="5435640"/>
            <a:ext cx="9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1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3672000" y="1644480"/>
            <a:ext cx="9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1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466560" y="-17640"/>
            <a:ext cx="86774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Arial"/>
              </a:rPr>
              <a:t>Innovazione con benefici ambientali </a:t>
            </a:r>
            <a:br>
              <a:rPr sz="2400"/>
            </a:br>
            <a:r>
              <a:rPr b="1" lang="it-IT" sz="2400" spc="-1" strike="noStrike">
                <a:solidFill>
                  <a:srgbClr val="333399"/>
                </a:solidFill>
                <a:latin typeface="Arial"/>
              </a:rPr>
              <a:t>nell’industria chimica europea </a:t>
            </a: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(% imprese innovative)</a:t>
            </a:r>
            <a:r>
              <a:rPr b="1" lang="it-IT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565200" y="1123920"/>
            <a:ext cx="8456400" cy="0"/>
          </a:xfrm>
          <a:prstGeom prst="line">
            <a:avLst/>
          </a:prstGeom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4289400" y="2604960"/>
            <a:ext cx="900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20,3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8029440" y="260496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40,6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638280" y="2604960"/>
            <a:ext cx="3181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Riduzione uso materie prim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933480" y="6564240"/>
            <a:ext cx="479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333399"/>
                </a:solidFill>
                <a:latin typeface="Arial"/>
              </a:rPr>
              <a:t>UE = Germania, Francia, Italia, Paesi Bassi, Belgi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4486320" y="814320"/>
            <a:ext cx="647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333399"/>
                </a:solidFill>
                <a:latin typeface="Arial"/>
              </a:rPr>
              <a:t>Ital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885080" y="814320"/>
            <a:ext cx="1440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333399"/>
                </a:solidFill>
                <a:latin typeface="Arial"/>
              </a:rPr>
              <a:t>Europ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6093360" y="6342120"/>
            <a:ext cx="3059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333399"/>
                </a:solidFill>
                <a:latin typeface="Arial"/>
              </a:rPr>
              <a:t>Fonte: </a:t>
            </a:r>
            <a:r>
              <a:rPr b="0" lang="it-IT" sz="1400" spc="-1" strike="noStrike">
                <a:solidFill>
                  <a:srgbClr val="333399"/>
                </a:solidFill>
                <a:latin typeface="Arial"/>
              </a:rPr>
              <a:t>Euro</a:t>
            </a:r>
            <a:r>
              <a:rPr b="0" sz="1400" spc="-1" strike="noStrike">
                <a:solidFill>
                  <a:srgbClr val="333399"/>
                </a:solidFill>
                <a:latin typeface="Arial"/>
              </a:rPr>
              <a:t>stat, </a:t>
            </a:r>
            <a:br>
              <a:rPr sz="1400"/>
            </a:br>
            <a:r>
              <a:rPr b="0" sz="1400" spc="-1" strike="noStrike">
                <a:solidFill>
                  <a:srgbClr val="333399"/>
                </a:solidFill>
                <a:latin typeface="Arial"/>
              </a:rPr>
              <a:t>Community Innovation Survey, </a:t>
            </a:r>
            <a:r>
              <a:rPr b="0" lang="it-IT" sz="1400" spc="-1" strike="noStrike">
                <a:solidFill>
                  <a:srgbClr val="333399"/>
                </a:solidFill>
                <a:latin typeface="Arial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4289400" y="2971800"/>
            <a:ext cx="900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24,4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029440" y="297180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44,6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638280" y="2971800"/>
            <a:ext cx="3181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Riduzione uso energ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4289400" y="3357720"/>
            <a:ext cx="900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13,6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638280" y="3357720"/>
            <a:ext cx="3181320" cy="3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Riduzione emissioni CO</a:t>
            </a:r>
            <a:r>
              <a:rPr b="0" lang="it-IT" sz="15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4289400" y="2119320"/>
            <a:ext cx="900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27,2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8029440" y="335772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33,9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638280" y="2014560"/>
            <a:ext cx="37144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Sostituzione materiali </a:t>
            </a:r>
            <a:br>
              <a:rPr sz="1500"/>
            </a:b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con meno pericolosi / eco-compatibil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4289400" y="1201680"/>
            <a:ext cx="900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37,4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8029440" y="211932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44,5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638280" y="1130400"/>
            <a:ext cx="36385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Riduzione inquinamento</a:t>
            </a:r>
            <a:br>
              <a:rPr sz="1500"/>
            </a:b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(atmosferico, idrico, sonoro e del suolo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8026560" y="120168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51,6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4299120" y="3759120"/>
            <a:ext cx="900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27,2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039160" y="375912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40,5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647640" y="3759120"/>
            <a:ext cx="3781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Benefici per utilizzatori – uso energ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571680" y="4869000"/>
            <a:ext cx="8456400" cy="0"/>
          </a:xfrm>
          <a:prstGeom prst="line">
            <a:avLst/>
          </a:prstGeom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476280" y="6311880"/>
            <a:ext cx="362088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333399"/>
                </a:solidFill>
                <a:latin typeface="Arial"/>
              </a:rPr>
              <a:t>Not</a:t>
            </a:r>
            <a:r>
              <a:rPr b="0" sz="1400" spc="-1" strike="noStrike">
                <a:solidFill>
                  <a:srgbClr val="333399"/>
                </a:solidFill>
                <a:latin typeface="Arial"/>
              </a:rPr>
              <a:t>e: </a:t>
            </a:r>
            <a:r>
              <a:rPr b="0" lang="it-IT" sz="1400" spc="-1" strike="noStrike">
                <a:solidFill>
                  <a:srgbClr val="333399"/>
                </a:solidFill>
                <a:latin typeface="Arial"/>
              </a:rPr>
              <a:t>totale = imprese con più di 10 addett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4295880" y="4119480"/>
            <a:ext cx="900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28,8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8035920" y="411948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42,2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4299120" y="4518000"/>
            <a:ext cx="900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33,4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8039160" y="451800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38,6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581040" y="3716280"/>
            <a:ext cx="8456760" cy="0"/>
          </a:xfrm>
          <a:prstGeom prst="line">
            <a:avLst/>
          </a:prstGeom>
          <a:ln w="2232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647640" y="4119480"/>
            <a:ext cx="3781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Benefici per utilizzatori – inquinament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647640" y="4508640"/>
            <a:ext cx="4238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Benefici per utilizzatori – riciclo dopo l’us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4284720" y="1674720"/>
            <a:ext cx="900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34,4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633240" y="1674720"/>
            <a:ext cx="4024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Riciclo rifiuti / acqua / materie prim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8021520" y="167472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50,1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5445000" y="260496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33,5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5445000" y="297180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34,4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5445000" y="335772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25,4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5445000" y="211932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41,7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5442120" y="120168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46,6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5454720" y="375912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30,6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5451480" y="411948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34,6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5454720" y="451800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36,2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5437080" y="167472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44,5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5218200" y="630360"/>
            <a:ext cx="1658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333399"/>
                </a:solidFill>
                <a:latin typeface="Arial"/>
              </a:rPr>
              <a:t>Europa </a:t>
            </a:r>
            <a:br>
              <a:rPr sz="1500"/>
            </a:br>
            <a:r>
              <a:rPr b="1" lang="it-IT" sz="1500" spc="-1" strike="noStrike">
                <a:solidFill>
                  <a:srgbClr val="333399"/>
                </a:solidFill>
                <a:latin typeface="Arial"/>
              </a:rPr>
              <a:t>escl. German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 rot="16435200">
            <a:off x="475920" y="5728320"/>
            <a:ext cx="430200" cy="287640"/>
          </a:xfrm>
          <a:custGeom>
            <a:avLst/>
            <a:gdLst/>
            <a:ahLst/>
            <a:rect l="l" t="t" r="r" b="b"/>
            <a:pathLst>
              <a:path w="1214" h="753">
                <a:moveTo>
                  <a:pt x="0" y="285"/>
                </a:moveTo>
                <a:lnTo>
                  <a:pt x="0" y="285"/>
                </a:lnTo>
                <a:lnTo>
                  <a:pt x="99" y="360"/>
                </a:lnTo>
                <a:lnTo>
                  <a:pt x="115" y="352"/>
                </a:lnTo>
                <a:lnTo>
                  <a:pt x="134" y="390"/>
                </a:lnTo>
                <a:lnTo>
                  <a:pt x="196" y="417"/>
                </a:lnTo>
                <a:lnTo>
                  <a:pt x="232" y="461"/>
                </a:lnTo>
                <a:lnTo>
                  <a:pt x="304" y="501"/>
                </a:lnTo>
                <a:lnTo>
                  <a:pt x="362" y="556"/>
                </a:lnTo>
                <a:lnTo>
                  <a:pt x="396" y="565"/>
                </a:lnTo>
                <a:lnTo>
                  <a:pt x="420" y="536"/>
                </a:lnTo>
                <a:lnTo>
                  <a:pt x="432" y="564"/>
                </a:lnTo>
                <a:lnTo>
                  <a:pt x="424" y="597"/>
                </a:lnTo>
                <a:lnTo>
                  <a:pt x="504" y="668"/>
                </a:lnTo>
                <a:lnTo>
                  <a:pt x="553" y="677"/>
                </a:lnTo>
                <a:lnTo>
                  <a:pt x="611" y="728"/>
                </a:lnTo>
                <a:lnTo>
                  <a:pt x="629" y="752"/>
                </a:lnTo>
                <a:lnTo>
                  <a:pt x="662" y="744"/>
                </a:lnTo>
                <a:lnTo>
                  <a:pt x="682" y="715"/>
                </a:lnTo>
                <a:lnTo>
                  <a:pt x="758" y="673"/>
                </a:lnTo>
                <a:lnTo>
                  <a:pt x="826" y="593"/>
                </a:lnTo>
                <a:lnTo>
                  <a:pt x="938" y="501"/>
                </a:lnTo>
                <a:lnTo>
                  <a:pt x="999" y="431"/>
                </a:lnTo>
                <a:lnTo>
                  <a:pt x="1051" y="363"/>
                </a:lnTo>
                <a:lnTo>
                  <a:pt x="1077" y="373"/>
                </a:lnTo>
                <a:lnTo>
                  <a:pt x="1110" y="340"/>
                </a:lnTo>
                <a:lnTo>
                  <a:pt x="1108" y="288"/>
                </a:lnTo>
                <a:lnTo>
                  <a:pt x="1130" y="308"/>
                </a:lnTo>
                <a:lnTo>
                  <a:pt x="1159" y="288"/>
                </a:lnTo>
                <a:lnTo>
                  <a:pt x="1153" y="272"/>
                </a:lnTo>
                <a:lnTo>
                  <a:pt x="1184" y="274"/>
                </a:lnTo>
                <a:lnTo>
                  <a:pt x="1213" y="248"/>
                </a:lnTo>
                <a:lnTo>
                  <a:pt x="1139" y="240"/>
                </a:lnTo>
                <a:lnTo>
                  <a:pt x="1127" y="262"/>
                </a:lnTo>
                <a:lnTo>
                  <a:pt x="1106" y="255"/>
                </a:lnTo>
                <a:lnTo>
                  <a:pt x="1016" y="258"/>
                </a:lnTo>
                <a:lnTo>
                  <a:pt x="992" y="284"/>
                </a:lnTo>
                <a:lnTo>
                  <a:pt x="956" y="267"/>
                </a:lnTo>
                <a:lnTo>
                  <a:pt x="912" y="255"/>
                </a:lnTo>
                <a:lnTo>
                  <a:pt x="880" y="276"/>
                </a:lnTo>
                <a:lnTo>
                  <a:pt x="816" y="308"/>
                </a:lnTo>
                <a:lnTo>
                  <a:pt x="842" y="286"/>
                </a:lnTo>
                <a:lnTo>
                  <a:pt x="911" y="209"/>
                </a:lnTo>
                <a:lnTo>
                  <a:pt x="912" y="176"/>
                </a:lnTo>
                <a:lnTo>
                  <a:pt x="871" y="204"/>
                </a:lnTo>
                <a:lnTo>
                  <a:pt x="851" y="228"/>
                </a:lnTo>
                <a:lnTo>
                  <a:pt x="854" y="196"/>
                </a:lnTo>
                <a:lnTo>
                  <a:pt x="898" y="124"/>
                </a:lnTo>
                <a:lnTo>
                  <a:pt x="897" y="28"/>
                </a:lnTo>
                <a:lnTo>
                  <a:pt x="887" y="0"/>
                </a:lnTo>
                <a:lnTo>
                  <a:pt x="793" y="3"/>
                </a:lnTo>
                <a:lnTo>
                  <a:pt x="737" y="16"/>
                </a:lnTo>
                <a:lnTo>
                  <a:pt x="613" y="10"/>
                </a:lnTo>
                <a:lnTo>
                  <a:pt x="557" y="19"/>
                </a:lnTo>
                <a:lnTo>
                  <a:pt x="450" y="15"/>
                </a:lnTo>
                <a:lnTo>
                  <a:pt x="408" y="24"/>
                </a:lnTo>
                <a:lnTo>
                  <a:pt x="452" y="57"/>
                </a:lnTo>
                <a:lnTo>
                  <a:pt x="436" y="68"/>
                </a:lnTo>
                <a:lnTo>
                  <a:pt x="391" y="41"/>
                </a:lnTo>
                <a:lnTo>
                  <a:pt x="366" y="42"/>
                </a:lnTo>
                <a:lnTo>
                  <a:pt x="347" y="19"/>
                </a:lnTo>
                <a:lnTo>
                  <a:pt x="292" y="24"/>
                </a:lnTo>
                <a:lnTo>
                  <a:pt x="282" y="63"/>
                </a:lnTo>
                <a:lnTo>
                  <a:pt x="297" y="126"/>
                </a:lnTo>
                <a:lnTo>
                  <a:pt x="297" y="226"/>
                </a:lnTo>
                <a:lnTo>
                  <a:pt x="299" y="264"/>
                </a:lnTo>
                <a:lnTo>
                  <a:pt x="262" y="276"/>
                </a:lnTo>
                <a:lnTo>
                  <a:pt x="192" y="264"/>
                </a:lnTo>
                <a:lnTo>
                  <a:pt x="124" y="277"/>
                </a:lnTo>
                <a:lnTo>
                  <a:pt x="72" y="272"/>
                </a:lnTo>
                <a:lnTo>
                  <a:pt x="65" y="297"/>
                </a:lnTo>
                <a:lnTo>
                  <a:pt x="53" y="291"/>
                </a:lnTo>
                <a:lnTo>
                  <a:pt x="39" y="273"/>
                </a:lnTo>
                <a:lnTo>
                  <a:pt x="3" y="271"/>
                </a:lnTo>
                <a:lnTo>
                  <a:pt x="0" y="285"/>
                </a:lnTo>
                <a:lnTo>
                  <a:pt x="0" y="285"/>
                </a:lnTo>
              </a:path>
            </a:pathLst>
          </a:custGeom>
          <a:solidFill>
            <a:srgbClr val="cc330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 rot="16435200">
            <a:off x="475920" y="5041080"/>
            <a:ext cx="430200" cy="287640"/>
          </a:xfrm>
          <a:custGeom>
            <a:avLst/>
            <a:gdLst/>
            <a:ahLst/>
            <a:rect l="l" t="t" r="r" b="b"/>
            <a:pathLst>
              <a:path w="1214" h="753">
                <a:moveTo>
                  <a:pt x="0" y="285"/>
                </a:moveTo>
                <a:lnTo>
                  <a:pt x="0" y="285"/>
                </a:lnTo>
                <a:lnTo>
                  <a:pt x="99" y="360"/>
                </a:lnTo>
                <a:lnTo>
                  <a:pt x="115" y="352"/>
                </a:lnTo>
                <a:lnTo>
                  <a:pt x="134" y="390"/>
                </a:lnTo>
                <a:lnTo>
                  <a:pt x="196" y="417"/>
                </a:lnTo>
                <a:lnTo>
                  <a:pt x="232" y="461"/>
                </a:lnTo>
                <a:lnTo>
                  <a:pt x="304" y="501"/>
                </a:lnTo>
                <a:lnTo>
                  <a:pt x="362" y="556"/>
                </a:lnTo>
                <a:lnTo>
                  <a:pt x="396" y="565"/>
                </a:lnTo>
                <a:lnTo>
                  <a:pt x="420" y="536"/>
                </a:lnTo>
                <a:lnTo>
                  <a:pt x="432" y="564"/>
                </a:lnTo>
                <a:lnTo>
                  <a:pt x="424" y="597"/>
                </a:lnTo>
                <a:lnTo>
                  <a:pt x="504" y="668"/>
                </a:lnTo>
                <a:lnTo>
                  <a:pt x="553" y="677"/>
                </a:lnTo>
                <a:lnTo>
                  <a:pt x="611" y="728"/>
                </a:lnTo>
                <a:lnTo>
                  <a:pt x="629" y="752"/>
                </a:lnTo>
                <a:lnTo>
                  <a:pt x="662" y="744"/>
                </a:lnTo>
                <a:lnTo>
                  <a:pt x="682" y="715"/>
                </a:lnTo>
                <a:lnTo>
                  <a:pt x="758" y="673"/>
                </a:lnTo>
                <a:lnTo>
                  <a:pt x="826" y="593"/>
                </a:lnTo>
                <a:lnTo>
                  <a:pt x="938" y="501"/>
                </a:lnTo>
                <a:lnTo>
                  <a:pt x="999" y="431"/>
                </a:lnTo>
                <a:lnTo>
                  <a:pt x="1051" y="363"/>
                </a:lnTo>
                <a:lnTo>
                  <a:pt x="1077" y="373"/>
                </a:lnTo>
                <a:lnTo>
                  <a:pt x="1110" y="340"/>
                </a:lnTo>
                <a:lnTo>
                  <a:pt x="1108" y="288"/>
                </a:lnTo>
                <a:lnTo>
                  <a:pt x="1130" y="308"/>
                </a:lnTo>
                <a:lnTo>
                  <a:pt x="1159" y="288"/>
                </a:lnTo>
                <a:lnTo>
                  <a:pt x="1153" y="272"/>
                </a:lnTo>
                <a:lnTo>
                  <a:pt x="1184" y="274"/>
                </a:lnTo>
                <a:lnTo>
                  <a:pt x="1213" y="248"/>
                </a:lnTo>
                <a:lnTo>
                  <a:pt x="1139" y="240"/>
                </a:lnTo>
                <a:lnTo>
                  <a:pt x="1127" y="262"/>
                </a:lnTo>
                <a:lnTo>
                  <a:pt x="1106" y="255"/>
                </a:lnTo>
                <a:lnTo>
                  <a:pt x="1016" y="258"/>
                </a:lnTo>
                <a:lnTo>
                  <a:pt x="992" y="284"/>
                </a:lnTo>
                <a:lnTo>
                  <a:pt x="956" y="267"/>
                </a:lnTo>
                <a:lnTo>
                  <a:pt x="912" y="255"/>
                </a:lnTo>
                <a:lnTo>
                  <a:pt x="880" y="276"/>
                </a:lnTo>
                <a:lnTo>
                  <a:pt x="816" y="308"/>
                </a:lnTo>
                <a:lnTo>
                  <a:pt x="842" y="286"/>
                </a:lnTo>
                <a:lnTo>
                  <a:pt x="911" y="209"/>
                </a:lnTo>
                <a:lnTo>
                  <a:pt x="912" y="176"/>
                </a:lnTo>
                <a:lnTo>
                  <a:pt x="871" y="204"/>
                </a:lnTo>
                <a:lnTo>
                  <a:pt x="851" y="228"/>
                </a:lnTo>
                <a:lnTo>
                  <a:pt x="854" y="196"/>
                </a:lnTo>
                <a:lnTo>
                  <a:pt x="898" y="124"/>
                </a:lnTo>
                <a:lnTo>
                  <a:pt x="897" y="28"/>
                </a:lnTo>
                <a:lnTo>
                  <a:pt x="887" y="0"/>
                </a:lnTo>
                <a:lnTo>
                  <a:pt x="793" y="3"/>
                </a:lnTo>
                <a:lnTo>
                  <a:pt x="737" y="16"/>
                </a:lnTo>
                <a:lnTo>
                  <a:pt x="613" y="10"/>
                </a:lnTo>
                <a:lnTo>
                  <a:pt x="557" y="19"/>
                </a:lnTo>
                <a:lnTo>
                  <a:pt x="450" y="15"/>
                </a:lnTo>
                <a:lnTo>
                  <a:pt x="408" y="24"/>
                </a:lnTo>
                <a:lnTo>
                  <a:pt x="452" y="57"/>
                </a:lnTo>
                <a:lnTo>
                  <a:pt x="436" y="68"/>
                </a:lnTo>
                <a:lnTo>
                  <a:pt x="391" y="41"/>
                </a:lnTo>
                <a:lnTo>
                  <a:pt x="366" y="42"/>
                </a:lnTo>
                <a:lnTo>
                  <a:pt x="347" y="19"/>
                </a:lnTo>
                <a:lnTo>
                  <a:pt x="292" y="24"/>
                </a:lnTo>
                <a:lnTo>
                  <a:pt x="282" y="63"/>
                </a:lnTo>
                <a:lnTo>
                  <a:pt x="297" y="126"/>
                </a:lnTo>
                <a:lnTo>
                  <a:pt x="297" y="226"/>
                </a:lnTo>
                <a:lnTo>
                  <a:pt x="299" y="264"/>
                </a:lnTo>
                <a:lnTo>
                  <a:pt x="262" y="276"/>
                </a:lnTo>
                <a:lnTo>
                  <a:pt x="192" y="264"/>
                </a:lnTo>
                <a:lnTo>
                  <a:pt x="124" y="277"/>
                </a:lnTo>
                <a:lnTo>
                  <a:pt x="72" y="272"/>
                </a:lnTo>
                <a:lnTo>
                  <a:pt x="65" y="297"/>
                </a:lnTo>
                <a:lnTo>
                  <a:pt x="53" y="291"/>
                </a:lnTo>
                <a:lnTo>
                  <a:pt x="39" y="273"/>
                </a:lnTo>
                <a:lnTo>
                  <a:pt x="3" y="271"/>
                </a:lnTo>
                <a:lnTo>
                  <a:pt x="0" y="285"/>
                </a:lnTo>
                <a:lnTo>
                  <a:pt x="0" y="285"/>
                </a:lnTo>
              </a:path>
            </a:pathLst>
          </a:custGeom>
          <a:solidFill>
            <a:srgbClr val="cc330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61840" y="4969800"/>
            <a:ext cx="82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Arial Narrow"/>
              </a:rPr>
              <a:t>Nella chimica italiana la diffusione di imprese con attività </a:t>
            </a:r>
            <a:br>
              <a:rPr sz="2000"/>
            </a:br>
            <a:r>
              <a:rPr b="1" lang="it-IT" sz="2000" spc="-1" strike="noStrike">
                <a:solidFill>
                  <a:srgbClr val="333399"/>
                </a:solidFill>
                <a:latin typeface="Arial Narrow"/>
              </a:rPr>
              <a:t>di innovazione caratterizzata da benefici ambientali è inferiore alla media europ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46000" y="5662080"/>
            <a:ext cx="829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Arial Narrow"/>
              </a:rPr>
              <a:t>Il divario è decisamente più contenuto con riferimento all’innovazione </a:t>
            </a:r>
            <a:br>
              <a:rPr sz="2000"/>
            </a:br>
            <a:r>
              <a:rPr b="1" lang="it-IT" sz="2000" spc="-1" strike="noStrike">
                <a:solidFill>
                  <a:srgbClr val="333399"/>
                </a:solidFill>
                <a:latin typeface="Arial Narrow"/>
              </a:rPr>
              <a:t>in campo ambientale con benefici per gli utilizzat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6804000" y="836640"/>
            <a:ext cx="136836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333399"/>
                </a:solidFill>
                <a:latin typeface="Arial"/>
              </a:rPr>
              <a:t>German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6918480" y="260028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53,0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6918480" y="296712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62,3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6918480" y="335268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48,7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6918480" y="211464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49,3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6915240" y="119700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60,4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6927840" y="375444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57,8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6924600" y="411480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55,4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6927840" y="451332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42,8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6910560" y="167004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59,9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"/>
          <p:cNvSpPr/>
          <p:nvPr/>
        </p:nvSpPr>
        <p:spPr>
          <a:xfrm>
            <a:off x="476280" y="44280"/>
            <a:ext cx="7912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Arial"/>
              </a:rPr>
              <a:t>Motivazioni dell’innovazione con benefici ambientali nell’industria chimica europea </a:t>
            </a:r>
            <a:br>
              <a:rPr sz="2400"/>
            </a:b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(% imprese innovative)</a:t>
            </a:r>
            <a:r>
              <a:rPr b="1" lang="it-IT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574560" y="1374840"/>
            <a:ext cx="8456760" cy="0"/>
          </a:xfrm>
          <a:prstGeom prst="line">
            <a:avLst/>
          </a:prstGeom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4071960" y="1531800"/>
            <a:ext cx="900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46,9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7956720" y="153180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43,0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628560" y="1411200"/>
            <a:ext cx="43434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Regolamentazione ambientale</a:t>
            </a:r>
            <a:br>
              <a:rPr sz="1500"/>
            </a:b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/ imposte sull’inquinamento già vigent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4295880" y="1058760"/>
            <a:ext cx="1166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333399"/>
                </a:solidFill>
                <a:latin typeface="Arial"/>
              </a:rPr>
              <a:t>Ital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7812000" y="1058760"/>
            <a:ext cx="1440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333399"/>
                </a:solidFill>
                <a:latin typeface="Arial"/>
              </a:rPr>
              <a:t>Europ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4071960" y="2935440"/>
            <a:ext cx="900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8,1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647640" y="2935440"/>
            <a:ext cx="36385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Agevolazioni e incentivi finanziar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7953480" y="293544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9,5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4081320" y="4237200"/>
            <a:ext cx="900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27,3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7966080" y="423720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30,3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657360" y="4111560"/>
            <a:ext cx="37814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Accordi volontari di promozione</a:t>
            </a:r>
            <a:br>
              <a:rPr sz="1500"/>
            </a:b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di buone pratiche ambiental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581040" y="4764240"/>
            <a:ext cx="8456760" cy="0"/>
          </a:xfrm>
          <a:prstGeom prst="line">
            <a:avLst/>
          </a:prstGeom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4067280" y="3500280"/>
            <a:ext cx="900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24,9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642960" y="3392640"/>
            <a:ext cx="40244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Domanda corrente / attesa </a:t>
            </a:r>
            <a:br>
              <a:rPr sz="1500"/>
            </a:b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di innovazioni eco-compatibil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7948440" y="350028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30,1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4071960" y="2370240"/>
            <a:ext cx="900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46,2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7956720" y="237024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41,2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628560" y="2049480"/>
            <a:ext cx="43434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Regolamentazione ambientale</a:t>
            </a:r>
            <a:br>
              <a:rPr sz="1500"/>
            </a:b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/ imposte sull’inquinamento </a:t>
            </a:r>
            <a:br>
              <a:rPr sz="1500"/>
            </a:b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di futura applicazion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 rot="16435200">
            <a:off x="514080" y="4939920"/>
            <a:ext cx="430200" cy="287280"/>
          </a:xfrm>
          <a:custGeom>
            <a:avLst/>
            <a:gdLst/>
            <a:ahLst/>
            <a:rect l="l" t="t" r="r" b="b"/>
            <a:pathLst>
              <a:path w="1214" h="753">
                <a:moveTo>
                  <a:pt x="0" y="285"/>
                </a:moveTo>
                <a:lnTo>
                  <a:pt x="0" y="285"/>
                </a:lnTo>
                <a:lnTo>
                  <a:pt x="99" y="360"/>
                </a:lnTo>
                <a:lnTo>
                  <a:pt x="115" y="352"/>
                </a:lnTo>
                <a:lnTo>
                  <a:pt x="134" y="390"/>
                </a:lnTo>
                <a:lnTo>
                  <a:pt x="196" y="417"/>
                </a:lnTo>
                <a:lnTo>
                  <a:pt x="232" y="461"/>
                </a:lnTo>
                <a:lnTo>
                  <a:pt x="304" y="501"/>
                </a:lnTo>
                <a:lnTo>
                  <a:pt x="362" y="556"/>
                </a:lnTo>
                <a:lnTo>
                  <a:pt x="396" y="565"/>
                </a:lnTo>
                <a:lnTo>
                  <a:pt x="420" y="536"/>
                </a:lnTo>
                <a:lnTo>
                  <a:pt x="432" y="564"/>
                </a:lnTo>
                <a:lnTo>
                  <a:pt x="424" y="597"/>
                </a:lnTo>
                <a:lnTo>
                  <a:pt x="504" y="668"/>
                </a:lnTo>
                <a:lnTo>
                  <a:pt x="553" y="677"/>
                </a:lnTo>
                <a:lnTo>
                  <a:pt x="611" y="728"/>
                </a:lnTo>
                <a:lnTo>
                  <a:pt x="629" y="752"/>
                </a:lnTo>
                <a:lnTo>
                  <a:pt x="662" y="744"/>
                </a:lnTo>
                <a:lnTo>
                  <a:pt x="682" y="715"/>
                </a:lnTo>
                <a:lnTo>
                  <a:pt x="758" y="673"/>
                </a:lnTo>
                <a:lnTo>
                  <a:pt x="826" y="593"/>
                </a:lnTo>
                <a:lnTo>
                  <a:pt x="938" y="501"/>
                </a:lnTo>
                <a:lnTo>
                  <a:pt x="999" y="431"/>
                </a:lnTo>
                <a:lnTo>
                  <a:pt x="1051" y="363"/>
                </a:lnTo>
                <a:lnTo>
                  <a:pt x="1077" y="373"/>
                </a:lnTo>
                <a:lnTo>
                  <a:pt x="1110" y="340"/>
                </a:lnTo>
                <a:lnTo>
                  <a:pt x="1108" y="288"/>
                </a:lnTo>
                <a:lnTo>
                  <a:pt x="1130" y="308"/>
                </a:lnTo>
                <a:lnTo>
                  <a:pt x="1159" y="288"/>
                </a:lnTo>
                <a:lnTo>
                  <a:pt x="1153" y="272"/>
                </a:lnTo>
                <a:lnTo>
                  <a:pt x="1184" y="274"/>
                </a:lnTo>
                <a:lnTo>
                  <a:pt x="1213" y="248"/>
                </a:lnTo>
                <a:lnTo>
                  <a:pt x="1139" y="240"/>
                </a:lnTo>
                <a:lnTo>
                  <a:pt x="1127" y="262"/>
                </a:lnTo>
                <a:lnTo>
                  <a:pt x="1106" y="255"/>
                </a:lnTo>
                <a:lnTo>
                  <a:pt x="1016" y="258"/>
                </a:lnTo>
                <a:lnTo>
                  <a:pt x="992" y="284"/>
                </a:lnTo>
                <a:lnTo>
                  <a:pt x="956" y="267"/>
                </a:lnTo>
                <a:lnTo>
                  <a:pt x="912" y="255"/>
                </a:lnTo>
                <a:lnTo>
                  <a:pt x="880" y="276"/>
                </a:lnTo>
                <a:lnTo>
                  <a:pt x="816" y="308"/>
                </a:lnTo>
                <a:lnTo>
                  <a:pt x="842" y="286"/>
                </a:lnTo>
                <a:lnTo>
                  <a:pt x="911" y="209"/>
                </a:lnTo>
                <a:lnTo>
                  <a:pt x="912" y="176"/>
                </a:lnTo>
                <a:lnTo>
                  <a:pt x="871" y="204"/>
                </a:lnTo>
                <a:lnTo>
                  <a:pt x="851" y="228"/>
                </a:lnTo>
                <a:lnTo>
                  <a:pt x="854" y="196"/>
                </a:lnTo>
                <a:lnTo>
                  <a:pt x="898" y="124"/>
                </a:lnTo>
                <a:lnTo>
                  <a:pt x="897" y="28"/>
                </a:lnTo>
                <a:lnTo>
                  <a:pt x="887" y="0"/>
                </a:lnTo>
                <a:lnTo>
                  <a:pt x="793" y="3"/>
                </a:lnTo>
                <a:lnTo>
                  <a:pt x="737" y="16"/>
                </a:lnTo>
                <a:lnTo>
                  <a:pt x="613" y="10"/>
                </a:lnTo>
                <a:lnTo>
                  <a:pt x="557" y="19"/>
                </a:lnTo>
                <a:lnTo>
                  <a:pt x="450" y="15"/>
                </a:lnTo>
                <a:lnTo>
                  <a:pt x="408" y="24"/>
                </a:lnTo>
                <a:lnTo>
                  <a:pt x="452" y="57"/>
                </a:lnTo>
                <a:lnTo>
                  <a:pt x="436" y="68"/>
                </a:lnTo>
                <a:lnTo>
                  <a:pt x="391" y="41"/>
                </a:lnTo>
                <a:lnTo>
                  <a:pt x="366" y="42"/>
                </a:lnTo>
                <a:lnTo>
                  <a:pt x="347" y="19"/>
                </a:lnTo>
                <a:lnTo>
                  <a:pt x="292" y="24"/>
                </a:lnTo>
                <a:lnTo>
                  <a:pt x="282" y="63"/>
                </a:lnTo>
                <a:lnTo>
                  <a:pt x="297" y="126"/>
                </a:lnTo>
                <a:lnTo>
                  <a:pt x="297" y="226"/>
                </a:lnTo>
                <a:lnTo>
                  <a:pt x="299" y="264"/>
                </a:lnTo>
                <a:lnTo>
                  <a:pt x="262" y="276"/>
                </a:lnTo>
                <a:lnTo>
                  <a:pt x="192" y="264"/>
                </a:lnTo>
                <a:lnTo>
                  <a:pt x="124" y="277"/>
                </a:lnTo>
                <a:lnTo>
                  <a:pt x="72" y="272"/>
                </a:lnTo>
                <a:lnTo>
                  <a:pt x="65" y="297"/>
                </a:lnTo>
                <a:lnTo>
                  <a:pt x="53" y="291"/>
                </a:lnTo>
                <a:lnTo>
                  <a:pt x="39" y="273"/>
                </a:lnTo>
                <a:lnTo>
                  <a:pt x="3" y="271"/>
                </a:lnTo>
                <a:lnTo>
                  <a:pt x="0" y="285"/>
                </a:lnTo>
                <a:lnTo>
                  <a:pt x="0" y="285"/>
                </a:lnTo>
              </a:path>
            </a:pathLst>
          </a:custGeom>
          <a:solidFill>
            <a:srgbClr val="cc330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900000" y="4874760"/>
            <a:ext cx="82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Arial Narrow"/>
              </a:rPr>
              <a:t>Pur rimanendo prevalente l’innovazione motivata dall’adeguamento a norme esistenti o future, rivestono un peso significativo anche motivazioni più proat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5003640" y="836640"/>
            <a:ext cx="17290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333399"/>
                </a:solidFill>
                <a:latin typeface="Arial"/>
              </a:rPr>
              <a:t>Europa </a:t>
            </a:r>
            <a:br>
              <a:rPr sz="1500"/>
            </a:br>
            <a:r>
              <a:rPr b="1" lang="it-IT" sz="1500" spc="-1" strike="noStrike">
                <a:solidFill>
                  <a:srgbClr val="333399"/>
                </a:solidFill>
                <a:latin typeface="Arial"/>
              </a:rPr>
              <a:t>escl. German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5315040" y="152388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47,4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5311800" y="292752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10,1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5324400" y="422928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33,2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5307120" y="349236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28,9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5315040" y="236232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43,9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933480" y="6564240"/>
            <a:ext cx="479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333399"/>
                </a:solidFill>
                <a:latin typeface="Arial"/>
              </a:rPr>
              <a:t>UE = Germania, Francia, Italia, Paesi Bassi, Belgi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6093360" y="6342120"/>
            <a:ext cx="3059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333399"/>
                </a:solidFill>
                <a:latin typeface="Arial"/>
              </a:rPr>
              <a:t>Fonte: </a:t>
            </a:r>
            <a:r>
              <a:rPr b="0" lang="it-IT" sz="1400" spc="-1" strike="noStrike">
                <a:solidFill>
                  <a:srgbClr val="333399"/>
                </a:solidFill>
                <a:latin typeface="Arial"/>
              </a:rPr>
              <a:t>Euro</a:t>
            </a:r>
            <a:r>
              <a:rPr b="0" sz="1400" spc="-1" strike="noStrike">
                <a:solidFill>
                  <a:srgbClr val="333399"/>
                </a:solidFill>
                <a:latin typeface="Arial"/>
              </a:rPr>
              <a:t>stat, </a:t>
            </a:r>
            <a:br>
              <a:rPr sz="1400"/>
            </a:br>
            <a:r>
              <a:rPr b="0" sz="1400" spc="-1" strike="noStrike">
                <a:solidFill>
                  <a:srgbClr val="333399"/>
                </a:solidFill>
                <a:latin typeface="Arial"/>
              </a:rPr>
              <a:t>Community Innovation Survey, </a:t>
            </a:r>
            <a:r>
              <a:rPr b="0" lang="it-IT" sz="1400" spc="-1" strike="noStrike">
                <a:solidFill>
                  <a:srgbClr val="333399"/>
                </a:solidFill>
                <a:latin typeface="Arial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476280" y="6311880"/>
            <a:ext cx="362088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333399"/>
                </a:solidFill>
                <a:latin typeface="Arial"/>
              </a:rPr>
              <a:t>Not</a:t>
            </a:r>
            <a:r>
              <a:rPr b="0" sz="1400" spc="-1" strike="noStrike">
                <a:solidFill>
                  <a:srgbClr val="333399"/>
                </a:solidFill>
                <a:latin typeface="Arial"/>
              </a:rPr>
              <a:t>e: </a:t>
            </a:r>
            <a:r>
              <a:rPr b="0" lang="it-IT" sz="1400" spc="-1" strike="noStrike">
                <a:solidFill>
                  <a:srgbClr val="333399"/>
                </a:solidFill>
                <a:latin typeface="Arial"/>
              </a:rPr>
              <a:t>totale = imprese con più di 10 addett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6659640" y="1042920"/>
            <a:ext cx="136836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333399"/>
                </a:solidFill>
                <a:latin typeface="Arial"/>
              </a:rPr>
              <a:t>German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6740640" y="152388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35,3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6737400" y="292752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8,4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6750000" y="422928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25,1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6732720" y="349236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32,3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6740640" y="2362320"/>
            <a:ext cx="97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36,4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 rot="16435200">
            <a:off x="515880" y="5731920"/>
            <a:ext cx="430200" cy="287280"/>
          </a:xfrm>
          <a:custGeom>
            <a:avLst/>
            <a:gdLst/>
            <a:ahLst/>
            <a:rect l="l" t="t" r="r" b="b"/>
            <a:pathLst>
              <a:path w="1214" h="753">
                <a:moveTo>
                  <a:pt x="0" y="285"/>
                </a:moveTo>
                <a:lnTo>
                  <a:pt x="0" y="285"/>
                </a:lnTo>
                <a:lnTo>
                  <a:pt x="99" y="360"/>
                </a:lnTo>
                <a:lnTo>
                  <a:pt x="115" y="352"/>
                </a:lnTo>
                <a:lnTo>
                  <a:pt x="134" y="390"/>
                </a:lnTo>
                <a:lnTo>
                  <a:pt x="196" y="417"/>
                </a:lnTo>
                <a:lnTo>
                  <a:pt x="232" y="461"/>
                </a:lnTo>
                <a:lnTo>
                  <a:pt x="304" y="501"/>
                </a:lnTo>
                <a:lnTo>
                  <a:pt x="362" y="556"/>
                </a:lnTo>
                <a:lnTo>
                  <a:pt x="396" y="565"/>
                </a:lnTo>
                <a:lnTo>
                  <a:pt x="420" y="536"/>
                </a:lnTo>
                <a:lnTo>
                  <a:pt x="432" y="564"/>
                </a:lnTo>
                <a:lnTo>
                  <a:pt x="424" y="597"/>
                </a:lnTo>
                <a:lnTo>
                  <a:pt x="504" y="668"/>
                </a:lnTo>
                <a:lnTo>
                  <a:pt x="553" y="677"/>
                </a:lnTo>
                <a:lnTo>
                  <a:pt x="611" y="728"/>
                </a:lnTo>
                <a:lnTo>
                  <a:pt x="629" y="752"/>
                </a:lnTo>
                <a:lnTo>
                  <a:pt x="662" y="744"/>
                </a:lnTo>
                <a:lnTo>
                  <a:pt x="682" y="715"/>
                </a:lnTo>
                <a:lnTo>
                  <a:pt x="758" y="673"/>
                </a:lnTo>
                <a:lnTo>
                  <a:pt x="826" y="593"/>
                </a:lnTo>
                <a:lnTo>
                  <a:pt x="938" y="501"/>
                </a:lnTo>
                <a:lnTo>
                  <a:pt x="999" y="431"/>
                </a:lnTo>
                <a:lnTo>
                  <a:pt x="1051" y="363"/>
                </a:lnTo>
                <a:lnTo>
                  <a:pt x="1077" y="373"/>
                </a:lnTo>
                <a:lnTo>
                  <a:pt x="1110" y="340"/>
                </a:lnTo>
                <a:lnTo>
                  <a:pt x="1108" y="288"/>
                </a:lnTo>
                <a:lnTo>
                  <a:pt x="1130" y="308"/>
                </a:lnTo>
                <a:lnTo>
                  <a:pt x="1159" y="288"/>
                </a:lnTo>
                <a:lnTo>
                  <a:pt x="1153" y="272"/>
                </a:lnTo>
                <a:lnTo>
                  <a:pt x="1184" y="274"/>
                </a:lnTo>
                <a:lnTo>
                  <a:pt x="1213" y="248"/>
                </a:lnTo>
                <a:lnTo>
                  <a:pt x="1139" y="240"/>
                </a:lnTo>
                <a:lnTo>
                  <a:pt x="1127" y="262"/>
                </a:lnTo>
                <a:lnTo>
                  <a:pt x="1106" y="255"/>
                </a:lnTo>
                <a:lnTo>
                  <a:pt x="1016" y="258"/>
                </a:lnTo>
                <a:lnTo>
                  <a:pt x="992" y="284"/>
                </a:lnTo>
                <a:lnTo>
                  <a:pt x="956" y="267"/>
                </a:lnTo>
                <a:lnTo>
                  <a:pt x="912" y="255"/>
                </a:lnTo>
                <a:lnTo>
                  <a:pt x="880" y="276"/>
                </a:lnTo>
                <a:lnTo>
                  <a:pt x="816" y="308"/>
                </a:lnTo>
                <a:lnTo>
                  <a:pt x="842" y="286"/>
                </a:lnTo>
                <a:lnTo>
                  <a:pt x="911" y="209"/>
                </a:lnTo>
                <a:lnTo>
                  <a:pt x="912" y="176"/>
                </a:lnTo>
                <a:lnTo>
                  <a:pt x="871" y="204"/>
                </a:lnTo>
                <a:lnTo>
                  <a:pt x="851" y="228"/>
                </a:lnTo>
                <a:lnTo>
                  <a:pt x="854" y="196"/>
                </a:lnTo>
                <a:lnTo>
                  <a:pt x="898" y="124"/>
                </a:lnTo>
                <a:lnTo>
                  <a:pt x="897" y="28"/>
                </a:lnTo>
                <a:lnTo>
                  <a:pt x="887" y="0"/>
                </a:lnTo>
                <a:lnTo>
                  <a:pt x="793" y="3"/>
                </a:lnTo>
                <a:lnTo>
                  <a:pt x="737" y="16"/>
                </a:lnTo>
                <a:lnTo>
                  <a:pt x="613" y="10"/>
                </a:lnTo>
                <a:lnTo>
                  <a:pt x="557" y="19"/>
                </a:lnTo>
                <a:lnTo>
                  <a:pt x="450" y="15"/>
                </a:lnTo>
                <a:lnTo>
                  <a:pt x="408" y="24"/>
                </a:lnTo>
                <a:lnTo>
                  <a:pt x="452" y="57"/>
                </a:lnTo>
                <a:lnTo>
                  <a:pt x="436" y="68"/>
                </a:lnTo>
                <a:lnTo>
                  <a:pt x="391" y="41"/>
                </a:lnTo>
                <a:lnTo>
                  <a:pt x="366" y="42"/>
                </a:lnTo>
                <a:lnTo>
                  <a:pt x="347" y="19"/>
                </a:lnTo>
                <a:lnTo>
                  <a:pt x="292" y="24"/>
                </a:lnTo>
                <a:lnTo>
                  <a:pt x="282" y="63"/>
                </a:lnTo>
                <a:lnTo>
                  <a:pt x="297" y="126"/>
                </a:lnTo>
                <a:lnTo>
                  <a:pt x="297" y="226"/>
                </a:lnTo>
                <a:lnTo>
                  <a:pt x="299" y="264"/>
                </a:lnTo>
                <a:lnTo>
                  <a:pt x="262" y="276"/>
                </a:lnTo>
                <a:lnTo>
                  <a:pt x="192" y="264"/>
                </a:lnTo>
                <a:lnTo>
                  <a:pt x="124" y="277"/>
                </a:lnTo>
                <a:lnTo>
                  <a:pt x="72" y="272"/>
                </a:lnTo>
                <a:lnTo>
                  <a:pt x="65" y="297"/>
                </a:lnTo>
                <a:lnTo>
                  <a:pt x="53" y="291"/>
                </a:lnTo>
                <a:lnTo>
                  <a:pt x="39" y="273"/>
                </a:lnTo>
                <a:lnTo>
                  <a:pt x="3" y="271"/>
                </a:lnTo>
                <a:lnTo>
                  <a:pt x="0" y="285"/>
                </a:lnTo>
                <a:lnTo>
                  <a:pt x="0" y="285"/>
                </a:lnTo>
              </a:path>
            </a:pathLst>
          </a:custGeom>
          <a:solidFill>
            <a:srgbClr val="cc330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901800" y="5666760"/>
            <a:ext cx="726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Arial Narrow"/>
              </a:rPr>
              <a:t>Il peso delle diverse motivazioni è abbastanza in linea </a:t>
            </a:r>
            <a:br>
              <a:rPr sz="2000"/>
            </a:br>
            <a:r>
              <a:rPr b="1" lang="it-IT" sz="2000" spc="-1" strike="noStrike">
                <a:solidFill>
                  <a:srgbClr val="333399"/>
                </a:solidFill>
                <a:latin typeface="Arial Narrow"/>
              </a:rPr>
              <a:t>tra chimica italiana ed europ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68360" y="-720"/>
            <a:ext cx="7750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Arial Narrow"/>
              </a:rPr>
              <a:t>Sintesi dei principali risultati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23720" y="476280"/>
            <a:ext cx="8745840" cy="0"/>
          </a:xfrm>
          <a:prstGeom prst="line">
            <a:avLst/>
          </a:prstGeom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03440" y="563040"/>
            <a:ext cx="83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Arial Narrow"/>
              </a:rPr>
              <a:t>L’industria chimica in Italia realizza spese di innovazione pari a 946 milioni </a:t>
            </a:r>
            <a:br>
              <a:rPr sz="2000"/>
            </a:br>
            <a:r>
              <a:rPr b="1" lang="it-IT" sz="2000" spc="-1" strike="noStrike">
                <a:solidFill>
                  <a:srgbClr val="333399"/>
                </a:solidFill>
                <a:latin typeface="Arial Narrow"/>
              </a:rPr>
              <a:t>di euro, di cui 567 milioni destinati alla ricerca intra-muros (anno 200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03440" y="1277640"/>
            <a:ext cx="832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Arial Narrow"/>
              </a:rPr>
              <a:t>Rispetto all’industria italiana in generale, nella chimica la ricerca assorbe </a:t>
            </a:r>
            <a:br>
              <a:rPr sz="2000"/>
            </a:br>
            <a:r>
              <a:rPr b="1" lang="it-IT" sz="2000" spc="-1" strike="noStrike">
                <a:solidFill>
                  <a:srgbClr val="333399"/>
                </a:solidFill>
                <a:latin typeface="Arial Narrow"/>
              </a:rPr>
              <a:t>la quota maggioritaria delle spese di innovazione (67%) mentre è </a:t>
            </a:r>
            <a:br>
              <a:rPr sz="2000"/>
            </a:br>
            <a:r>
              <a:rPr b="1" lang="it-IT" sz="2000" spc="-1" strike="noStrike">
                <a:solidFill>
                  <a:srgbClr val="333399"/>
                </a:solidFill>
                <a:latin typeface="Arial Narrow"/>
              </a:rPr>
              <a:t>molto meno rilevante l’innovazione da semplice acquisto di macchinari innovativ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3440" y="2309400"/>
            <a:ext cx="826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Arial Narrow"/>
              </a:rPr>
              <a:t>Se si considera l’intensità di ricerca (spesa) invece della diffusione (imprese), </a:t>
            </a:r>
            <a:br>
              <a:rPr sz="2000"/>
            </a:br>
            <a:r>
              <a:rPr b="1" lang="it-IT" sz="2000" spc="-1" strike="noStrike">
                <a:solidFill>
                  <a:srgbClr val="333399"/>
                </a:solidFill>
                <a:latin typeface="Arial Narrow"/>
              </a:rPr>
              <a:t>il divario della chimica italiana rispetto alla media europea risulta più ampio (quota sul fatturato inferiore del 21%) anche se meno drammatico rispetto </a:t>
            </a:r>
            <a:br>
              <a:rPr sz="2000"/>
            </a:br>
            <a:r>
              <a:rPr b="1" lang="it-IT" sz="2000" spc="-1" strike="noStrike">
                <a:solidFill>
                  <a:srgbClr val="333399"/>
                </a:solidFill>
                <a:latin typeface="Arial Narrow"/>
              </a:rPr>
              <a:t>ad altre fo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03440" y="3553920"/>
            <a:ext cx="844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Arial Narrow"/>
              </a:rPr>
              <a:t>Rispetto alla chimica europea, in Italia sono meno diffuse le collaborazioni </a:t>
            </a:r>
            <a:br>
              <a:rPr sz="2000"/>
            </a:br>
            <a:r>
              <a:rPr b="1" lang="it-IT" sz="2000" spc="-1" strike="noStrike">
                <a:solidFill>
                  <a:srgbClr val="333399"/>
                </a:solidFill>
                <a:latin typeface="Arial Narrow"/>
              </a:rPr>
              <a:t>con terzi volte all’innovazione e, in particolar modo, quelle con università e istituti </a:t>
            </a:r>
            <a:br>
              <a:rPr sz="2000"/>
            </a:br>
            <a:r>
              <a:rPr b="1" lang="it-IT" sz="2000" spc="-1" strike="noStrike">
                <a:solidFill>
                  <a:srgbClr val="333399"/>
                </a:solidFill>
                <a:latin typeface="Arial Narrow"/>
              </a:rPr>
              <a:t>di ricerca pubbl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11280" y="72720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11280" y="141300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11280" y="2441520"/>
            <a:ext cx="712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1280" y="371808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4360" y="5452920"/>
            <a:ext cx="824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Arial Narrow"/>
              </a:rPr>
              <a:t>Per la chimica l’innovazione in ambito ambientale comporta un impegno </a:t>
            </a:r>
            <a:br>
              <a:rPr sz="2000"/>
            </a:br>
            <a:r>
              <a:rPr b="1" lang="it-IT" sz="2000" spc="-1" strike="noStrike">
                <a:solidFill>
                  <a:srgbClr val="333399"/>
                </a:solidFill>
                <a:latin typeface="Arial Narrow"/>
              </a:rPr>
              <a:t>su molti fronti diversi e i benefici perseguiti non sono solo al proprio interno </a:t>
            </a:r>
            <a:br>
              <a:rPr sz="2000"/>
            </a:br>
            <a:r>
              <a:rPr b="1" lang="it-IT" sz="2000" spc="-1" strike="noStrike">
                <a:solidFill>
                  <a:srgbClr val="333399"/>
                </a:solidFill>
                <a:latin typeface="Arial Narrow"/>
              </a:rPr>
              <a:t>ma riguardano anche in misura rilevante gli utilizzatori</a:t>
            </a:r>
            <a:br>
              <a:rPr sz="2000"/>
            </a:br>
            <a:r>
              <a:rPr b="1" lang="it-IT" sz="2000" spc="-1" strike="noStrike">
                <a:solidFill>
                  <a:srgbClr val="333399"/>
                </a:solidFill>
                <a:latin typeface="Arial Narrow"/>
              </a:rPr>
              <a:t>(ruolo della chimica come “solution provider”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4360" y="4615920"/>
            <a:ext cx="824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Arial Narrow"/>
              </a:rPr>
              <a:t>La classifica dei settori di attività economica in base all’innovazione </a:t>
            </a:r>
            <a:br>
              <a:rPr sz="2000"/>
            </a:br>
            <a:r>
              <a:rPr b="1" lang="it-IT" sz="2000" spc="-1" strike="noStrike">
                <a:solidFill>
                  <a:srgbClr val="333399"/>
                </a:solidFill>
                <a:latin typeface="Arial Narrow"/>
              </a:rPr>
              <a:t>in ambito ambientale vede la chimica italiana posizionarsi sempre ai primi p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11280" y="4735440"/>
            <a:ext cx="712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1280" y="5599080"/>
            <a:ext cx="712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 rot="16435200">
            <a:off x="468000" y="637560"/>
            <a:ext cx="430200" cy="287280"/>
          </a:xfrm>
          <a:custGeom>
            <a:avLst/>
            <a:gdLst/>
            <a:ahLst/>
            <a:rect l="l" t="t" r="r" b="b"/>
            <a:pathLst>
              <a:path w="1214" h="753">
                <a:moveTo>
                  <a:pt x="0" y="285"/>
                </a:moveTo>
                <a:lnTo>
                  <a:pt x="0" y="285"/>
                </a:lnTo>
                <a:lnTo>
                  <a:pt x="99" y="360"/>
                </a:lnTo>
                <a:lnTo>
                  <a:pt x="115" y="352"/>
                </a:lnTo>
                <a:lnTo>
                  <a:pt x="134" y="390"/>
                </a:lnTo>
                <a:lnTo>
                  <a:pt x="196" y="417"/>
                </a:lnTo>
                <a:lnTo>
                  <a:pt x="232" y="461"/>
                </a:lnTo>
                <a:lnTo>
                  <a:pt x="304" y="501"/>
                </a:lnTo>
                <a:lnTo>
                  <a:pt x="362" y="556"/>
                </a:lnTo>
                <a:lnTo>
                  <a:pt x="396" y="565"/>
                </a:lnTo>
                <a:lnTo>
                  <a:pt x="420" y="536"/>
                </a:lnTo>
                <a:lnTo>
                  <a:pt x="432" y="564"/>
                </a:lnTo>
                <a:lnTo>
                  <a:pt x="424" y="597"/>
                </a:lnTo>
                <a:lnTo>
                  <a:pt x="504" y="668"/>
                </a:lnTo>
                <a:lnTo>
                  <a:pt x="553" y="677"/>
                </a:lnTo>
                <a:lnTo>
                  <a:pt x="611" y="728"/>
                </a:lnTo>
                <a:lnTo>
                  <a:pt x="629" y="752"/>
                </a:lnTo>
                <a:lnTo>
                  <a:pt x="662" y="744"/>
                </a:lnTo>
                <a:lnTo>
                  <a:pt x="682" y="715"/>
                </a:lnTo>
                <a:lnTo>
                  <a:pt x="758" y="673"/>
                </a:lnTo>
                <a:lnTo>
                  <a:pt x="826" y="593"/>
                </a:lnTo>
                <a:lnTo>
                  <a:pt x="938" y="501"/>
                </a:lnTo>
                <a:lnTo>
                  <a:pt x="999" y="431"/>
                </a:lnTo>
                <a:lnTo>
                  <a:pt x="1051" y="363"/>
                </a:lnTo>
                <a:lnTo>
                  <a:pt x="1077" y="373"/>
                </a:lnTo>
                <a:lnTo>
                  <a:pt x="1110" y="340"/>
                </a:lnTo>
                <a:lnTo>
                  <a:pt x="1108" y="288"/>
                </a:lnTo>
                <a:lnTo>
                  <a:pt x="1130" y="308"/>
                </a:lnTo>
                <a:lnTo>
                  <a:pt x="1159" y="288"/>
                </a:lnTo>
                <a:lnTo>
                  <a:pt x="1153" y="272"/>
                </a:lnTo>
                <a:lnTo>
                  <a:pt x="1184" y="274"/>
                </a:lnTo>
                <a:lnTo>
                  <a:pt x="1213" y="248"/>
                </a:lnTo>
                <a:lnTo>
                  <a:pt x="1139" y="240"/>
                </a:lnTo>
                <a:lnTo>
                  <a:pt x="1127" y="262"/>
                </a:lnTo>
                <a:lnTo>
                  <a:pt x="1106" y="255"/>
                </a:lnTo>
                <a:lnTo>
                  <a:pt x="1016" y="258"/>
                </a:lnTo>
                <a:lnTo>
                  <a:pt x="992" y="284"/>
                </a:lnTo>
                <a:lnTo>
                  <a:pt x="956" y="267"/>
                </a:lnTo>
                <a:lnTo>
                  <a:pt x="912" y="255"/>
                </a:lnTo>
                <a:lnTo>
                  <a:pt x="880" y="276"/>
                </a:lnTo>
                <a:lnTo>
                  <a:pt x="816" y="308"/>
                </a:lnTo>
                <a:lnTo>
                  <a:pt x="842" y="286"/>
                </a:lnTo>
                <a:lnTo>
                  <a:pt x="911" y="209"/>
                </a:lnTo>
                <a:lnTo>
                  <a:pt x="912" y="176"/>
                </a:lnTo>
                <a:lnTo>
                  <a:pt x="871" y="204"/>
                </a:lnTo>
                <a:lnTo>
                  <a:pt x="851" y="228"/>
                </a:lnTo>
                <a:lnTo>
                  <a:pt x="854" y="196"/>
                </a:lnTo>
                <a:lnTo>
                  <a:pt x="898" y="124"/>
                </a:lnTo>
                <a:lnTo>
                  <a:pt x="897" y="28"/>
                </a:lnTo>
                <a:lnTo>
                  <a:pt x="887" y="0"/>
                </a:lnTo>
                <a:lnTo>
                  <a:pt x="793" y="3"/>
                </a:lnTo>
                <a:lnTo>
                  <a:pt x="737" y="16"/>
                </a:lnTo>
                <a:lnTo>
                  <a:pt x="613" y="10"/>
                </a:lnTo>
                <a:lnTo>
                  <a:pt x="557" y="19"/>
                </a:lnTo>
                <a:lnTo>
                  <a:pt x="450" y="15"/>
                </a:lnTo>
                <a:lnTo>
                  <a:pt x="408" y="24"/>
                </a:lnTo>
                <a:lnTo>
                  <a:pt x="452" y="57"/>
                </a:lnTo>
                <a:lnTo>
                  <a:pt x="436" y="68"/>
                </a:lnTo>
                <a:lnTo>
                  <a:pt x="391" y="41"/>
                </a:lnTo>
                <a:lnTo>
                  <a:pt x="366" y="42"/>
                </a:lnTo>
                <a:lnTo>
                  <a:pt x="347" y="19"/>
                </a:lnTo>
                <a:lnTo>
                  <a:pt x="292" y="24"/>
                </a:lnTo>
                <a:lnTo>
                  <a:pt x="282" y="63"/>
                </a:lnTo>
                <a:lnTo>
                  <a:pt x="297" y="126"/>
                </a:lnTo>
                <a:lnTo>
                  <a:pt x="297" y="226"/>
                </a:lnTo>
                <a:lnTo>
                  <a:pt x="299" y="264"/>
                </a:lnTo>
                <a:lnTo>
                  <a:pt x="262" y="276"/>
                </a:lnTo>
                <a:lnTo>
                  <a:pt x="192" y="264"/>
                </a:lnTo>
                <a:lnTo>
                  <a:pt x="124" y="277"/>
                </a:lnTo>
                <a:lnTo>
                  <a:pt x="72" y="272"/>
                </a:lnTo>
                <a:lnTo>
                  <a:pt x="65" y="297"/>
                </a:lnTo>
                <a:lnTo>
                  <a:pt x="53" y="291"/>
                </a:lnTo>
                <a:lnTo>
                  <a:pt x="39" y="273"/>
                </a:lnTo>
                <a:lnTo>
                  <a:pt x="3" y="271"/>
                </a:lnTo>
                <a:lnTo>
                  <a:pt x="0" y="285"/>
                </a:lnTo>
                <a:lnTo>
                  <a:pt x="0" y="285"/>
                </a:lnTo>
              </a:path>
            </a:pathLst>
          </a:custGeom>
          <a:solidFill>
            <a:srgbClr val="cc330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53920" y="590760"/>
            <a:ext cx="77504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Arial Narrow"/>
              </a:rPr>
              <a:t>La Community Innovation Survey è un’indagine condotta </a:t>
            </a:r>
            <a:br>
              <a:rPr sz="2400"/>
            </a:br>
            <a:r>
              <a:rPr b="1" lang="it-IT" sz="2400" spc="-1" strike="noStrike">
                <a:solidFill>
                  <a:srgbClr val="333399"/>
                </a:solidFill>
                <a:latin typeface="Arial Narrow"/>
              </a:rPr>
              <a:t>a livello </a:t>
            </a:r>
            <a:r>
              <a:rPr b="1" lang="it-IT" sz="2400" spc="-1" strike="noStrike">
                <a:solidFill>
                  <a:srgbClr val="ff0000"/>
                </a:solidFill>
                <a:latin typeface="Arial Narrow"/>
              </a:rPr>
              <a:t>europeo</a:t>
            </a:r>
            <a:r>
              <a:rPr b="1" lang="it-IT" sz="2400" spc="-1" strike="noStrike">
                <a:solidFill>
                  <a:srgbClr val="333399"/>
                </a:solidFill>
                <a:latin typeface="Arial Narrow"/>
              </a:rPr>
              <a:t> attraverso un questionario armonizz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53920" y="1526040"/>
            <a:ext cx="77504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Arial Narrow"/>
              </a:rPr>
              <a:t>Tutti i risultati hanno come riferimento </a:t>
            </a:r>
            <a:br>
              <a:rPr sz="2400"/>
            </a:br>
            <a:r>
              <a:rPr b="1" lang="it-IT" sz="2400" spc="-1" strike="noStrike">
                <a:solidFill>
                  <a:srgbClr val="333399"/>
                </a:solidFill>
                <a:latin typeface="Arial Narrow"/>
              </a:rPr>
              <a:t>le imprese con </a:t>
            </a:r>
            <a:r>
              <a:rPr b="1" lang="it-IT" sz="2400" spc="-1" strike="noStrike">
                <a:solidFill>
                  <a:srgbClr val="ff0000"/>
                </a:solidFill>
                <a:latin typeface="Arial Narrow"/>
              </a:rPr>
              <a:t>più di 10 addetti</a:t>
            </a:r>
            <a:r>
              <a:rPr b="1" lang="it-IT" sz="2400" spc="-1" strike="noStrike">
                <a:solidFill>
                  <a:srgbClr val="333399"/>
                </a:solidFill>
                <a:latin typeface="Arial Narro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16435200">
            <a:off x="477720" y="1598040"/>
            <a:ext cx="430200" cy="287280"/>
          </a:xfrm>
          <a:custGeom>
            <a:avLst/>
            <a:gdLst/>
            <a:ahLst/>
            <a:rect l="l" t="t" r="r" b="b"/>
            <a:pathLst>
              <a:path w="1214" h="753">
                <a:moveTo>
                  <a:pt x="0" y="285"/>
                </a:moveTo>
                <a:lnTo>
                  <a:pt x="0" y="285"/>
                </a:lnTo>
                <a:lnTo>
                  <a:pt x="99" y="360"/>
                </a:lnTo>
                <a:lnTo>
                  <a:pt x="115" y="352"/>
                </a:lnTo>
                <a:lnTo>
                  <a:pt x="134" y="390"/>
                </a:lnTo>
                <a:lnTo>
                  <a:pt x="196" y="417"/>
                </a:lnTo>
                <a:lnTo>
                  <a:pt x="232" y="461"/>
                </a:lnTo>
                <a:lnTo>
                  <a:pt x="304" y="501"/>
                </a:lnTo>
                <a:lnTo>
                  <a:pt x="362" y="556"/>
                </a:lnTo>
                <a:lnTo>
                  <a:pt x="396" y="565"/>
                </a:lnTo>
                <a:lnTo>
                  <a:pt x="420" y="536"/>
                </a:lnTo>
                <a:lnTo>
                  <a:pt x="432" y="564"/>
                </a:lnTo>
                <a:lnTo>
                  <a:pt x="424" y="597"/>
                </a:lnTo>
                <a:lnTo>
                  <a:pt x="504" y="668"/>
                </a:lnTo>
                <a:lnTo>
                  <a:pt x="553" y="677"/>
                </a:lnTo>
                <a:lnTo>
                  <a:pt x="611" y="728"/>
                </a:lnTo>
                <a:lnTo>
                  <a:pt x="629" y="752"/>
                </a:lnTo>
                <a:lnTo>
                  <a:pt x="662" y="744"/>
                </a:lnTo>
                <a:lnTo>
                  <a:pt x="682" y="715"/>
                </a:lnTo>
                <a:lnTo>
                  <a:pt x="758" y="673"/>
                </a:lnTo>
                <a:lnTo>
                  <a:pt x="826" y="593"/>
                </a:lnTo>
                <a:lnTo>
                  <a:pt x="938" y="501"/>
                </a:lnTo>
                <a:lnTo>
                  <a:pt x="999" y="431"/>
                </a:lnTo>
                <a:lnTo>
                  <a:pt x="1051" y="363"/>
                </a:lnTo>
                <a:lnTo>
                  <a:pt x="1077" y="373"/>
                </a:lnTo>
                <a:lnTo>
                  <a:pt x="1110" y="340"/>
                </a:lnTo>
                <a:lnTo>
                  <a:pt x="1108" y="288"/>
                </a:lnTo>
                <a:lnTo>
                  <a:pt x="1130" y="308"/>
                </a:lnTo>
                <a:lnTo>
                  <a:pt x="1159" y="288"/>
                </a:lnTo>
                <a:lnTo>
                  <a:pt x="1153" y="272"/>
                </a:lnTo>
                <a:lnTo>
                  <a:pt x="1184" y="274"/>
                </a:lnTo>
                <a:lnTo>
                  <a:pt x="1213" y="248"/>
                </a:lnTo>
                <a:lnTo>
                  <a:pt x="1139" y="240"/>
                </a:lnTo>
                <a:lnTo>
                  <a:pt x="1127" y="262"/>
                </a:lnTo>
                <a:lnTo>
                  <a:pt x="1106" y="255"/>
                </a:lnTo>
                <a:lnTo>
                  <a:pt x="1016" y="258"/>
                </a:lnTo>
                <a:lnTo>
                  <a:pt x="992" y="284"/>
                </a:lnTo>
                <a:lnTo>
                  <a:pt x="956" y="267"/>
                </a:lnTo>
                <a:lnTo>
                  <a:pt x="912" y="255"/>
                </a:lnTo>
                <a:lnTo>
                  <a:pt x="880" y="276"/>
                </a:lnTo>
                <a:lnTo>
                  <a:pt x="816" y="308"/>
                </a:lnTo>
                <a:lnTo>
                  <a:pt x="842" y="286"/>
                </a:lnTo>
                <a:lnTo>
                  <a:pt x="911" y="209"/>
                </a:lnTo>
                <a:lnTo>
                  <a:pt x="912" y="176"/>
                </a:lnTo>
                <a:lnTo>
                  <a:pt x="871" y="204"/>
                </a:lnTo>
                <a:lnTo>
                  <a:pt x="851" y="228"/>
                </a:lnTo>
                <a:lnTo>
                  <a:pt x="854" y="196"/>
                </a:lnTo>
                <a:lnTo>
                  <a:pt x="898" y="124"/>
                </a:lnTo>
                <a:lnTo>
                  <a:pt x="897" y="28"/>
                </a:lnTo>
                <a:lnTo>
                  <a:pt x="887" y="0"/>
                </a:lnTo>
                <a:lnTo>
                  <a:pt x="793" y="3"/>
                </a:lnTo>
                <a:lnTo>
                  <a:pt x="737" y="16"/>
                </a:lnTo>
                <a:lnTo>
                  <a:pt x="613" y="10"/>
                </a:lnTo>
                <a:lnTo>
                  <a:pt x="557" y="19"/>
                </a:lnTo>
                <a:lnTo>
                  <a:pt x="450" y="15"/>
                </a:lnTo>
                <a:lnTo>
                  <a:pt x="408" y="24"/>
                </a:lnTo>
                <a:lnTo>
                  <a:pt x="452" y="57"/>
                </a:lnTo>
                <a:lnTo>
                  <a:pt x="436" y="68"/>
                </a:lnTo>
                <a:lnTo>
                  <a:pt x="391" y="41"/>
                </a:lnTo>
                <a:lnTo>
                  <a:pt x="366" y="42"/>
                </a:lnTo>
                <a:lnTo>
                  <a:pt x="347" y="19"/>
                </a:lnTo>
                <a:lnTo>
                  <a:pt x="292" y="24"/>
                </a:lnTo>
                <a:lnTo>
                  <a:pt x="282" y="63"/>
                </a:lnTo>
                <a:lnTo>
                  <a:pt x="297" y="126"/>
                </a:lnTo>
                <a:lnTo>
                  <a:pt x="297" y="226"/>
                </a:lnTo>
                <a:lnTo>
                  <a:pt x="299" y="264"/>
                </a:lnTo>
                <a:lnTo>
                  <a:pt x="262" y="276"/>
                </a:lnTo>
                <a:lnTo>
                  <a:pt x="192" y="264"/>
                </a:lnTo>
                <a:lnTo>
                  <a:pt x="124" y="277"/>
                </a:lnTo>
                <a:lnTo>
                  <a:pt x="72" y="272"/>
                </a:lnTo>
                <a:lnTo>
                  <a:pt x="65" y="297"/>
                </a:lnTo>
                <a:lnTo>
                  <a:pt x="53" y="291"/>
                </a:lnTo>
                <a:lnTo>
                  <a:pt x="39" y="273"/>
                </a:lnTo>
                <a:lnTo>
                  <a:pt x="3" y="271"/>
                </a:lnTo>
                <a:lnTo>
                  <a:pt x="0" y="285"/>
                </a:lnTo>
                <a:lnTo>
                  <a:pt x="0" y="285"/>
                </a:lnTo>
              </a:path>
            </a:pathLst>
          </a:custGeom>
          <a:solidFill>
            <a:srgbClr val="cc330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53920" y="2462400"/>
            <a:ext cx="77504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Arial Narrow"/>
              </a:rPr>
              <a:t>Le informazioni raccolte riguardano </a:t>
            </a:r>
            <a:br>
              <a:rPr sz="2400"/>
            </a:br>
            <a:r>
              <a:rPr b="1" lang="it-IT" sz="2400" spc="-1" strike="noStrike">
                <a:solidFill>
                  <a:srgbClr val="333399"/>
                </a:solidFill>
                <a:latin typeface="Arial Narrow"/>
              </a:rPr>
              <a:t>l’attività innovativa nel </a:t>
            </a:r>
            <a:r>
              <a:rPr b="1" lang="it-IT" sz="2400" spc="-1" strike="noStrike">
                <a:solidFill>
                  <a:srgbClr val="ff0000"/>
                </a:solidFill>
                <a:latin typeface="Arial Narrow"/>
              </a:rPr>
              <a:t>triennio 2006-2008</a:t>
            </a:r>
            <a:r>
              <a:rPr b="1" lang="it-IT" sz="2400" spc="-1" strike="noStrike">
                <a:solidFill>
                  <a:srgbClr val="333399"/>
                </a:solidFill>
                <a:latin typeface="Arial Narro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6435200">
            <a:off x="477720" y="2545920"/>
            <a:ext cx="430200" cy="287280"/>
          </a:xfrm>
          <a:custGeom>
            <a:avLst/>
            <a:gdLst/>
            <a:ahLst/>
            <a:rect l="l" t="t" r="r" b="b"/>
            <a:pathLst>
              <a:path w="1214" h="753">
                <a:moveTo>
                  <a:pt x="0" y="285"/>
                </a:moveTo>
                <a:lnTo>
                  <a:pt x="0" y="285"/>
                </a:lnTo>
                <a:lnTo>
                  <a:pt x="99" y="360"/>
                </a:lnTo>
                <a:lnTo>
                  <a:pt x="115" y="352"/>
                </a:lnTo>
                <a:lnTo>
                  <a:pt x="134" y="390"/>
                </a:lnTo>
                <a:lnTo>
                  <a:pt x="196" y="417"/>
                </a:lnTo>
                <a:lnTo>
                  <a:pt x="232" y="461"/>
                </a:lnTo>
                <a:lnTo>
                  <a:pt x="304" y="501"/>
                </a:lnTo>
                <a:lnTo>
                  <a:pt x="362" y="556"/>
                </a:lnTo>
                <a:lnTo>
                  <a:pt x="396" y="565"/>
                </a:lnTo>
                <a:lnTo>
                  <a:pt x="420" y="536"/>
                </a:lnTo>
                <a:lnTo>
                  <a:pt x="432" y="564"/>
                </a:lnTo>
                <a:lnTo>
                  <a:pt x="424" y="597"/>
                </a:lnTo>
                <a:lnTo>
                  <a:pt x="504" y="668"/>
                </a:lnTo>
                <a:lnTo>
                  <a:pt x="553" y="677"/>
                </a:lnTo>
                <a:lnTo>
                  <a:pt x="611" y="728"/>
                </a:lnTo>
                <a:lnTo>
                  <a:pt x="629" y="752"/>
                </a:lnTo>
                <a:lnTo>
                  <a:pt x="662" y="744"/>
                </a:lnTo>
                <a:lnTo>
                  <a:pt x="682" y="715"/>
                </a:lnTo>
                <a:lnTo>
                  <a:pt x="758" y="673"/>
                </a:lnTo>
                <a:lnTo>
                  <a:pt x="826" y="593"/>
                </a:lnTo>
                <a:lnTo>
                  <a:pt x="938" y="501"/>
                </a:lnTo>
                <a:lnTo>
                  <a:pt x="999" y="431"/>
                </a:lnTo>
                <a:lnTo>
                  <a:pt x="1051" y="363"/>
                </a:lnTo>
                <a:lnTo>
                  <a:pt x="1077" y="373"/>
                </a:lnTo>
                <a:lnTo>
                  <a:pt x="1110" y="340"/>
                </a:lnTo>
                <a:lnTo>
                  <a:pt x="1108" y="288"/>
                </a:lnTo>
                <a:lnTo>
                  <a:pt x="1130" y="308"/>
                </a:lnTo>
                <a:lnTo>
                  <a:pt x="1159" y="288"/>
                </a:lnTo>
                <a:lnTo>
                  <a:pt x="1153" y="272"/>
                </a:lnTo>
                <a:lnTo>
                  <a:pt x="1184" y="274"/>
                </a:lnTo>
                <a:lnTo>
                  <a:pt x="1213" y="248"/>
                </a:lnTo>
                <a:lnTo>
                  <a:pt x="1139" y="240"/>
                </a:lnTo>
                <a:lnTo>
                  <a:pt x="1127" y="262"/>
                </a:lnTo>
                <a:lnTo>
                  <a:pt x="1106" y="255"/>
                </a:lnTo>
                <a:lnTo>
                  <a:pt x="1016" y="258"/>
                </a:lnTo>
                <a:lnTo>
                  <a:pt x="992" y="284"/>
                </a:lnTo>
                <a:lnTo>
                  <a:pt x="956" y="267"/>
                </a:lnTo>
                <a:lnTo>
                  <a:pt x="912" y="255"/>
                </a:lnTo>
                <a:lnTo>
                  <a:pt x="880" y="276"/>
                </a:lnTo>
                <a:lnTo>
                  <a:pt x="816" y="308"/>
                </a:lnTo>
                <a:lnTo>
                  <a:pt x="842" y="286"/>
                </a:lnTo>
                <a:lnTo>
                  <a:pt x="911" y="209"/>
                </a:lnTo>
                <a:lnTo>
                  <a:pt x="912" y="176"/>
                </a:lnTo>
                <a:lnTo>
                  <a:pt x="871" y="204"/>
                </a:lnTo>
                <a:lnTo>
                  <a:pt x="851" y="228"/>
                </a:lnTo>
                <a:lnTo>
                  <a:pt x="854" y="196"/>
                </a:lnTo>
                <a:lnTo>
                  <a:pt x="898" y="124"/>
                </a:lnTo>
                <a:lnTo>
                  <a:pt x="897" y="28"/>
                </a:lnTo>
                <a:lnTo>
                  <a:pt x="887" y="0"/>
                </a:lnTo>
                <a:lnTo>
                  <a:pt x="793" y="3"/>
                </a:lnTo>
                <a:lnTo>
                  <a:pt x="737" y="16"/>
                </a:lnTo>
                <a:lnTo>
                  <a:pt x="613" y="10"/>
                </a:lnTo>
                <a:lnTo>
                  <a:pt x="557" y="19"/>
                </a:lnTo>
                <a:lnTo>
                  <a:pt x="450" y="15"/>
                </a:lnTo>
                <a:lnTo>
                  <a:pt x="408" y="24"/>
                </a:lnTo>
                <a:lnTo>
                  <a:pt x="452" y="57"/>
                </a:lnTo>
                <a:lnTo>
                  <a:pt x="436" y="68"/>
                </a:lnTo>
                <a:lnTo>
                  <a:pt x="391" y="41"/>
                </a:lnTo>
                <a:lnTo>
                  <a:pt x="366" y="42"/>
                </a:lnTo>
                <a:lnTo>
                  <a:pt x="347" y="19"/>
                </a:lnTo>
                <a:lnTo>
                  <a:pt x="292" y="24"/>
                </a:lnTo>
                <a:lnTo>
                  <a:pt x="282" y="63"/>
                </a:lnTo>
                <a:lnTo>
                  <a:pt x="297" y="126"/>
                </a:lnTo>
                <a:lnTo>
                  <a:pt x="297" y="226"/>
                </a:lnTo>
                <a:lnTo>
                  <a:pt x="299" y="264"/>
                </a:lnTo>
                <a:lnTo>
                  <a:pt x="262" y="276"/>
                </a:lnTo>
                <a:lnTo>
                  <a:pt x="192" y="264"/>
                </a:lnTo>
                <a:lnTo>
                  <a:pt x="124" y="277"/>
                </a:lnTo>
                <a:lnTo>
                  <a:pt x="72" y="272"/>
                </a:lnTo>
                <a:lnTo>
                  <a:pt x="65" y="297"/>
                </a:lnTo>
                <a:lnTo>
                  <a:pt x="53" y="291"/>
                </a:lnTo>
                <a:lnTo>
                  <a:pt x="39" y="273"/>
                </a:lnTo>
                <a:lnTo>
                  <a:pt x="3" y="271"/>
                </a:lnTo>
                <a:lnTo>
                  <a:pt x="0" y="285"/>
                </a:lnTo>
                <a:lnTo>
                  <a:pt x="0" y="285"/>
                </a:lnTo>
              </a:path>
            </a:pathLst>
          </a:custGeom>
          <a:solidFill>
            <a:srgbClr val="cc330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53920" y="4951800"/>
            <a:ext cx="77504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Arial Narrow"/>
              </a:rPr>
              <a:t>Per chimica si intende </a:t>
            </a:r>
            <a:r>
              <a:rPr b="1" lang="it-IT" sz="2400" spc="-1" strike="noStrike">
                <a:solidFill>
                  <a:srgbClr val="ff0000"/>
                </a:solidFill>
                <a:latin typeface="Arial Narrow"/>
              </a:rPr>
              <a:t>chimica esclusa farmaceutica</a:t>
            </a:r>
            <a:r>
              <a:rPr b="1" lang="it-IT" sz="2400" spc="-1" strike="noStrike">
                <a:solidFill>
                  <a:srgbClr val="333399"/>
                </a:solidFill>
                <a:latin typeface="Arial Narro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6435200">
            <a:off x="477360" y="5013000"/>
            <a:ext cx="430560" cy="287280"/>
          </a:xfrm>
          <a:custGeom>
            <a:avLst/>
            <a:gdLst/>
            <a:ahLst/>
            <a:rect l="l" t="t" r="r" b="b"/>
            <a:pathLst>
              <a:path w="1214" h="753">
                <a:moveTo>
                  <a:pt x="0" y="285"/>
                </a:moveTo>
                <a:lnTo>
                  <a:pt x="0" y="285"/>
                </a:lnTo>
                <a:lnTo>
                  <a:pt x="99" y="360"/>
                </a:lnTo>
                <a:lnTo>
                  <a:pt x="115" y="352"/>
                </a:lnTo>
                <a:lnTo>
                  <a:pt x="134" y="390"/>
                </a:lnTo>
                <a:lnTo>
                  <a:pt x="196" y="417"/>
                </a:lnTo>
                <a:lnTo>
                  <a:pt x="232" y="461"/>
                </a:lnTo>
                <a:lnTo>
                  <a:pt x="304" y="501"/>
                </a:lnTo>
                <a:lnTo>
                  <a:pt x="362" y="556"/>
                </a:lnTo>
                <a:lnTo>
                  <a:pt x="396" y="565"/>
                </a:lnTo>
                <a:lnTo>
                  <a:pt x="420" y="536"/>
                </a:lnTo>
                <a:lnTo>
                  <a:pt x="432" y="564"/>
                </a:lnTo>
                <a:lnTo>
                  <a:pt x="424" y="597"/>
                </a:lnTo>
                <a:lnTo>
                  <a:pt x="504" y="668"/>
                </a:lnTo>
                <a:lnTo>
                  <a:pt x="553" y="677"/>
                </a:lnTo>
                <a:lnTo>
                  <a:pt x="611" y="728"/>
                </a:lnTo>
                <a:lnTo>
                  <a:pt x="629" y="752"/>
                </a:lnTo>
                <a:lnTo>
                  <a:pt x="662" y="744"/>
                </a:lnTo>
                <a:lnTo>
                  <a:pt x="682" y="715"/>
                </a:lnTo>
                <a:lnTo>
                  <a:pt x="758" y="673"/>
                </a:lnTo>
                <a:lnTo>
                  <a:pt x="826" y="593"/>
                </a:lnTo>
                <a:lnTo>
                  <a:pt x="938" y="501"/>
                </a:lnTo>
                <a:lnTo>
                  <a:pt x="999" y="431"/>
                </a:lnTo>
                <a:lnTo>
                  <a:pt x="1051" y="363"/>
                </a:lnTo>
                <a:lnTo>
                  <a:pt x="1077" y="373"/>
                </a:lnTo>
                <a:lnTo>
                  <a:pt x="1110" y="340"/>
                </a:lnTo>
                <a:lnTo>
                  <a:pt x="1108" y="288"/>
                </a:lnTo>
                <a:lnTo>
                  <a:pt x="1130" y="308"/>
                </a:lnTo>
                <a:lnTo>
                  <a:pt x="1159" y="288"/>
                </a:lnTo>
                <a:lnTo>
                  <a:pt x="1153" y="272"/>
                </a:lnTo>
                <a:lnTo>
                  <a:pt x="1184" y="274"/>
                </a:lnTo>
                <a:lnTo>
                  <a:pt x="1213" y="248"/>
                </a:lnTo>
                <a:lnTo>
                  <a:pt x="1139" y="240"/>
                </a:lnTo>
                <a:lnTo>
                  <a:pt x="1127" y="262"/>
                </a:lnTo>
                <a:lnTo>
                  <a:pt x="1106" y="255"/>
                </a:lnTo>
                <a:lnTo>
                  <a:pt x="1016" y="258"/>
                </a:lnTo>
                <a:lnTo>
                  <a:pt x="992" y="284"/>
                </a:lnTo>
                <a:lnTo>
                  <a:pt x="956" y="267"/>
                </a:lnTo>
                <a:lnTo>
                  <a:pt x="912" y="255"/>
                </a:lnTo>
                <a:lnTo>
                  <a:pt x="880" y="276"/>
                </a:lnTo>
                <a:lnTo>
                  <a:pt x="816" y="308"/>
                </a:lnTo>
                <a:lnTo>
                  <a:pt x="842" y="286"/>
                </a:lnTo>
                <a:lnTo>
                  <a:pt x="911" y="209"/>
                </a:lnTo>
                <a:lnTo>
                  <a:pt x="912" y="176"/>
                </a:lnTo>
                <a:lnTo>
                  <a:pt x="871" y="204"/>
                </a:lnTo>
                <a:lnTo>
                  <a:pt x="851" y="228"/>
                </a:lnTo>
                <a:lnTo>
                  <a:pt x="854" y="196"/>
                </a:lnTo>
                <a:lnTo>
                  <a:pt x="898" y="124"/>
                </a:lnTo>
                <a:lnTo>
                  <a:pt x="897" y="28"/>
                </a:lnTo>
                <a:lnTo>
                  <a:pt x="887" y="0"/>
                </a:lnTo>
                <a:lnTo>
                  <a:pt x="793" y="3"/>
                </a:lnTo>
                <a:lnTo>
                  <a:pt x="737" y="16"/>
                </a:lnTo>
                <a:lnTo>
                  <a:pt x="613" y="10"/>
                </a:lnTo>
                <a:lnTo>
                  <a:pt x="557" y="19"/>
                </a:lnTo>
                <a:lnTo>
                  <a:pt x="450" y="15"/>
                </a:lnTo>
                <a:lnTo>
                  <a:pt x="408" y="24"/>
                </a:lnTo>
                <a:lnTo>
                  <a:pt x="452" y="57"/>
                </a:lnTo>
                <a:lnTo>
                  <a:pt x="436" y="68"/>
                </a:lnTo>
                <a:lnTo>
                  <a:pt x="391" y="41"/>
                </a:lnTo>
                <a:lnTo>
                  <a:pt x="366" y="42"/>
                </a:lnTo>
                <a:lnTo>
                  <a:pt x="347" y="19"/>
                </a:lnTo>
                <a:lnTo>
                  <a:pt x="292" y="24"/>
                </a:lnTo>
                <a:lnTo>
                  <a:pt x="282" y="63"/>
                </a:lnTo>
                <a:lnTo>
                  <a:pt x="297" y="126"/>
                </a:lnTo>
                <a:lnTo>
                  <a:pt x="297" y="226"/>
                </a:lnTo>
                <a:lnTo>
                  <a:pt x="299" y="264"/>
                </a:lnTo>
                <a:lnTo>
                  <a:pt x="262" y="276"/>
                </a:lnTo>
                <a:lnTo>
                  <a:pt x="192" y="264"/>
                </a:lnTo>
                <a:lnTo>
                  <a:pt x="124" y="277"/>
                </a:lnTo>
                <a:lnTo>
                  <a:pt x="72" y="272"/>
                </a:lnTo>
                <a:lnTo>
                  <a:pt x="65" y="297"/>
                </a:lnTo>
                <a:lnTo>
                  <a:pt x="53" y="291"/>
                </a:lnTo>
                <a:lnTo>
                  <a:pt x="39" y="273"/>
                </a:lnTo>
                <a:lnTo>
                  <a:pt x="3" y="271"/>
                </a:lnTo>
                <a:lnTo>
                  <a:pt x="0" y="285"/>
                </a:lnTo>
                <a:lnTo>
                  <a:pt x="0" y="285"/>
                </a:lnTo>
              </a:path>
            </a:pathLst>
          </a:custGeom>
          <a:solidFill>
            <a:srgbClr val="cc330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58960" y="3389040"/>
            <a:ext cx="828504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Arial Narrow"/>
              </a:rPr>
              <a:t>L’</a:t>
            </a:r>
            <a:r>
              <a:rPr b="1" lang="it-IT" sz="2400" spc="-1" strike="noStrike">
                <a:solidFill>
                  <a:srgbClr val="ff0000"/>
                </a:solidFill>
                <a:latin typeface="Arial Narrow"/>
              </a:rPr>
              <a:t>innovazione</a:t>
            </a:r>
            <a:r>
              <a:rPr b="1" lang="it-IT" sz="24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1" lang="it-IT" sz="2400" spc="-1" strike="noStrike">
                <a:solidFill>
                  <a:srgbClr val="ff0000"/>
                </a:solidFill>
                <a:latin typeface="Arial Narrow"/>
              </a:rPr>
              <a:t>tecnologica</a:t>
            </a:r>
            <a:r>
              <a:rPr b="1" lang="it-IT" sz="2400" spc="-1" strike="noStrike">
                <a:solidFill>
                  <a:srgbClr val="333399"/>
                </a:solidFill>
                <a:latin typeface="Arial Narrow"/>
              </a:rPr>
              <a:t> (o per brevità innovazione) si definisce come “prodotti, servizi e processi nuovi o significativamente migliorati rispetto a quelli precedentemente disponibili in termini </a:t>
            </a:r>
            <a:br>
              <a:rPr sz="2400"/>
            </a:br>
            <a:r>
              <a:rPr b="1" lang="it-IT" sz="2400" spc="-1" strike="noStrike">
                <a:solidFill>
                  <a:srgbClr val="333399"/>
                </a:solidFill>
                <a:latin typeface="Arial Narrow"/>
              </a:rPr>
              <a:t>di caratteristiche tecniche e funzionali, prestazioni, facilità d’uso”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16435200">
            <a:off x="482400" y="3458520"/>
            <a:ext cx="430200" cy="287280"/>
          </a:xfrm>
          <a:custGeom>
            <a:avLst/>
            <a:gdLst/>
            <a:ahLst/>
            <a:rect l="l" t="t" r="r" b="b"/>
            <a:pathLst>
              <a:path w="1214" h="753">
                <a:moveTo>
                  <a:pt x="0" y="285"/>
                </a:moveTo>
                <a:lnTo>
                  <a:pt x="0" y="285"/>
                </a:lnTo>
                <a:lnTo>
                  <a:pt x="99" y="360"/>
                </a:lnTo>
                <a:lnTo>
                  <a:pt x="115" y="352"/>
                </a:lnTo>
                <a:lnTo>
                  <a:pt x="134" y="390"/>
                </a:lnTo>
                <a:lnTo>
                  <a:pt x="196" y="417"/>
                </a:lnTo>
                <a:lnTo>
                  <a:pt x="232" y="461"/>
                </a:lnTo>
                <a:lnTo>
                  <a:pt x="304" y="501"/>
                </a:lnTo>
                <a:lnTo>
                  <a:pt x="362" y="556"/>
                </a:lnTo>
                <a:lnTo>
                  <a:pt x="396" y="565"/>
                </a:lnTo>
                <a:lnTo>
                  <a:pt x="420" y="536"/>
                </a:lnTo>
                <a:lnTo>
                  <a:pt x="432" y="564"/>
                </a:lnTo>
                <a:lnTo>
                  <a:pt x="424" y="597"/>
                </a:lnTo>
                <a:lnTo>
                  <a:pt x="504" y="668"/>
                </a:lnTo>
                <a:lnTo>
                  <a:pt x="553" y="677"/>
                </a:lnTo>
                <a:lnTo>
                  <a:pt x="611" y="728"/>
                </a:lnTo>
                <a:lnTo>
                  <a:pt x="629" y="752"/>
                </a:lnTo>
                <a:lnTo>
                  <a:pt x="662" y="744"/>
                </a:lnTo>
                <a:lnTo>
                  <a:pt x="682" y="715"/>
                </a:lnTo>
                <a:lnTo>
                  <a:pt x="758" y="673"/>
                </a:lnTo>
                <a:lnTo>
                  <a:pt x="826" y="593"/>
                </a:lnTo>
                <a:lnTo>
                  <a:pt x="938" y="501"/>
                </a:lnTo>
                <a:lnTo>
                  <a:pt x="999" y="431"/>
                </a:lnTo>
                <a:lnTo>
                  <a:pt x="1051" y="363"/>
                </a:lnTo>
                <a:lnTo>
                  <a:pt x="1077" y="373"/>
                </a:lnTo>
                <a:lnTo>
                  <a:pt x="1110" y="340"/>
                </a:lnTo>
                <a:lnTo>
                  <a:pt x="1108" y="288"/>
                </a:lnTo>
                <a:lnTo>
                  <a:pt x="1130" y="308"/>
                </a:lnTo>
                <a:lnTo>
                  <a:pt x="1159" y="288"/>
                </a:lnTo>
                <a:lnTo>
                  <a:pt x="1153" y="272"/>
                </a:lnTo>
                <a:lnTo>
                  <a:pt x="1184" y="274"/>
                </a:lnTo>
                <a:lnTo>
                  <a:pt x="1213" y="248"/>
                </a:lnTo>
                <a:lnTo>
                  <a:pt x="1139" y="240"/>
                </a:lnTo>
                <a:lnTo>
                  <a:pt x="1127" y="262"/>
                </a:lnTo>
                <a:lnTo>
                  <a:pt x="1106" y="255"/>
                </a:lnTo>
                <a:lnTo>
                  <a:pt x="1016" y="258"/>
                </a:lnTo>
                <a:lnTo>
                  <a:pt x="992" y="284"/>
                </a:lnTo>
                <a:lnTo>
                  <a:pt x="956" y="267"/>
                </a:lnTo>
                <a:lnTo>
                  <a:pt x="912" y="255"/>
                </a:lnTo>
                <a:lnTo>
                  <a:pt x="880" y="276"/>
                </a:lnTo>
                <a:lnTo>
                  <a:pt x="816" y="308"/>
                </a:lnTo>
                <a:lnTo>
                  <a:pt x="842" y="286"/>
                </a:lnTo>
                <a:lnTo>
                  <a:pt x="911" y="209"/>
                </a:lnTo>
                <a:lnTo>
                  <a:pt x="912" y="176"/>
                </a:lnTo>
                <a:lnTo>
                  <a:pt x="871" y="204"/>
                </a:lnTo>
                <a:lnTo>
                  <a:pt x="851" y="228"/>
                </a:lnTo>
                <a:lnTo>
                  <a:pt x="854" y="196"/>
                </a:lnTo>
                <a:lnTo>
                  <a:pt x="898" y="124"/>
                </a:lnTo>
                <a:lnTo>
                  <a:pt x="897" y="28"/>
                </a:lnTo>
                <a:lnTo>
                  <a:pt x="887" y="0"/>
                </a:lnTo>
                <a:lnTo>
                  <a:pt x="793" y="3"/>
                </a:lnTo>
                <a:lnTo>
                  <a:pt x="737" y="16"/>
                </a:lnTo>
                <a:lnTo>
                  <a:pt x="613" y="10"/>
                </a:lnTo>
                <a:lnTo>
                  <a:pt x="557" y="19"/>
                </a:lnTo>
                <a:lnTo>
                  <a:pt x="450" y="15"/>
                </a:lnTo>
                <a:lnTo>
                  <a:pt x="408" y="24"/>
                </a:lnTo>
                <a:lnTo>
                  <a:pt x="452" y="57"/>
                </a:lnTo>
                <a:lnTo>
                  <a:pt x="436" y="68"/>
                </a:lnTo>
                <a:lnTo>
                  <a:pt x="391" y="41"/>
                </a:lnTo>
                <a:lnTo>
                  <a:pt x="366" y="42"/>
                </a:lnTo>
                <a:lnTo>
                  <a:pt x="347" y="19"/>
                </a:lnTo>
                <a:lnTo>
                  <a:pt x="292" y="24"/>
                </a:lnTo>
                <a:lnTo>
                  <a:pt x="282" y="63"/>
                </a:lnTo>
                <a:lnTo>
                  <a:pt x="297" y="126"/>
                </a:lnTo>
                <a:lnTo>
                  <a:pt x="297" y="226"/>
                </a:lnTo>
                <a:lnTo>
                  <a:pt x="299" y="264"/>
                </a:lnTo>
                <a:lnTo>
                  <a:pt x="262" y="276"/>
                </a:lnTo>
                <a:lnTo>
                  <a:pt x="192" y="264"/>
                </a:lnTo>
                <a:lnTo>
                  <a:pt x="124" y="277"/>
                </a:lnTo>
                <a:lnTo>
                  <a:pt x="72" y="272"/>
                </a:lnTo>
                <a:lnTo>
                  <a:pt x="65" y="297"/>
                </a:lnTo>
                <a:lnTo>
                  <a:pt x="53" y="291"/>
                </a:lnTo>
                <a:lnTo>
                  <a:pt x="39" y="273"/>
                </a:lnTo>
                <a:lnTo>
                  <a:pt x="3" y="271"/>
                </a:lnTo>
                <a:lnTo>
                  <a:pt x="0" y="285"/>
                </a:lnTo>
                <a:lnTo>
                  <a:pt x="0" y="285"/>
                </a:lnTo>
              </a:path>
            </a:pathLst>
          </a:custGeom>
          <a:solidFill>
            <a:srgbClr val="cc330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53920" y="5661000"/>
            <a:ext cx="8290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Arial Narrow"/>
              </a:rPr>
              <a:t>Rientrano nella chimica italiana anche le </a:t>
            </a:r>
            <a:r>
              <a:rPr b="1" lang="it-IT" sz="2400" spc="-1" strike="noStrike">
                <a:solidFill>
                  <a:srgbClr val="ff0000"/>
                </a:solidFill>
                <a:latin typeface="Arial Narrow"/>
              </a:rPr>
              <a:t>imprese a capitale estero</a:t>
            </a:r>
            <a:r>
              <a:rPr b="1" lang="it-IT" sz="2400" spc="-1" strike="noStrike">
                <a:solidFill>
                  <a:srgbClr val="333399"/>
                </a:solidFill>
                <a:latin typeface="Arial Narrow"/>
              </a:rPr>
              <a:t>, che rivestono un peso rilevante non tanto sul numero di imprese (15%) quanto su addetti (33%) e valore della produzione (36%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16435200">
            <a:off x="477360" y="5733720"/>
            <a:ext cx="430560" cy="287280"/>
          </a:xfrm>
          <a:custGeom>
            <a:avLst/>
            <a:gdLst/>
            <a:ahLst/>
            <a:rect l="l" t="t" r="r" b="b"/>
            <a:pathLst>
              <a:path w="1214" h="753">
                <a:moveTo>
                  <a:pt x="0" y="285"/>
                </a:moveTo>
                <a:lnTo>
                  <a:pt x="0" y="285"/>
                </a:lnTo>
                <a:lnTo>
                  <a:pt x="99" y="360"/>
                </a:lnTo>
                <a:lnTo>
                  <a:pt x="115" y="352"/>
                </a:lnTo>
                <a:lnTo>
                  <a:pt x="134" y="390"/>
                </a:lnTo>
                <a:lnTo>
                  <a:pt x="196" y="417"/>
                </a:lnTo>
                <a:lnTo>
                  <a:pt x="232" y="461"/>
                </a:lnTo>
                <a:lnTo>
                  <a:pt x="304" y="501"/>
                </a:lnTo>
                <a:lnTo>
                  <a:pt x="362" y="556"/>
                </a:lnTo>
                <a:lnTo>
                  <a:pt x="396" y="565"/>
                </a:lnTo>
                <a:lnTo>
                  <a:pt x="420" y="536"/>
                </a:lnTo>
                <a:lnTo>
                  <a:pt x="432" y="564"/>
                </a:lnTo>
                <a:lnTo>
                  <a:pt x="424" y="597"/>
                </a:lnTo>
                <a:lnTo>
                  <a:pt x="504" y="668"/>
                </a:lnTo>
                <a:lnTo>
                  <a:pt x="553" y="677"/>
                </a:lnTo>
                <a:lnTo>
                  <a:pt x="611" y="728"/>
                </a:lnTo>
                <a:lnTo>
                  <a:pt x="629" y="752"/>
                </a:lnTo>
                <a:lnTo>
                  <a:pt x="662" y="744"/>
                </a:lnTo>
                <a:lnTo>
                  <a:pt x="682" y="715"/>
                </a:lnTo>
                <a:lnTo>
                  <a:pt x="758" y="673"/>
                </a:lnTo>
                <a:lnTo>
                  <a:pt x="826" y="593"/>
                </a:lnTo>
                <a:lnTo>
                  <a:pt x="938" y="501"/>
                </a:lnTo>
                <a:lnTo>
                  <a:pt x="999" y="431"/>
                </a:lnTo>
                <a:lnTo>
                  <a:pt x="1051" y="363"/>
                </a:lnTo>
                <a:lnTo>
                  <a:pt x="1077" y="373"/>
                </a:lnTo>
                <a:lnTo>
                  <a:pt x="1110" y="340"/>
                </a:lnTo>
                <a:lnTo>
                  <a:pt x="1108" y="288"/>
                </a:lnTo>
                <a:lnTo>
                  <a:pt x="1130" y="308"/>
                </a:lnTo>
                <a:lnTo>
                  <a:pt x="1159" y="288"/>
                </a:lnTo>
                <a:lnTo>
                  <a:pt x="1153" y="272"/>
                </a:lnTo>
                <a:lnTo>
                  <a:pt x="1184" y="274"/>
                </a:lnTo>
                <a:lnTo>
                  <a:pt x="1213" y="248"/>
                </a:lnTo>
                <a:lnTo>
                  <a:pt x="1139" y="240"/>
                </a:lnTo>
                <a:lnTo>
                  <a:pt x="1127" y="262"/>
                </a:lnTo>
                <a:lnTo>
                  <a:pt x="1106" y="255"/>
                </a:lnTo>
                <a:lnTo>
                  <a:pt x="1016" y="258"/>
                </a:lnTo>
                <a:lnTo>
                  <a:pt x="992" y="284"/>
                </a:lnTo>
                <a:lnTo>
                  <a:pt x="956" y="267"/>
                </a:lnTo>
                <a:lnTo>
                  <a:pt x="912" y="255"/>
                </a:lnTo>
                <a:lnTo>
                  <a:pt x="880" y="276"/>
                </a:lnTo>
                <a:lnTo>
                  <a:pt x="816" y="308"/>
                </a:lnTo>
                <a:lnTo>
                  <a:pt x="842" y="286"/>
                </a:lnTo>
                <a:lnTo>
                  <a:pt x="911" y="209"/>
                </a:lnTo>
                <a:lnTo>
                  <a:pt x="912" y="176"/>
                </a:lnTo>
                <a:lnTo>
                  <a:pt x="871" y="204"/>
                </a:lnTo>
                <a:lnTo>
                  <a:pt x="851" y="228"/>
                </a:lnTo>
                <a:lnTo>
                  <a:pt x="854" y="196"/>
                </a:lnTo>
                <a:lnTo>
                  <a:pt x="898" y="124"/>
                </a:lnTo>
                <a:lnTo>
                  <a:pt x="897" y="28"/>
                </a:lnTo>
                <a:lnTo>
                  <a:pt x="887" y="0"/>
                </a:lnTo>
                <a:lnTo>
                  <a:pt x="793" y="3"/>
                </a:lnTo>
                <a:lnTo>
                  <a:pt x="737" y="16"/>
                </a:lnTo>
                <a:lnTo>
                  <a:pt x="613" y="10"/>
                </a:lnTo>
                <a:lnTo>
                  <a:pt x="557" y="19"/>
                </a:lnTo>
                <a:lnTo>
                  <a:pt x="450" y="15"/>
                </a:lnTo>
                <a:lnTo>
                  <a:pt x="408" y="24"/>
                </a:lnTo>
                <a:lnTo>
                  <a:pt x="452" y="57"/>
                </a:lnTo>
                <a:lnTo>
                  <a:pt x="436" y="68"/>
                </a:lnTo>
                <a:lnTo>
                  <a:pt x="391" y="41"/>
                </a:lnTo>
                <a:lnTo>
                  <a:pt x="366" y="42"/>
                </a:lnTo>
                <a:lnTo>
                  <a:pt x="347" y="19"/>
                </a:lnTo>
                <a:lnTo>
                  <a:pt x="292" y="24"/>
                </a:lnTo>
                <a:lnTo>
                  <a:pt x="282" y="63"/>
                </a:lnTo>
                <a:lnTo>
                  <a:pt x="297" y="126"/>
                </a:lnTo>
                <a:lnTo>
                  <a:pt x="297" y="226"/>
                </a:lnTo>
                <a:lnTo>
                  <a:pt x="299" y="264"/>
                </a:lnTo>
                <a:lnTo>
                  <a:pt x="262" y="276"/>
                </a:lnTo>
                <a:lnTo>
                  <a:pt x="192" y="264"/>
                </a:lnTo>
                <a:lnTo>
                  <a:pt x="124" y="277"/>
                </a:lnTo>
                <a:lnTo>
                  <a:pt x="72" y="272"/>
                </a:lnTo>
                <a:lnTo>
                  <a:pt x="65" y="297"/>
                </a:lnTo>
                <a:lnTo>
                  <a:pt x="53" y="291"/>
                </a:lnTo>
                <a:lnTo>
                  <a:pt x="39" y="273"/>
                </a:lnTo>
                <a:lnTo>
                  <a:pt x="3" y="271"/>
                </a:lnTo>
                <a:lnTo>
                  <a:pt x="0" y="285"/>
                </a:lnTo>
                <a:lnTo>
                  <a:pt x="0" y="285"/>
                </a:lnTo>
              </a:path>
            </a:pathLst>
          </a:custGeom>
          <a:solidFill>
            <a:srgbClr val="cc330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8360" y="-720"/>
            <a:ext cx="7750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Arial Narrow"/>
              </a:rPr>
              <a:t>Premessa metodolo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23720" y="476280"/>
            <a:ext cx="8745840" cy="0"/>
          </a:xfrm>
          <a:prstGeom prst="line">
            <a:avLst/>
          </a:prstGeom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68720" y="6546960"/>
            <a:ext cx="43826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333399"/>
                </a:solidFill>
                <a:latin typeface="Arial"/>
              </a:rPr>
              <a:t>Fonte: </a:t>
            </a:r>
            <a:r>
              <a:rPr b="0" lang="it-IT" sz="1400" spc="-1" strike="noStrike">
                <a:solidFill>
                  <a:srgbClr val="333399"/>
                </a:solidFill>
                <a:latin typeface="Arial"/>
              </a:rPr>
              <a:t>Euro</a:t>
            </a:r>
            <a:r>
              <a:rPr b="0" sz="1400" spc="-1" strike="noStrike">
                <a:solidFill>
                  <a:srgbClr val="333399"/>
                </a:solidFill>
                <a:latin typeface="Arial"/>
              </a:rPr>
              <a:t>stat, Community Innovation Survey, </a:t>
            </a:r>
            <a:r>
              <a:rPr b="0" lang="it-IT" sz="1400" spc="-1" strike="noStrike">
                <a:solidFill>
                  <a:srgbClr val="333399"/>
                </a:solidFill>
                <a:latin typeface="Arial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0640" y="927000"/>
            <a:ext cx="7916760" cy="0"/>
          </a:xfrm>
          <a:prstGeom prst="line">
            <a:avLst/>
          </a:prstGeom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9640" y="763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Arial"/>
              </a:rPr>
              <a:t>Imprese esportatrici in Ita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20640" y="1782720"/>
            <a:ext cx="7916760" cy="0"/>
          </a:xfrm>
          <a:prstGeom prst="line">
            <a:avLst/>
          </a:prstGeom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832360" y="54936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chim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236000" y="5493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indust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9040" y="976320"/>
            <a:ext cx="525132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Esportatrici in % del totale impre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559480" y="1000080"/>
            <a:ext cx="12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77,8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048440" y="1000080"/>
            <a:ext cx="12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49,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6435200">
            <a:off x="545760" y="4220280"/>
            <a:ext cx="430200" cy="287640"/>
          </a:xfrm>
          <a:custGeom>
            <a:avLst/>
            <a:gdLst/>
            <a:ahLst/>
            <a:rect l="l" t="t" r="r" b="b"/>
            <a:pathLst>
              <a:path w="1214" h="753">
                <a:moveTo>
                  <a:pt x="0" y="285"/>
                </a:moveTo>
                <a:lnTo>
                  <a:pt x="0" y="285"/>
                </a:lnTo>
                <a:lnTo>
                  <a:pt x="99" y="360"/>
                </a:lnTo>
                <a:lnTo>
                  <a:pt x="115" y="352"/>
                </a:lnTo>
                <a:lnTo>
                  <a:pt x="134" y="390"/>
                </a:lnTo>
                <a:lnTo>
                  <a:pt x="196" y="417"/>
                </a:lnTo>
                <a:lnTo>
                  <a:pt x="232" y="461"/>
                </a:lnTo>
                <a:lnTo>
                  <a:pt x="304" y="501"/>
                </a:lnTo>
                <a:lnTo>
                  <a:pt x="362" y="556"/>
                </a:lnTo>
                <a:lnTo>
                  <a:pt x="396" y="565"/>
                </a:lnTo>
                <a:lnTo>
                  <a:pt x="420" y="536"/>
                </a:lnTo>
                <a:lnTo>
                  <a:pt x="432" y="564"/>
                </a:lnTo>
                <a:lnTo>
                  <a:pt x="424" y="597"/>
                </a:lnTo>
                <a:lnTo>
                  <a:pt x="504" y="668"/>
                </a:lnTo>
                <a:lnTo>
                  <a:pt x="553" y="677"/>
                </a:lnTo>
                <a:lnTo>
                  <a:pt x="611" y="728"/>
                </a:lnTo>
                <a:lnTo>
                  <a:pt x="629" y="752"/>
                </a:lnTo>
                <a:lnTo>
                  <a:pt x="662" y="744"/>
                </a:lnTo>
                <a:lnTo>
                  <a:pt x="682" y="715"/>
                </a:lnTo>
                <a:lnTo>
                  <a:pt x="758" y="673"/>
                </a:lnTo>
                <a:lnTo>
                  <a:pt x="826" y="593"/>
                </a:lnTo>
                <a:lnTo>
                  <a:pt x="938" y="501"/>
                </a:lnTo>
                <a:lnTo>
                  <a:pt x="999" y="431"/>
                </a:lnTo>
                <a:lnTo>
                  <a:pt x="1051" y="363"/>
                </a:lnTo>
                <a:lnTo>
                  <a:pt x="1077" y="373"/>
                </a:lnTo>
                <a:lnTo>
                  <a:pt x="1110" y="340"/>
                </a:lnTo>
                <a:lnTo>
                  <a:pt x="1108" y="288"/>
                </a:lnTo>
                <a:lnTo>
                  <a:pt x="1130" y="308"/>
                </a:lnTo>
                <a:lnTo>
                  <a:pt x="1159" y="288"/>
                </a:lnTo>
                <a:lnTo>
                  <a:pt x="1153" y="272"/>
                </a:lnTo>
                <a:lnTo>
                  <a:pt x="1184" y="274"/>
                </a:lnTo>
                <a:lnTo>
                  <a:pt x="1213" y="248"/>
                </a:lnTo>
                <a:lnTo>
                  <a:pt x="1139" y="240"/>
                </a:lnTo>
                <a:lnTo>
                  <a:pt x="1127" y="262"/>
                </a:lnTo>
                <a:lnTo>
                  <a:pt x="1106" y="255"/>
                </a:lnTo>
                <a:lnTo>
                  <a:pt x="1016" y="258"/>
                </a:lnTo>
                <a:lnTo>
                  <a:pt x="992" y="284"/>
                </a:lnTo>
                <a:lnTo>
                  <a:pt x="956" y="267"/>
                </a:lnTo>
                <a:lnTo>
                  <a:pt x="912" y="255"/>
                </a:lnTo>
                <a:lnTo>
                  <a:pt x="880" y="276"/>
                </a:lnTo>
                <a:lnTo>
                  <a:pt x="816" y="308"/>
                </a:lnTo>
                <a:lnTo>
                  <a:pt x="842" y="286"/>
                </a:lnTo>
                <a:lnTo>
                  <a:pt x="911" y="209"/>
                </a:lnTo>
                <a:lnTo>
                  <a:pt x="912" y="176"/>
                </a:lnTo>
                <a:lnTo>
                  <a:pt x="871" y="204"/>
                </a:lnTo>
                <a:lnTo>
                  <a:pt x="851" y="228"/>
                </a:lnTo>
                <a:lnTo>
                  <a:pt x="854" y="196"/>
                </a:lnTo>
                <a:lnTo>
                  <a:pt x="898" y="124"/>
                </a:lnTo>
                <a:lnTo>
                  <a:pt x="897" y="28"/>
                </a:lnTo>
                <a:lnTo>
                  <a:pt x="887" y="0"/>
                </a:lnTo>
                <a:lnTo>
                  <a:pt x="793" y="3"/>
                </a:lnTo>
                <a:lnTo>
                  <a:pt x="737" y="16"/>
                </a:lnTo>
                <a:lnTo>
                  <a:pt x="613" y="10"/>
                </a:lnTo>
                <a:lnTo>
                  <a:pt x="557" y="19"/>
                </a:lnTo>
                <a:lnTo>
                  <a:pt x="450" y="15"/>
                </a:lnTo>
                <a:lnTo>
                  <a:pt x="408" y="24"/>
                </a:lnTo>
                <a:lnTo>
                  <a:pt x="452" y="57"/>
                </a:lnTo>
                <a:lnTo>
                  <a:pt x="436" y="68"/>
                </a:lnTo>
                <a:lnTo>
                  <a:pt x="391" y="41"/>
                </a:lnTo>
                <a:lnTo>
                  <a:pt x="366" y="42"/>
                </a:lnTo>
                <a:lnTo>
                  <a:pt x="347" y="19"/>
                </a:lnTo>
                <a:lnTo>
                  <a:pt x="292" y="24"/>
                </a:lnTo>
                <a:lnTo>
                  <a:pt x="282" y="63"/>
                </a:lnTo>
                <a:lnTo>
                  <a:pt x="297" y="126"/>
                </a:lnTo>
                <a:lnTo>
                  <a:pt x="297" y="226"/>
                </a:lnTo>
                <a:lnTo>
                  <a:pt x="299" y="264"/>
                </a:lnTo>
                <a:lnTo>
                  <a:pt x="262" y="276"/>
                </a:lnTo>
                <a:lnTo>
                  <a:pt x="192" y="264"/>
                </a:lnTo>
                <a:lnTo>
                  <a:pt x="124" y="277"/>
                </a:lnTo>
                <a:lnTo>
                  <a:pt x="72" y="272"/>
                </a:lnTo>
                <a:lnTo>
                  <a:pt x="65" y="297"/>
                </a:lnTo>
                <a:lnTo>
                  <a:pt x="53" y="291"/>
                </a:lnTo>
                <a:lnTo>
                  <a:pt x="39" y="273"/>
                </a:lnTo>
                <a:lnTo>
                  <a:pt x="3" y="271"/>
                </a:lnTo>
                <a:lnTo>
                  <a:pt x="0" y="285"/>
                </a:lnTo>
                <a:lnTo>
                  <a:pt x="0" y="285"/>
                </a:lnTo>
              </a:path>
            </a:pathLst>
          </a:custGeom>
          <a:solidFill>
            <a:srgbClr val="cc330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32040" y="4210920"/>
            <a:ext cx="749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Arial Narrow"/>
              </a:rPr>
              <a:t>Perché è importante innovare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33480" y="4650480"/>
            <a:ext cx="749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Arial Narrow"/>
              </a:rPr>
              <a:t>- Le imprese innovative riescono più facilmente ad esport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4360" y="1335240"/>
            <a:ext cx="419076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Esportatrici in % delle imprese innov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554800" y="1359000"/>
            <a:ext cx="12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86,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43760" y="1359000"/>
            <a:ext cx="12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63,4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1200" y="6249960"/>
            <a:ext cx="52038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333399"/>
                </a:solidFill>
                <a:latin typeface="Arial"/>
              </a:rPr>
              <a:t>Not</a:t>
            </a:r>
            <a:r>
              <a:rPr b="0" sz="1400" spc="-1" strike="noStrike">
                <a:solidFill>
                  <a:srgbClr val="333399"/>
                </a:solidFill>
                <a:latin typeface="Arial"/>
              </a:rPr>
              <a:t>e: </a:t>
            </a:r>
            <a:r>
              <a:rPr b="0" lang="it-IT" sz="1400" spc="-1" strike="noStrike">
                <a:solidFill>
                  <a:srgbClr val="333399"/>
                </a:solidFill>
                <a:latin typeface="Arial"/>
              </a:rPr>
              <a:t>totale = imprese con più di 10 addett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57360" y="3112920"/>
            <a:ext cx="7916760" cy="0"/>
          </a:xfrm>
          <a:prstGeom prst="line">
            <a:avLst/>
          </a:prstGeom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39640" y="2135160"/>
            <a:ext cx="865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Arial"/>
              </a:rPr>
              <a:t>Innovazione e occupazione nell’industria chimica itali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57360" y="3573360"/>
            <a:ext cx="7916760" cy="0"/>
          </a:xfrm>
          <a:prstGeom prst="line">
            <a:avLst/>
          </a:prstGeom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197240" y="2735280"/>
            <a:ext cx="283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Imprese innov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11840" y="273528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Totale impre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38360" y="3137040"/>
            <a:ext cx="387180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Var. occupazione 2006-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286160" y="3160800"/>
            <a:ext cx="12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-0,3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097760" y="3160800"/>
            <a:ext cx="98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-2,2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33480" y="5095440"/>
            <a:ext cx="821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Arial Narrow"/>
              </a:rPr>
              <a:t>- Le imprese chimiche innovative mostrano una maggiore stabilità </a:t>
            </a:r>
            <a:br>
              <a:rPr sz="2000"/>
            </a:br>
            <a:r>
              <a:rPr b="1" lang="it-IT" sz="2000" spc="-1" strike="noStrike">
                <a:solidFill>
                  <a:srgbClr val="333399"/>
                </a:solidFill>
                <a:latin typeface="Arial Narrow"/>
              </a:rPr>
              <a:t>  dell’occupazione in Italia (a fronte del calo nell’industria chimica in genera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41440" y="950760"/>
            <a:ext cx="8456400" cy="0"/>
          </a:xfrm>
          <a:prstGeom prst="line">
            <a:avLst/>
          </a:prstGeom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8640" y="442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Arial"/>
              </a:rPr>
              <a:t>Imprese innovative e tipologia di innovazione in Ita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621240" y="620640"/>
            <a:ext cx="1166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333399"/>
                </a:solidFill>
                <a:latin typeface="Arial"/>
              </a:rPr>
              <a:t>chimic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76360" y="958680"/>
            <a:ext cx="241128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% imprese innovativ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629160" y="982800"/>
            <a:ext cx="8175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0000"/>
                </a:solidFill>
                <a:latin typeface="Arial"/>
              </a:rPr>
              <a:t>66,6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0000" y="620640"/>
            <a:ext cx="1287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333399"/>
                </a:solidFill>
                <a:latin typeface="Arial"/>
              </a:rPr>
              <a:t>industr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7920" y="982800"/>
            <a:ext cx="880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44,2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76360" y="1268280"/>
            <a:ext cx="292572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- di cui innovaz. di prodott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621240" y="1292400"/>
            <a:ext cx="8175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82,7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0000" y="1292400"/>
            <a:ext cx="880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69,7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76360" y="1639800"/>
            <a:ext cx="292572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- di cui innovaz. di process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21240" y="1663560"/>
            <a:ext cx="8175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17,3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680000" y="1663560"/>
            <a:ext cx="880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30,3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69880" y="2031840"/>
            <a:ext cx="8456760" cy="0"/>
          </a:xfrm>
          <a:prstGeom prst="line">
            <a:avLst/>
          </a:prstGeom>
          <a:ln w="2232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41440" y="3189240"/>
            <a:ext cx="8456400" cy="0"/>
          </a:xfrm>
          <a:prstGeom prst="line">
            <a:avLst/>
          </a:prstGeom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76360" y="2081160"/>
            <a:ext cx="36097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% imprese con innovaz. </a:t>
            </a:r>
            <a:br>
              <a:rPr sz="1500"/>
            </a:b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nuova per il mercat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630600" y="2198520"/>
            <a:ext cx="8175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0000"/>
                </a:solidFill>
                <a:latin typeface="Arial"/>
              </a:rPr>
              <a:t>32,4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89360" y="2198520"/>
            <a:ext cx="88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21,6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76360" y="2611440"/>
            <a:ext cx="33811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% di fatturato del settore</a:t>
            </a:r>
            <a:br>
              <a:rPr sz="1500"/>
            </a:b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da innovaz. nuova per il mercat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30600" y="2751120"/>
            <a:ext cx="8175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0000"/>
                </a:solidFill>
                <a:latin typeface="Arial"/>
              </a:rPr>
              <a:t>8,5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689360" y="2751120"/>
            <a:ext cx="88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6,9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129720" y="6383160"/>
            <a:ext cx="3059640" cy="4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333399"/>
                </a:solidFill>
                <a:latin typeface="Arial"/>
              </a:rPr>
              <a:t>Fonte: </a:t>
            </a:r>
            <a:r>
              <a:rPr b="0" lang="it-IT" sz="1400" spc="-1" strike="noStrike">
                <a:solidFill>
                  <a:srgbClr val="333399"/>
                </a:solidFill>
                <a:latin typeface="Arial"/>
              </a:rPr>
              <a:t>Euro</a:t>
            </a:r>
            <a:r>
              <a:rPr b="0" sz="1400" spc="-1" strike="noStrike">
                <a:solidFill>
                  <a:srgbClr val="333399"/>
                </a:solidFill>
                <a:latin typeface="Arial"/>
              </a:rPr>
              <a:t>stat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333399"/>
                </a:solidFill>
                <a:latin typeface="Arial"/>
              </a:rPr>
              <a:t>Community Innovation Survey, </a:t>
            </a:r>
            <a:r>
              <a:rPr b="0" lang="it-IT" sz="1400" spc="-1" strike="noStrike">
                <a:solidFill>
                  <a:srgbClr val="333399"/>
                </a:solidFill>
                <a:latin typeface="Arial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47840" y="6116760"/>
            <a:ext cx="52038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333399"/>
                </a:solidFill>
                <a:latin typeface="Arial"/>
              </a:rPr>
              <a:t>Not</a:t>
            </a:r>
            <a:r>
              <a:rPr b="0" sz="1400" spc="-1" strike="noStrike">
                <a:solidFill>
                  <a:srgbClr val="333399"/>
                </a:solidFill>
                <a:latin typeface="Arial"/>
              </a:rPr>
              <a:t>e: </a:t>
            </a:r>
            <a:r>
              <a:rPr b="0" lang="it-IT" sz="1400" spc="-1" strike="noStrike">
                <a:solidFill>
                  <a:srgbClr val="333399"/>
                </a:solidFill>
                <a:latin typeface="Arial"/>
              </a:rPr>
              <a:t>totale = imprese con più di 10 addetti </a:t>
            </a:r>
            <a:br>
              <a:rPr sz="1400"/>
            </a:br>
            <a:r>
              <a:rPr b="0" lang="it-IT" sz="1400" spc="-1" strike="noStrike">
                <a:solidFill>
                  <a:srgbClr val="333399"/>
                </a:solidFill>
                <a:latin typeface="Arial"/>
              </a:rPr>
              <a:t>         high tech = farmaceutica ed elettro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0" lang="it-IT" sz="1400" spc="-1" strike="noStrike">
                <a:solidFill>
                  <a:srgbClr val="333399"/>
                </a:solidFill>
                <a:latin typeface="Arial"/>
              </a:rPr>
              <a:t>medium-high tech = elettrotecnica, meccanica, automoti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rot="16435200">
            <a:off x="466560" y="3390480"/>
            <a:ext cx="430200" cy="287280"/>
          </a:xfrm>
          <a:custGeom>
            <a:avLst/>
            <a:gdLst/>
            <a:ahLst/>
            <a:rect l="l" t="t" r="r" b="b"/>
            <a:pathLst>
              <a:path w="1214" h="753">
                <a:moveTo>
                  <a:pt x="0" y="285"/>
                </a:moveTo>
                <a:lnTo>
                  <a:pt x="0" y="285"/>
                </a:lnTo>
                <a:lnTo>
                  <a:pt x="99" y="360"/>
                </a:lnTo>
                <a:lnTo>
                  <a:pt x="115" y="352"/>
                </a:lnTo>
                <a:lnTo>
                  <a:pt x="134" y="390"/>
                </a:lnTo>
                <a:lnTo>
                  <a:pt x="196" y="417"/>
                </a:lnTo>
                <a:lnTo>
                  <a:pt x="232" y="461"/>
                </a:lnTo>
                <a:lnTo>
                  <a:pt x="304" y="501"/>
                </a:lnTo>
                <a:lnTo>
                  <a:pt x="362" y="556"/>
                </a:lnTo>
                <a:lnTo>
                  <a:pt x="396" y="565"/>
                </a:lnTo>
                <a:lnTo>
                  <a:pt x="420" y="536"/>
                </a:lnTo>
                <a:lnTo>
                  <a:pt x="432" y="564"/>
                </a:lnTo>
                <a:lnTo>
                  <a:pt x="424" y="597"/>
                </a:lnTo>
                <a:lnTo>
                  <a:pt x="504" y="668"/>
                </a:lnTo>
                <a:lnTo>
                  <a:pt x="553" y="677"/>
                </a:lnTo>
                <a:lnTo>
                  <a:pt x="611" y="728"/>
                </a:lnTo>
                <a:lnTo>
                  <a:pt x="629" y="752"/>
                </a:lnTo>
                <a:lnTo>
                  <a:pt x="662" y="744"/>
                </a:lnTo>
                <a:lnTo>
                  <a:pt x="682" y="715"/>
                </a:lnTo>
                <a:lnTo>
                  <a:pt x="758" y="673"/>
                </a:lnTo>
                <a:lnTo>
                  <a:pt x="826" y="593"/>
                </a:lnTo>
                <a:lnTo>
                  <a:pt x="938" y="501"/>
                </a:lnTo>
                <a:lnTo>
                  <a:pt x="999" y="431"/>
                </a:lnTo>
                <a:lnTo>
                  <a:pt x="1051" y="363"/>
                </a:lnTo>
                <a:lnTo>
                  <a:pt x="1077" y="373"/>
                </a:lnTo>
                <a:lnTo>
                  <a:pt x="1110" y="340"/>
                </a:lnTo>
                <a:lnTo>
                  <a:pt x="1108" y="288"/>
                </a:lnTo>
                <a:lnTo>
                  <a:pt x="1130" y="308"/>
                </a:lnTo>
                <a:lnTo>
                  <a:pt x="1159" y="288"/>
                </a:lnTo>
                <a:lnTo>
                  <a:pt x="1153" y="272"/>
                </a:lnTo>
                <a:lnTo>
                  <a:pt x="1184" y="274"/>
                </a:lnTo>
                <a:lnTo>
                  <a:pt x="1213" y="248"/>
                </a:lnTo>
                <a:lnTo>
                  <a:pt x="1139" y="240"/>
                </a:lnTo>
                <a:lnTo>
                  <a:pt x="1127" y="262"/>
                </a:lnTo>
                <a:lnTo>
                  <a:pt x="1106" y="255"/>
                </a:lnTo>
                <a:lnTo>
                  <a:pt x="1016" y="258"/>
                </a:lnTo>
                <a:lnTo>
                  <a:pt x="992" y="284"/>
                </a:lnTo>
                <a:lnTo>
                  <a:pt x="956" y="267"/>
                </a:lnTo>
                <a:lnTo>
                  <a:pt x="912" y="255"/>
                </a:lnTo>
                <a:lnTo>
                  <a:pt x="880" y="276"/>
                </a:lnTo>
                <a:lnTo>
                  <a:pt x="816" y="308"/>
                </a:lnTo>
                <a:lnTo>
                  <a:pt x="842" y="286"/>
                </a:lnTo>
                <a:lnTo>
                  <a:pt x="911" y="209"/>
                </a:lnTo>
                <a:lnTo>
                  <a:pt x="912" y="176"/>
                </a:lnTo>
                <a:lnTo>
                  <a:pt x="871" y="204"/>
                </a:lnTo>
                <a:lnTo>
                  <a:pt x="851" y="228"/>
                </a:lnTo>
                <a:lnTo>
                  <a:pt x="854" y="196"/>
                </a:lnTo>
                <a:lnTo>
                  <a:pt x="898" y="124"/>
                </a:lnTo>
                <a:lnTo>
                  <a:pt x="897" y="28"/>
                </a:lnTo>
                <a:lnTo>
                  <a:pt x="887" y="0"/>
                </a:lnTo>
                <a:lnTo>
                  <a:pt x="793" y="3"/>
                </a:lnTo>
                <a:lnTo>
                  <a:pt x="737" y="16"/>
                </a:lnTo>
                <a:lnTo>
                  <a:pt x="613" y="10"/>
                </a:lnTo>
                <a:lnTo>
                  <a:pt x="557" y="19"/>
                </a:lnTo>
                <a:lnTo>
                  <a:pt x="450" y="15"/>
                </a:lnTo>
                <a:lnTo>
                  <a:pt x="408" y="24"/>
                </a:lnTo>
                <a:lnTo>
                  <a:pt x="452" y="57"/>
                </a:lnTo>
                <a:lnTo>
                  <a:pt x="436" y="68"/>
                </a:lnTo>
                <a:lnTo>
                  <a:pt x="391" y="41"/>
                </a:lnTo>
                <a:lnTo>
                  <a:pt x="366" y="42"/>
                </a:lnTo>
                <a:lnTo>
                  <a:pt x="347" y="19"/>
                </a:lnTo>
                <a:lnTo>
                  <a:pt x="292" y="24"/>
                </a:lnTo>
                <a:lnTo>
                  <a:pt x="282" y="63"/>
                </a:lnTo>
                <a:lnTo>
                  <a:pt x="297" y="126"/>
                </a:lnTo>
                <a:lnTo>
                  <a:pt x="297" y="226"/>
                </a:lnTo>
                <a:lnTo>
                  <a:pt x="299" y="264"/>
                </a:lnTo>
                <a:lnTo>
                  <a:pt x="262" y="276"/>
                </a:lnTo>
                <a:lnTo>
                  <a:pt x="192" y="264"/>
                </a:lnTo>
                <a:lnTo>
                  <a:pt x="124" y="277"/>
                </a:lnTo>
                <a:lnTo>
                  <a:pt x="72" y="272"/>
                </a:lnTo>
                <a:lnTo>
                  <a:pt x="65" y="297"/>
                </a:lnTo>
                <a:lnTo>
                  <a:pt x="53" y="291"/>
                </a:lnTo>
                <a:lnTo>
                  <a:pt x="39" y="273"/>
                </a:lnTo>
                <a:lnTo>
                  <a:pt x="3" y="271"/>
                </a:lnTo>
                <a:lnTo>
                  <a:pt x="0" y="285"/>
                </a:lnTo>
                <a:lnTo>
                  <a:pt x="0" y="285"/>
                </a:lnTo>
              </a:path>
            </a:pathLst>
          </a:custGeom>
          <a:solidFill>
            <a:srgbClr val="cc330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52480" y="3344760"/>
            <a:ext cx="7680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Arial Narrow"/>
              </a:rPr>
              <a:t>La chimica italiana</a:t>
            </a:r>
            <a:br>
              <a:rPr sz="2000"/>
            </a:br>
            <a:r>
              <a:rPr b="1" lang="it-IT" sz="2000" spc="-1" strike="noStrike">
                <a:solidFill>
                  <a:srgbClr val="333399"/>
                </a:solidFill>
                <a:latin typeface="Arial Narrow"/>
              </a:rPr>
              <a:t>- ha tante imprese innovative (1200)</a:t>
            </a:r>
            <a:br>
              <a:rPr sz="2000"/>
            </a:br>
            <a:r>
              <a:rPr b="1" lang="it-IT" sz="2000" spc="-1" strike="noStrike">
                <a:solidFill>
                  <a:srgbClr val="333399"/>
                </a:solidFill>
                <a:latin typeface="Arial Narrow"/>
              </a:rPr>
              <a:t>- che fanno soprattutto innovazione di prodotto</a:t>
            </a:r>
            <a:br>
              <a:rPr sz="2000"/>
            </a:br>
            <a:r>
              <a:rPr b="1" lang="it-IT" sz="2000" spc="-1" strike="noStrike">
                <a:solidFill>
                  <a:srgbClr val="333399"/>
                </a:solidFill>
                <a:latin typeface="Arial Narrow"/>
              </a:rPr>
              <a:t>- non solo di tipo “me too”</a:t>
            </a:r>
            <a:br>
              <a:rPr sz="2000"/>
            </a:br>
            <a:r>
              <a:rPr b="1" lang="it-IT" sz="2000" spc="-1" strike="noStrike">
                <a:solidFill>
                  <a:srgbClr val="333399"/>
                </a:solidFill>
                <a:latin typeface="Arial Narrow"/>
              </a:rPr>
              <a:t>- con un impatto rilevante in termini di fatturato generato da prodotti nuovi </a:t>
            </a:r>
            <a:br>
              <a:rPr sz="2000"/>
            </a:br>
            <a:r>
              <a:rPr b="1" lang="it-IT" sz="2000" spc="-1" strike="noStrike">
                <a:solidFill>
                  <a:srgbClr val="333399"/>
                </a:solidFill>
                <a:latin typeface="Arial Narrow"/>
              </a:rPr>
              <a:t>  per il mercato (e non solo per l’impres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869080" y="620640"/>
            <a:ext cx="1287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333399"/>
                </a:solidFill>
                <a:latin typeface="Arial"/>
              </a:rPr>
              <a:t>high tec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869080" y="976320"/>
            <a:ext cx="880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73,0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861160" y="1285920"/>
            <a:ext cx="880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91,9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861160" y="1657440"/>
            <a:ext cx="880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8,1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870520" y="2192400"/>
            <a:ext cx="88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54,3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870520" y="2744640"/>
            <a:ext cx="88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10,3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870600" y="436680"/>
            <a:ext cx="226692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333399"/>
                </a:solidFill>
                <a:latin typeface="Arial"/>
              </a:rPr>
              <a:t>altri </a:t>
            </a:r>
            <a:br>
              <a:rPr sz="1500"/>
            </a:br>
            <a:r>
              <a:rPr b="1" lang="it-IT" sz="1500" spc="-1" strike="noStrike">
                <a:solidFill>
                  <a:srgbClr val="333399"/>
                </a:solidFill>
                <a:latin typeface="Arial"/>
              </a:rPr>
              <a:t>medium-high tec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493040" y="976320"/>
            <a:ext cx="880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54,3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485120" y="1285920"/>
            <a:ext cx="880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80,3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485120" y="1657440"/>
            <a:ext cx="880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19,7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494480" y="2192400"/>
            <a:ext cx="88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34,7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494480" y="2744640"/>
            <a:ext cx="88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11,5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rot="16435200">
            <a:off x="466560" y="5189040"/>
            <a:ext cx="430200" cy="287280"/>
          </a:xfrm>
          <a:custGeom>
            <a:avLst/>
            <a:gdLst/>
            <a:ahLst/>
            <a:rect l="l" t="t" r="r" b="b"/>
            <a:pathLst>
              <a:path w="1214" h="753">
                <a:moveTo>
                  <a:pt x="0" y="285"/>
                </a:moveTo>
                <a:lnTo>
                  <a:pt x="0" y="285"/>
                </a:lnTo>
                <a:lnTo>
                  <a:pt x="99" y="360"/>
                </a:lnTo>
                <a:lnTo>
                  <a:pt x="115" y="352"/>
                </a:lnTo>
                <a:lnTo>
                  <a:pt x="134" y="390"/>
                </a:lnTo>
                <a:lnTo>
                  <a:pt x="196" y="417"/>
                </a:lnTo>
                <a:lnTo>
                  <a:pt x="232" y="461"/>
                </a:lnTo>
                <a:lnTo>
                  <a:pt x="304" y="501"/>
                </a:lnTo>
                <a:lnTo>
                  <a:pt x="362" y="556"/>
                </a:lnTo>
                <a:lnTo>
                  <a:pt x="396" y="565"/>
                </a:lnTo>
                <a:lnTo>
                  <a:pt x="420" y="536"/>
                </a:lnTo>
                <a:lnTo>
                  <a:pt x="432" y="564"/>
                </a:lnTo>
                <a:lnTo>
                  <a:pt x="424" y="597"/>
                </a:lnTo>
                <a:lnTo>
                  <a:pt x="504" y="668"/>
                </a:lnTo>
                <a:lnTo>
                  <a:pt x="553" y="677"/>
                </a:lnTo>
                <a:lnTo>
                  <a:pt x="611" y="728"/>
                </a:lnTo>
                <a:lnTo>
                  <a:pt x="629" y="752"/>
                </a:lnTo>
                <a:lnTo>
                  <a:pt x="662" y="744"/>
                </a:lnTo>
                <a:lnTo>
                  <a:pt x="682" y="715"/>
                </a:lnTo>
                <a:lnTo>
                  <a:pt x="758" y="673"/>
                </a:lnTo>
                <a:lnTo>
                  <a:pt x="826" y="593"/>
                </a:lnTo>
                <a:lnTo>
                  <a:pt x="938" y="501"/>
                </a:lnTo>
                <a:lnTo>
                  <a:pt x="999" y="431"/>
                </a:lnTo>
                <a:lnTo>
                  <a:pt x="1051" y="363"/>
                </a:lnTo>
                <a:lnTo>
                  <a:pt x="1077" y="373"/>
                </a:lnTo>
                <a:lnTo>
                  <a:pt x="1110" y="340"/>
                </a:lnTo>
                <a:lnTo>
                  <a:pt x="1108" y="288"/>
                </a:lnTo>
                <a:lnTo>
                  <a:pt x="1130" y="308"/>
                </a:lnTo>
                <a:lnTo>
                  <a:pt x="1159" y="288"/>
                </a:lnTo>
                <a:lnTo>
                  <a:pt x="1153" y="272"/>
                </a:lnTo>
                <a:lnTo>
                  <a:pt x="1184" y="274"/>
                </a:lnTo>
                <a:lnTo>
                  <a:pt x="1213" y="248"/>
                </a:lnTo>
                <a:lnTo>
                  <a:pt x="1139" y="240"/>
                </a:lnTo>
                <a:lnTo>
                  <a:pt x="1127" y="262"/>
                </a:lnTo>
                <a:lnTo>
                  <a:pt x="1106" y="255"/>
                </a:lnTo>
                <a:lnTo>
                  <a:pt x="1016" y="258"/>
                </a:lnTo>
                <a:lnTo>
                  <a:pt x="992" y="284"/>
                </a:lnTo>
                <a:lnTo>
                  <a:pt x="956" y="267"/>
                </a:lnTo>
                <a:lnTo>
                  <a:pt x="912" y="255"/>
                </a:lnTo>
                <a:lnTo>
                  <a:pt x="880" y="276"/>
                </a:lnTo>
                <a:lnTo>
                  <a:pt x="816" y="308"/>
                </a:lnTo>
                <a:lnTo>
                  <a:pt x="842" y="286"/>
                </a:lnTo>
                <a:lnTo>
                  <a:pt x="911" y="209"/>
                </a:lnTo>
                <a:lnTo>
                  <a:pt x="912" y="176"/>
                </a:lnTo>
                <a:lnTo>
                  <a:pt x="871" y="204"/>
                </a:lnTo>
                <a:lnTo>
                  <a:pt x="851" y="228"/>
                </a:lnTo>
                <a:lnTo>
                  <a:pt x="854" y="196"/>
                </a:lnTo>
                <a:lnTo>
                  <a:pt x="898" y="124"/>
                </a:lnTo>
                <a:lnTo>
                  <a:pt x="897" y="28"/>
                </a:lnTo>
                <a:lnTo>
                  <a:pt x="887" y="0"/>
                </a:lnTo>
                <a:lnTo>
                  <a:pt x="793" y="3"/>
                </a:lnTo>
                <a:lnTo>
                  <a:pt x="737" y="16"/>
                </a:lnTo>
                <a:lnTo>
                  <a:pt x="613" y="10"/>
                </a:lnTo>
                <a:lnTo>
                  <a:pt x="557" y="19"/>
                </a:lnTo>
                <a:lnTo>
                  <a:pt x="450" y="15"/>
                </a:lnTo>
                <a:lnTo>
                  <a:pt x="408" y="24"/>
                </a:lnTo>
                <a:lnTo>
                  <a:pt x="452" y="57"/>
                </a:lnTo>
                <a:lnTo>
                  <a:pt x="436" y="68"/>
                </a:lnTo>
                <a:lnTo>
                  <a:pt x="391" y="41"/>
                </a:lnTo>
                <a:lnTo>
                  <a:pt x="366" y="42"/>
                </a:lnTo>
                <a:lnTo>
                  <a:pt x="347" y="19"/>
                </a:lnTo>
                <a:lnTo>
                  <a:pt x="292" y="24"/>
                </a:lnTo>
                <a:lnTo>
                  <a:pt x="282" y="63"/>
                </a:lnTo>
                <a:lnTo>
                  <a:pt x="297" y="126"/>
                </a:lnTo>
                <a:lnTo>
                  <a:pt x="297" y="226"/>
                </a:lnTo>
                <a:lnTo>
                  <a:pt x="299" y="264"/>
                </a:lnTo>
                <a:lnTo>
                  <a:pt x="262" y="276"/>
                </a:lnTo>
                <a:lnTo>
                  <a:pt x="192" y="264"/>
                </a:lnTo>
                <a:lnTo>
                  <a:pt x="124" y="277"/>
                </a:lnTo>
                <a:lnTo>
                  <a:pt x="72" y="272"/>
                </a:lnTo>
                <a:lnTo>
                  <a:pt x="65" y="297"/>
                </a:lnTo>
                <a:lnTo>
                  <a:pt x="53" y="291"/>
                </a:lnTo>
                <a:lnTo>
                  <a:pt x="39" y="273"/>
                </a:lnTo>
                <a:lnTo>
                  <a:pt x="3" y="271"/>
                </a:lnTo>
                <a:lnTo>
                  <a:pt x="0" y="285"/>
                </a:lnTo>
                <a:lnTo>
                  <a:pt x="0" y="285"/>
                </a:lnTo>
              </a:path>
            </a:pathLst>
          </a:custGeom>
          <a:solidFill>
            <a:srgbClr val="cc330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52480" y="5176440"/>
            <a:ext cx="768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Arial Narrow"/>
              </a:rPr>
              <a:t>Nel confronto con gli altri settori, la chimica</a:t>
            </a:r>
            <a:br>
              <a:rPr sz="2000"/>
            </a:br>
            <a:r>
              <a:rPr b="1" lang="it-IT" sz="2000" spc="-1" strike="noStrike">
                <a:solidFill>
                  <a:srgbClr val="333399"/>
                </a:solidFill>
                <a:latin typeface="Arial Narrow"/>
              </a:rPr>
              <a:t>- è posizionata significativamente meglio della media dell’industria</a:t>
            </a:r>
            <a:br>
              <a:rPr sz="2000"/>
            </a:br>
            <a:r>
              <a:rPr b="1" lang="it-IT" sz="2000" spc="-1" strike="noStrike">
                <a:solidFill>
                  <a:srgbClr val="333399"/>
                </a:solidFill>
                <a:latin typeface="Arial Narrow"/>
              </a:rPr>
              <a:t>- è complessivamente in linea con gli altri settori medium-high t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541440" y="1012680"/>
            <a:ext cx="8456400" cy="0"/>
          </a:xfrm>
          <a:prstGeom prst="line">
            <a:avLst/>
          </a:prstGeom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8360" y="15840"/>
            <a:ext cx="8001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Arial"/>
              </a:rPr>
              <a:t>Imprese innovative e tipologia di innovazione</a:t>
            </a:r>
            <a:br>
              <a:rPr sz="2400"/>
            </a:br>
            <a:r>
              <a:rPr b="1" lang="it-IT" sz="2400" spc="-1" strike="noStrike">
                <a:solidFill>
                  <a:srgbClr val="333399"/>
                </a:solidFill>
                <a:latin typeface="Arial"/>
              </a:rPr>
              <a:t>nell’industria chimica europ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621240" y="703440"/>
            <a:ext cx="1166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333399"/>
                </a:solidFill>
                <a:latin typeface="Arial"/>
              </a:rPr>
              <a:t>Ital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883640" y="703440"/>
            <a:ext cx="1225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333399"/>
                </a:solidFill>
                <a:latin typeface="Arial"/>
              </a:rPr>
              <a:t>Europ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22440" y="1036800"/>
            <a:ext cx="229392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% imprese innovativ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772080" y="1060560"/>
            <a:ext cx="8175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0000"/>
                </a:solidFill>
                <a:latin typeface="Arial"/>
              </a:rPr>
              <a:t>66,6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083440" y="1060560"/>
            <a:ext cx="760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74,2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859280" y="519120"/>
            <a:ext cx="158760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333399"/>
                </a:solidFill>
                <a:latin typeface="Arial"/>
              </a:rPr>
              <a:t>Europa </a:t>
            </a:r>
            <a:br>
              <a:rPr sz="1500"/>
            </a:br>
            <a:r>
              <a:rPr b="1" lang="it-IT" sz="1500" spc="-1" strike="noStrike">
                <a:solidFill>
                  <a:srgbClr val="333399"/>
                </a:solidFill>
                <a:latin typeface="Arial"/>
              </a:rPr>
              <a:t>escl. German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191200" y="1060560"/>
            <a:ext cx="880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0000"/>
                </a:solidFill>
                <a:latin typeface="Arial"/>
              </a:rPr>
              <a:t>68,3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4520" y="1417680"/>
            <a:ext cx="292572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- di cui innovaz. di prodott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763800" y="1441440"/>
            <a:ext cx="8175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82,7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75520" y="1441440"/>
            <a:ext cx="760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79,9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183280" y="1441440"/>
            <a:ext cx="880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78,4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14520" y="1789200"/>
            <a:ext cx="292572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- di cui innovaz. di process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763800" y="1812960"/>
            <a:ext cx="8175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17,3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075520" y="1812960"/>
            <a:ext cx="760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20,1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183280" y="1812960"/>
            <a:ext cx="880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21,6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69880" y="2225520"/>
            <a:ext cx="8456760" cy="0"/>
          </a:xfrm>
          <a:prstGeom prst="line">
            <a:avLst/>
          </a:prstGeom>
          <a:ln w="2232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41440" y="3597120"/>
            <a:ext cx="8456400" cy="0"/>
          </a:xfrm>
          <a:prstGeom prst="line">
            <a:avLst/>
          </a:prstGeom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23880" y="2301840"/>
            <a:ext cx="36100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% imprese con innovaz. </a:t>
            </a:r>
            <a:br>
              <a:rPr sz="1500"/>
            </a:b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nuova per il mercat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773520" y="2438280"/>
            <a:ext cx="8175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0000"/>
                </a:solidFill>
                <a:latin typeface="Arial"/>
              </a:rPr>
              <a:t>32,4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085240" y="2438280"/>
            <a:ext cx="760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35,3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192640" y="2438280"/>
            <a:ext cx="88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0000"/>
                </a:solidFill>
                <a:latin typeface="Arial"/>
              </a:rPr>
              <a:t>33,3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23880" y="2911320"/>
            <a:ext cx="33814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% di fatturato del settore</a:t>
            </a:r>
            <a:br>
              <a:rPr sz="1500"/>
            </a:b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da innovaz. nuova per il mercat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773520" y="3051000"/>
            <a:ext cx="8175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0000"/>
                </a:solidFill>
                <a:latin typeface="Arial"/>
              </a:rPr>
              <a:t>8,5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085240" y="3051000"/>
            <a:ext cx="760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7,6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192640" y="3051000"/>
            <a:ext cx="88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0000"/>
                </a:solidFill>
                <a:latin typeface="Arial"/>
              </a:rPr>
              <a:t>9,0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17960" y="6518160"/>
            <a:ext cx="43826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333399"/>
                </a:solidFill>
                <a:latin typeface="Arial"/>
              </a:rPr>
              <a:t>Fonte: </a:t>
            </a:r>
            <a:r>
              <a:rPr b="0" lang="it-IT" sz="1400" spc="-1" strike="noStrike">
                <a:solidFill>
                  <a:srgbClr val="333399"/>
                </a:solidFill>
                <a:latin typeface="Arial"/>
              </a:rPr>
              <a:t>Euro</a:t>
            </a:r>
            <a:r>
              <a:rPr b="0" sz="1400" spc="-1" strike="noStrike">
                <a:solidFill>
                  <a:srgbClr val="333399"/>
                </a:solidFill>
                <a:latin typeface="Arial"/>
              </a:rPr>
              <a:t>stat, Community Innovation Survey, </a:t>
            </a:r>
            <a:r>
              <a:rPr b="0" lang="it-IT" sz="1400" spc="-1" strike="noStrike">
                <a:solidFill>
                  <a:srgbClr val="333399"/>
                </a:solidFill>
                <a:latin typeface="Arial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33440" y="5981760"/>
            <a:ext cx="5808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333399"/>
                </a:solidFill>
                <a:latin typeface="Arial"/>
              </a:rPr>
              <a:t>Not</a:t>
            </a:r>
            <a:r>
              <a:rPr b="0" sz="1400" spc="-1" strike="noStrike">
                <a:solidFill>
                  <a:srgbClr val="333399"/>
                </a:solidFill>
                <a:latin typeface="Arial"/>
              </a:rPr>
              <a:t>e: </a:t>
            </a:r>
            <a:r>
              <a:rPr b="0" lang="it-IT" sz="1400" spc="-1" strike="noStrike">
                <a:solidFill>
                  <a:srgbClr val="333399"/>
                </a:solidFill>
                <a:latin typeface="Arial"/>
              </a:rPr>
              <a:t>totale = imprese con più di 10 addetti </a:t>
            </a:r>
            <a:br>
              <a:rPr sz="1400"/>
            </a:br>
            <a:r>
              <a:rPr b="0" lang="it-IT" sz="1400" spc="-1" strike="noStrike">
                <a:solidFill>
                  <a:srgbClr val="333399"/>
                </a:solidFill>
                <a:latin typeface="Arial"/>
              </a:rPr>
              <a:t>          UE = Germania, Francia, Italia, Paesi Bassi, Spagna, Belgi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rot="16435200">
            <a:off x="466560" y="3885840"/>
            <a:ext cx="430200" cy="287280"/>
          </a:xfrm>
          <a:custGeom>
            <a:avLst/>
            <a:gdLst/>
            <a:ahLst/>
            <a:rect l="l" t="t" r="r" b="b"/>
            <a:pathLst>
              <a:path w="1214" h="753">
                <a:moveTo>
                  <a:pt x="0" y="285"/>
                </a:moveTo>
                <a:lnTo>
                  <a:pt x="0" y="285"/>
                </a:lnTo>
                <a:lnTo>
                  <a:pt x="99" y="360"/>
                </a:lnTo>
                <a:lnTo>
                  <a:pt x="115" y="352"/>
                </a:lnTo>
                <a:lnTo>
                  <a:pt x="134" y="390"/>
                </a:lnTo>
                <a:lnTo>
                  <a:pt x="196" y="417"/>
                </a:lnTo>
                <a:lnTo>
                  <a:pt x="232" y="461"/>
                </a:lnTo>
                <a:lnTo>
                  <a:pt x="304" y="501"/>
                </a:lnTo>
                <a:lnTo>
                  <a:pt x="362" y="556"/>
                </a:lnTo>
                <a:lnTo>
                  <a:pt x="396" y="565"/>
                </a:lnTo>
                <a:lnTo>
                  <a:pt x="420" y="536"/>
                </a:lnTo>
                <a:lnTo>
                  <a:pt x="432" y="564"/>
                </a:lnTo>
                <a:lnTo>
                  <a:pt x="424" y="597"/>
                </a:lnTo>
                <a:lnTo>
                  <a:pt x="504" y="668"/>
                </a:lnTo>
                <a:lnTo>
                  <a:pt x="553" y="677"/>
                </a:lnTo>
                <a:lnTo>
                  <a:pt x="611" y="728"/>
                </a:lnTo>
                <a:lnTo>
                  <a:pt x="629" y="752"/>
                </a:lnTo>
                <a:lnTo>
                  <a:pt x="662" y="744"/>
                </a:lnTo>
                <a:lnTo>
                  <a:pt x="682" y="715"/>
                </a:lnTo>
                <a:lnTo>
                  <a:pt x="758" y="673"/>
                </a:lnTo>
                <a:lnTo>
                  <a:pt x="826" y="593"/>
                </a:lnTo>
                <a:lnTo>
                  <a:pt x="938" y="501"/>
                </a:lnTo>
                <a:lnTo>
                  <a:pt x="999" y="431"/>
                </a:lnTo>
                <a:lnTo>
                  <a:pt x="1051" y="363"/>
                </a:lnTo>
                <a:lnTo>
                  <a:pt x="1077" y="373"/>
                </a:lnTo>
                <a:lnTo>
                  <a:pt x="1110" y="340"/>
                </a:lnTo>
                <a:lnTo>
                  <a:pt x="1108" y="288"/>
                </a:lnTo>
                <a:lnTo>
                  <a:pt x="1130" y="308"/>
                </a:lnTo>
                <a:lnTo>
                  <a:pt x="1159" y="288"/>
                </a:lnTo>
                <a:lnTo>
                  <a:pt x="1153" y="272"/>
                </a:lnTo>
                <a:lnTo>
                  <a:pt x="1184" y="274"/>
                </a:lnTo>
                <a:lnTo>
                  <a:pt x="1213" y="248"/>
                </a:lnTo>
                <a:lnTo>
                  <a:pt x="1139" y="240"/>
                </a:lnTo>
                <a:lnTo>
                  <a:pt x="1127" y="262"/>
                </a:lnTo>
                <a:lnTo>
                  <a:pt x="1106" y="255"/>
                </a:lnTo>
                <a:lnTo>
                  <a:pt x="1016" y="258"/>
                </a:lnTo>
                <a:lnTo>
                  <a:pt x="992" y="284"/>
                </a:lnTo>
                <a:lnTo>
                  <a:pt x="956" y="267"/>
                </a:lnTo>
                <a:lnTo>
                  <a:pt x="912" y="255"/>
                </a:lnTo>
                <a:lnTo>
                  <a:pt x="880" y="276"/>
                </a:lnTo>
                <a:lnTo>
                  <a:pt x="816" y="308"/>
                </a:lnTo>
                <a:lnTo>
                  <a:pt x="842" y="286"/>
                </a:lnTo>
                <a:lnTo>
                  <a:pt x="911" y="209"/>
                </a:lnTo>
                <a:lnTo>
                  <a:pt x="912" y="176"/>
                </a:lnTo>
                <a:lnTo>
                  <a:pt x="871" y="204"/>
                </a:lnTo>
                <a:lnTo>
                  <a:pt x="851" y="228"/>
                </a:lnTo>
                <a:lnTo>
                  <a:pt x="854" y="196"/>
                </a:lnTo>
                <a:lnTo>
                  <a:pt x="898" y="124"/>
                </a:lnTo>
                <a:lnTo>
                  <a:pt x="897" y="28"/>
                </a:lnTo>
                <a:lnTo>
                  <a:pt x="887" y="0"/>
                </a:lnTo>
                <a:lnTo>
                  <a:pt x="793" y="3"/>
                </a:lnTo>
                <a:lnTo>
                  <a:pt x="737" y="16"/>
                </a:lnTo>
                <a:lnTo>
                  <a:pt x="613" y="10"/>
                </a:lnTo>
                <a:lnTo>
                  <a:pt x="557" y="19"/>
                </a:lnTo>
                <a:lnTo>
                  <a:pt x="450" y="15"/>
                </a:lnTo>
                <a:lnTo>
                  <a:pt x="408" y="24"/>
                </a:lnTo>
                <a:lnTo>
                  <a:pt x="452" y="57"/>
                </a:lnTo>
                <a:lnTo>
                  <a:pt x="436" y="68"/>
                </a:lnTo>
                <a:lnTo>
                  <a:pt x="391" y="41"/>
                </a:lnTo>
                <a:lnTo>
                  <a:pt x="366" y="42"/>
                </a:lnTo>
                <a:lnTo>
                  <a:pt x="347" y="19"/>
                </a:lnTo>
                <a:lnTo>
                  <a:pt x="292" y="24"/>
                </a:lnTo>
                <a:lnTo>
                  <a:pt x="282" y="63"/>
                </a:lnTo>
                <a:lnTo>
                  <a:pt x="297" y="126"/>
                </a:lnTo>
                <a:lnTo>
                  <a:pt x="297" y="226"/>
                </a:lnTo>
                <a:lnTo>
                  <a:pt x="299" y="264"/>
                </a:lnTo>
                <a:lnTo>
                  <a:pt x="262" y="276"/>
                </a:lnTo>
                <a:lnTo>
                  <a:pt x="192" y="264"/>
                </a:lnTo>
                <a:lnTo>
                  <a:pt x="124" y="277"/>
                </a:lnTo>
                <a:lnTo>
                  <a:pt x="72" y="272"/>
                </a:lnTo>
                <a:lnTo>
                  <a:pt x="65" y="297"/>
                </a:lnTo>
                <a:lnTo>
                  <a:pt x="53" y="291"/>
                </a:lnTo>
                <a:lnTo>
                  <a:pt x="39" y="273"/>
                </a:lnTo>
                <a:lnTo>
                  <a:pt x="3" y="271"/>
                </a:lnTo>
                <a:lnTo>
                  <a:pt x="0" y="285"/>
                </a:lnTo>
                <a:lnTo>
                  <a:pt x="0" y="285"/>
                </a:lnTo>
              </a:path>
            </a:pathLst>
          </a:custGeom>
          <a:solidFill>
            <a:srgbClr val="cc330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52480" y="3846240"/>
            <a:ext cx="829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Arial Narrow"/>
              </a:rPr>
              <a:t>Nonostante la chimica italiana abbia minori spese di ricerca, </a:t>
            </a:r>
            <a:br>
              <a:rPr sz="2000"/>
            </a:br>
            <a:r>
              <a:rPr b="1" lang="it-IT" sz="2000" spc="-1" strike="noStrike">
                <a:solidFill>
                  <a:srgbClr val="333399"/>
                </a:solidFill>
                <a:latin typeface="Arial Narrow"/>
              </a:rPr>
              <a:t>la diffusione dell’attività innovativa e il suo impatto in termini di fatturato</a:t>
            </a:r>
            <a:br>
              <a:rPr sz="2000"/>
            </a:br>
            <a:r>
              <a:rPr b="1" lang="it-IT" sz="2000" spc="-1" strike="noStrike">
                <a:solidFill>
                  <a:srgbClr val="333399"/>
                </a:solidFill>
                <a:latin typeface="Arial Narrow"/>
              </a:rPr>
              <a:t>sono prossimi alla media europea (esclusa German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435200">
            <a:off x="466560" y="4941360"/>
            <a:ext cx="430200" cy="287280"/>
          </a:xfrm>
          <a:custGeom>
            <a:avLst/>
            <a:gdLst/>
            <a:ahLst/>
            <a:rect l="l" t="t" r="r" b="b"/>
            <a:pathLst>
              <a:path w="1214" h="753">
                <a:moveTo>
                  <a:pt x="0" y="285"/>
                </a:moveTo>
                <a:lnTo>
                  <a:pt x="0" y="285"/>
                </a:lnTo>
                <a:lnTo>
                  <a:pt x="99" y="360"/>
                </a:lnTo>
                <a:lnTo>
                  <a:pt x="115" y="352"/>
                </a:lnTo>
                <a:lnTo>
                  <a:pt x="134" y="390"/>
                </a:lnTo>
                <a:lnTo>
                  <a:pt x="196" y="417"/>
                </a:lnTo>
                <a:lnTo>
                  <a:pt x="232" y="461"/>
                </a:lnTo>
                <a:lnTo>
                  <a:pt x="304" y="501"/>
                </a:lnTo>
                <a:lnTo>
                  <a:pt x="362" y="556"/>
                </a:lnTo>
                <a:lnTo>
                  <a:pt x="396" y="565"/>
                </a:lnTo>
                <a:lnTo>
                  <a:pt x="420" y="536"/>
                </a:lnTo>
                <a:lnTo>
                  <a:pt x="432" y="564"/>
                </a:lnTo>
                <a:lnTo>
                  <a:pt x="424" y="597"/>
                </a:lnTo>
                <a:lnTo>
                  <a:pt x="504" y="668"/>
                </a:lnTo>
                <a:lnTo>
                  <a:pt x="553" y="677"/>
                </a:lnTo>
                <a:lnTo>
                  <a:pt x="611" y="728"/>
                </a:lnTo>
                <a:lnTo>
                  <a:pt x="629" y="752"/>
                </a:lnTo>
                <a:lnTo>
                  <a:pt x="662" y="744"/>
                </a:lnTo>
                <a:lnTo>
                  <a:pt x="682" y="715"/>
                </a:lnTo>
                <a:lnTo>
                  <a:pt x="758" y="673"/>
                </a:lnTo>
                <a:lnTo>
                  <a:pt x="826" y="593"/>
                </a:lnTo>
                <a:lnTo>
                  <a:pt x="938" y="501"/>
                </a:lnTo>
                <a:lnTo>
                  <a:pt x="999" y="431"/>
                </a:lnTo>
                <a:lnTo>
                  <a:pt x="1051" y="363"/>
                </a:lnTo>
                <a:lnTo>
                  <a:pt x="1077" y="373"/>
                </a:lnTo>
                <a:lnTo>
                  <a:pt x="1110" y="340"/>
                </a:lnTo>
                <a:lnTo>
                  <a:pt x="1108" y="288"/>
                </a:lnTo>
                <a:lnTo>
                  <a:pt x="1130" y="308"/>
                </a:lnTo>
                <a:lnTo>
                  <a:pt x="1159" y="288"/>
                </a:lnTo>
                <a:lnTo>
                  <a:pt x="1153" y="272"/>
                </a:lnTo>
                <a:lnTo>
                  <a:pt x="1184" y="274"/>
                </a:lnTo>
                <a:lnTo>
                  <a:pt x="1213" y="248"/>
                </a:lnTo>
                <a:lnTo>
                  <a:pt x="1139" y="240"/>
                </a:lnTo>
                <a:lnTo>
                  <a:pt x="1127" y="262"/>
                </a:lnTo>
                <a:lnTo>
                  <a:pt x="1106" y="255"/>
                </a:lnTo>
                <a:lnTo>
                  <a:pt x="1016" y="258"/>
                </a:lnTo>
                <a:lnTo>
                  <a:pt x="992" y="284"/>
                </a:lnTo>
                <a:lnTo>
                  <a:pt x="956" y="267"/>
                </a:lnTo>
                <a:lnTo>
                  <a:pt x="912" y="255"/>
                </a:lnTo>
                <a:lnTo>
                  <a:pt x="880" y="276"/>
                </a:lnTo>
                <a:lnTo>
                  <a:pt x="816" y="308"/>
                </a:lnTo>
                <a:lnTo>
                  <a:pt x="842" y="286"/>
                </a:lnTo>
                <a:lnTo>
                  <a:pt x="911" y="209"/>
                </a:lnTo>
                <a:lnTo>
                  <a:pt x="912" y="176"/>
                </a:lnTo>
                <a:lnTo>
                  <a:pt x="871" y="204"/>
                </a:lnTo>
                <a:lnTo>
                  <a:pt x="851" y="228"/>
                </a:lnTo>
                <a:lnTo>
                  <a:pt x="854" y="196"/>
                </a:lnTo>
                <a:lnTo>
                  <a:pt x="898" y="124"/>
                </a:lnTo>
                <a:lnTo>
                  <a:pt x="897" y="28"/>
                </a:lnTo>
                <a:lnTo>
                  <a:pt x="887" y="0"/>
                </a:lnTo>
                <a:lnTo>
                  <a:pt x="793" y="3"/>
                </a:lnTo>
                <a:lnTo>
                  <a:pt x="737" y="16"/>
                </a:lnTo>
                <a:lnTo>
                  <a:pt x="613" y="10"/>
                </a:lnTo>
                <a:lnTo>
                  <a:pt x="557" y="19"/>
                </a:lnTo>
                <a:lnTo>
                  <a:pt x="450" y="15"/>
                </a:lnTo>
                <a:lnTo>
                  <a:pt x="408" y="24"/>
                </a:lnTo>
                <a:lnTo>
                  <a:pt x="452" y="57"/>
                </a:lnTo>
                <a:lnTo>
                  <a:pt x="436" y="68"/>
                </a:lnTo>
                <a:lnTo>
                  <a:pt x="391" y="41"/>
                </a:lnTo>
                <a:lnTo>
                  <a:pt x="366" y="42"/>
                </a:lnTo>
                <a:lnTo>
                  <a:pt x="347" y="19"/>
                </a:lnTo>
                <a:lnTo>
                  <a:pt x="292" y="24"/>
                </a:lnTo>
                <a:lnTo>
                  <a:pt x="282" y="63"/>
                </a:lnTo>
                <a:lnTo>
                  <a:pt x="297" y="126"/>
                </a:lnTo>
                <a:lnTo>
                  <a:pt x="297" y="226"/>
                </a:lnTo>
                <a:lnTo>
                  <a:pt x="299" y="264"/>
                </a:lnTo>
                <a:lnTo>
                  <a:pt x="262" y="276"/>
                </a:lnTo>
                <a:lnTo>
                  <a:pt x="192" y="264"/>
                </a:lnTo>
                <a:lnTo>
                  <a:pt x="124" y="277"/>
                </a:lnTo>
                <a:lnTo>
                  <a:pt x="72" y="272"/>
                </a:lnTo>
                <a:lnTo>
                  <a:pt x="65" y="297"/>
                </a:lnTo>
                <a:lnTo>
                  <a:pt x="53" y="291"/>
                </a:lnTo>
                <a:lnTo>
                  <a:pt x="39" y="273"/>
                </a:lnTo>
                <a:lnTo>
                  <a:pt x="3" y="271"/>
                </a:lnTo>
                <a:lnTo>
                  <a:pt x="0" y="285"/>
                </a:lnTo>
                <a:lnTo>
                  <a:pt x="0" y="285"/>
                </a:lnTo>
              </a:path>
            </a:pathLst>
          </a:custGeom>
          <a:solidFill>
            <a:srgbClr val="cc330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52480" y="4889160"/>
            <a:ext cx="760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Arial Narrow"/>
              </a:rPr>
              <a:t>Praticamente tutti gli indicatori di innovazione e ricerca </a:t>
            </a:r>
            <a:br>
              <a:rPr sz="2000"/>
            </a:br>
            <a:r>
              <a:rPr b="1" lang="it-IT" sz="2000" spc="-1" strike="noStrike">
                <a:solidFill>
                  <a:srgbClr val="333399"/>
                </a:solidFill>
                <a:latin typeface="Arial Narrow"/>
              </a:rPr>
              <a:t>evidenziano l’eccellenza della chimica tedesca </a:t>
            </a:r>
            <a:br>
              <a:rPr sz="2000"/>
            </a:br>
            <a:r>
              <a:rPr b="1" lang="it-IT" sz="2000" spc="-1" strike="noStrike">
                <a:solidFill>
                  <a:srgbClr val="333399"/>
                </a:solidFill>
                <a:latin typeface="Arial Narrow"/>
              </a:rPr>
              <a:t>rispetto agli altri grandi produttori europ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516720" y="701640"/>
            <a:ext cx="1440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333399"/>
                </a:solidFill>
                <a:latin typeface="Arial"/>
              </a:rPr>
              <a:t>German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811920" y="1058760"/>
            <a:ext cx="760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92,2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804000" y="1440000"/>
            <a:ext cx="760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83,4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804000" y="1811160"/>
            <a:ext cx="760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16,6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13720" y="2436840"/>
            <a:ext cx="760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41,3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813720" y="3049560"/>
            <a:ext cx="760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5,1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541440" y="814320"/>
            <a:ext cx="5757840" cy="0"/>
          </a:xfrm>
          <a:prstGeom prst="line">
            <a:avLst/>
          </a:prstGeom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58640" y="15840"/>
            <a:ext cx="6058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Arial"/>
              </a:rPr>
              <a:t>Quota del fatturato settoriale </a:t>
            </a:r>
            <a:br>
              <a:rPr sz="2400"/>
            </a:br>
            <a:r>
              <a:rPr b="1" lang="it-IT" sz="2400" spc="-1" strike="noStrike">
                <a:solidFill>
                  <a:srgbClr val="333399"/>
                </a:solidFill>
                <a:latin typeface="Arial"/>
              </a:rPr>
              <a:t>facente capo a imprese innovative </a:t>
            </a:r>
            <a:r>
              <a:rPr b="1" lang="it-IT" sz="2000" spc="-1" strike="noStrike">
                <a:solidFill>
                  <a:srgbClr val="333399"/>
                </a:solidFill>
                <a:latin typeface="Arial"/>
              </a:rPr>
              <a:t>(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47560" y="1174680"/>
            <a:ext cx="11671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chimic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39640" y="1535040"/>
            <a:ext cx="1287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industr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41440" y="2665440"/>
            <a:ext cx="5757840" cy="0"/>
          </a:xfrm>
          <a:prstGeom prst="line">
            <a:avLst/>
          </a:prstGeom>
          <a:ln w="2232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33440" y="6540480"/>
            <a:ext cx="8137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333399"/>
                </a:solidFill>
                <a:latin typeface="Arial"/>
              </a:rPr>
              <a:t>Fonte: </a:t>
            </a:r>
            <a:r>
              <a:rPr b="0" lang="it-IT" sz="1400" spc="-1" strike="noStrike">
                <a:solidFill>
                  <a:srgbClr val="333399"/>
                </a:solidFill>
                <a:latin typeface="Arial"/>
              </a:rPr>
              <a:t>Euro</a:t>
            </a:r>
            <a:r>
              <a:rPr b="0" sz="1400" spc="-1" strike="noStrike">
                <a:solidFill>
                  <a:srgbClr val="333399"/>
                </a:solidFill>
                <a:latin typeface="Arial"/>
              </a:rPr>
              <a:t>stat, Community Innovation Survey, </a:t>
            </a:r>
            <a:r>
              <a:rPr b="0" lang="it-IT" sz="1400" spc="-1" strike="noStrike">
                <a:solidFill>
                  <a:srgbClr val="333399"/>
                </a:solidFill>
                <a:latin typeface="Arial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538280" y="5816520"/>
            <a:ext cx="520380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333399"/>
                </a:solidFill>
                <a:latin typeface="Arial"/>
              </a:rPr>
              <a:t>high tech = farmaceutica ed elettro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333399"/>
                </a:solidFill>
                <a:latin typeface="Arial"/>
              </a:rPr>
              <a:t>medium-high tech = elettrotecnica, meccanica, automoti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16435200">
            <a:off x="509400" y="4723920"/>
            <a:ext cx="430200" cy="287280"/>
          </a:xfrm>
          <a:custGeom>
            <a:avLst/>
            <a:gdLst/>
            <a:ahLst/>
            <a:rect l="l" t="t" r="r" b="b"/>
            <a:pathLst>
              <a:path w="1214" h="753">
                <a:moveTo>
                  <a:pt x="0" y="285"/>
                </a:moveTo>
                <a:lnTo>
                  <a:pt x="0" y="285"/>
                </a:lnTo>
                <a:lnTo>
                  <a:pt x="99" y="360"/>
                </a:lnTo>
                <a:lnTo>
                  <a:pt x="115" y="352"/>
                </a:lnTo>
                <a:lnTo>
                  <a:pt x="134" y="390"/>
                </a:lnTo>
                <a:lnTo>
                  <a:pt x="196" y="417"/>
                </a:lnTo>
                <a:lnTo>
                  <a:pt x="232" y="461"/>
                </a:lnTo>
                <a:lnTo>
                  <a:pt x="304" y="501"/>
                </a:lnTo>
                <a:lnTo>
                  <a:pt x="362" y="556"/>
                </a:lnTo>
                <a:lnTo>
                  <a:pt x="396" y="565"/>
                </a:lnTo>
                <a:lnTo>
                  <a:pt x="420" y="536"/>
                </a:lnTo>
                <a:lnTo>
                  <a:pt x="432" y="564"/>
                </a:lnTo>
                <a:lnTo>
                  <a:pt x="424" y="597"/>
                </a:lnTo>
                <a:lnTo>
                  <a:pt x="504" y="668"/>
                </a:lnTo>
                <a:lnTo>
                  <a:pt x="553" y="677"/>
                </a:lnTo>
                <a:lnTo>
                  <a:pt x="611" y="728"/>
                </a:lnTo>
                <a:lnTo>
                  <a:pt x="629" y="752"/>
                </a:lnTo>
                <a:lnTo>
                  <a:pt x="662" y="744"/>
                </a:lnTo>
                <a:lnTo>
                  <a:pt x="682" y="715"/>
                </a:lnTo>
                <a:lnTo>
                  <a:pt x="758" y="673"/>
                </a:lnTo>
                <a:lnTo>
                  <a:pt x="826" y="593"/>
                </a:lnTo>
                <a:lnTo>
                  <a:pt x="938" y="501"/>
                </a:lnTo>
                <a:lnTo>
                  <a:pt x="999" y="431"/>
                </a:lnTo>
                <a:lnTo>
                  <a:pt x="1051" y="363"/>
                </a:lnTo>
                <a:lnTo>
                  <a:pt x="1077" y="373"/>
                </a:lnTo>
                <a:lnTo>
                  <a:pt x="1110" y="340"/>
                </a:lnTo>
                <a:lnTo>
                  <a:pt x="1108" y="288"/>
                </a:lnTo>
                <a:lnTo>
                  <a:pt x="1130" y="308"/>
                </a:lnTo>
                <a:lnTo>
                  <a:pt x="1159" y="288"/>
                </a:lnTo>
                <a:lnTo>
                  <a:pt x="1153" y="272"/>
                </a:lnTo>
                <a:lnTo>
                  <a:pt x="1184" y="274"/>
                </a:lnTo>
                <a:lnTo>
                  <a:pt x="1213" y="248"/>
                </a:lnTo>
                <a:lnTo>
                  <a:pt x="1139" y="240"/>
                </a:lnTo>
                <a:lnTo>
                  <a:pt x="1127" y="262"/>
                </a:lnTo>
                <a:lnTo>
                  <a:pt x="1106" y="255"/>
                </a:lnTo>
                <a:lnTo>
                  <a:pt x="1016" y="258"/>
                </a:lnTo>
                <a:lnTo>
                  <a:pt x="992" y="284"/>
                </a:lnTo>
                <a:lnTo>
                  <a:pt x="956" y="267"/>
                </a:lnTo>
                <a:lnTo>
                  <a:pt x="912" y="255"/>
                </a:lnTo>
                <a:lnTo>
                  <a:pt x="880" y="276"/>
                </a:lnTo>
                <a:lnTo>
                  <a:pt x="816" y="308"/>
                </a:lnTo>
                <a:lnTo>
                  <a:pt x="842" y="286"/>
                </a:lnTo>
                <a:lnTo>
                  <a:pt x="911" y="209"/>
                </a:lnTo>
                <a:lnTo>
                  <a:pt x="912" y="176"/>
                </a:lnTo>
                <a:lnTo>
                  <a:pt x="871" y="204"/>
                </a:lnTo>
                <a:lnTo>
                  <a:pt x="851" y="228"/>
                </a:lnTo>
                <a:lnTo>
                  <a:pt x="854" y="196"/>
                </a:lnTo>
                <a:lnTo>
                  <a:pt x="898" y="124"/>
                </a:lnTo>
                <a:lnTo>
                  <a:pt x="897" y="28"/>
                </a:lnTo>
                <a:lnTo>
                  <a:pt x="887" y="0"/>
                </a:lnTo>
                <a:lnTo>
                  <a:pt x="793" y="3"/>
                </a:lnTo>
                <a:lnTo>
                  <a:pt x="737" y="16"/>
                </a:lnTo>
                <a:lnTo>
                  <a:pt x="613" y="10"/>
                </a:lnTo>
                <a:lnTo>
                  <a:pt x="557" y="19"/>
                </a:lnTo>
                <a:lnTo>
                  <a:pt x="450" y="15"/>
                </a:lnTo>
                <a:lnTo>
                  <a:pt x="408" y="24"/>
                </a:lnTo>
                <a:lnTo>
                  <a:pt x="452" y="57"/>
                </a:lnTo>
                <a:lnTo>
                  <a:pt x="436" y="68"/>
                </a:lnTo>
                <a:lnTo>
                  <a:pt x="391" y="41"/>
                </a:lnTo>
                <a:lnTo>
                  <a:pt x="366" y="42"/>
                </a:lnTo>
                <a:lnTo>
                  <a:pt x="347" y="19"/>
                </a:lnTo>
                <a:lnTo>
                  <a:pt x="292" y="24"/>
                </a:lnTo>
                <a:lnTo>
                  <a:pt x="282" y="63"/>
                </a:lnTo>
                <a:lnTo>
                  <a:pt x="297" y="126"/>
                </a:lnTo>
                <a:lnTo>
                  <a:pt x="297" y="226"/>
                </a:lnTo>
                <a:lnTo>
                  <a:pt x="299" y="264"/>
                </a:lnTo>
                <a:lnTo>
                  <a:pt x="262" y="276"/>
                </a:lnTo>
                <a:lnTo>
                  <a:pt x="192" y="264"/>
                </a:lnTo>
                <a:lnTo>
                  <a:pt x="124" y="277"/>
                </a:lnTo>
                <a:lnTo>
                  <a:pt x="72" y="272"/>
                </a:lnTo>
                <a:lnTo>
                  <a:pt x="65" y="297"/>
                </a:lnTo>
                <a:lnTo>
                  <a:pt x="53" y="291"/>
                </a:lnTo>
                <a:lnTo>
                  <a:pt x="39" y="273"/>
                </a:lnTo>
                <a:lnTo>
                  <a:pt x="3" y="271"/>
                </a:lnTo>
                <a:lnTo>
                  <a:pt x="0" y="285"/>
                </a:lnTo>
                <a:lnTo>
                  <a:pt x="0" y="285"/>
                </a:lnTo>
              </a:path>
            </a:pathLst>
          </a:custGeom>
          <a:solidFill>
            <a:srgbClr val="cc330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895320" y="4698360"/>
            <a:ext cx="768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Arial Narrow"/>
              </a:rPr>
              <a:t>Una quota assolutamente predominante del fatturato chimico in Italia</a:t>
            </a:r>
            <a:br>
              <a:rPr sz="2000"/>
            </a:br>
            <a:r>
              <a:rPr b="1" lang="it-IT" sz="2000" spc="-1" strike="noStrike">
                <a:solidFill>
                  <a:srgbClr val="333399"/>
                </a:solidFill>
                <a:latin typeface="Arial Narrow"/>
              </a:rPr>
              <a:t>è realizzata da imprese innov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39640" y="1893960"/>
            <a:ext cx="1287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high tec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30280" y="2254320"/>
            <a:ext cx="226692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altri medium-high tec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39640" y="853920"/>
            <a:ext cx="1166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0000"/>
                </a:solidFill>
                <a:latin typeface="Arial"/>
              </a:rPr>
              <a:t>Ital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57280" y="3033720"/>
            <a:ext cx="1166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Ital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49360" y="3394080"/>
            <a:ext cx="1287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Europ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49360" y="3735360"/>
            <a:ext cx="2438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Europa escl. German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39640" y="4105440"/>
            <a:ext cx="226692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German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49360" y="2719440"/>
            <a:ext cx="1166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0000"/>
                </a:solidFill>
                <a:latin typeface="Arial"/>
              </a:rPr>
              <a:t>Chimic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73120" y="4437000"/>
            <a:ext cx="5757840" cy="0"/>
          </a:xfrm>
          <a:prstGeom prst="line">
            <a:avLst/>
          </a:prstGeom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572000" y="1162080"/>
            <a:ext cx="792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0000"/>
                </a:solidFill>
                <a:latin typeface="Arial"/>
              </a:rPr>
              <a:t>86,4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89560" y="1522440"/>
            <a:ext cx="874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71,9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572000" y="1881360"/>
            <a:ext cx="792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86,4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572000" y="2241720"/>
            <a:ext cx="79200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82,5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583160" y="3033720"/>
            <a:ext cx="792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86,4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500720" y="3394080"/>
            <a:ext cx="874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88,6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83160" y="3735360"/>
            <a:ext cx="792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84,8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83160" y="4105440"/>
            <a:ext cx="79200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95,1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33440" y="5589720"/>
            <a:ext cx="58086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333399"/>
                </a:solidFill>
                <a:latin typeface="Arial"/>
              </a:rPr>
              <a:t>Not</a:t>
            </a:r>
            <a:r>
              <a:rPr b="0" sz="1400" spc="-1" strike="noStrike">
                <a:solidFill>
                  <a:srgbClr val="333399"/>
                </a:solidFill>
                <a:latin typeface="Arial"/>
              </a:rPr>
              <a:t>e: </a:t>
            </a:r>
            <a:r>
              <a:rPr b="0" lang="it-IT" sz="1400" spc="-1" strike="noStrike">
                <a:solidFill>
                  <a:srgbClr val="333399"/>
                </a:solidFill>
                <a:latin typeface="Arial"/>
              </a:rPr>
              <a:t>totale = imprese con più di 10 addett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538280" y="6270480"/>
            <a:ext cx="58086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333399"/>
                </a:solidFill>
                <a:latin typeface="Arial"/>
              </a:rPr>
              <a:t>UE = Germania, Francia, Italia, Paesi Bassi, Spagna, Belgi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442800" y="1540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Arial"/>
              </a:rPr>
              <a:t>Imprese innovative con attività di R&amp;S in Ita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03360" y="1366920"/>
            <a:ext cx="330660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% imprese con R&amp;S intra-mur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798720" y="1390680"/>
            <a:ext cx="8175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0000"/>
                </a:solidFill>
                <a:latin typeface="Arial"/>
              </a:rPr>
              <a:t>47,4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862520" y="1390680"/>
            <a:ext cx="880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0000"/>
                </a:solidFill>
                <a:latin typeface="Arial"/>
              </a:rPr>
              <a:t>21,2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95440" y="1747800"/>
            <a:ext cx="292572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- di cui R&amp;S continuativ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790800" y="1771560"/>
            <a:ext cx="8175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69,1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854600" y="1771560"/>
            <a:ext cx="880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63,3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95440" y="2119320"/>
            <a:ext cx="415260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% imprese con R&amp;S extra-mur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790800" y="2143080"/>
            <a:ext cx="8175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0000"/>
                </a:solidFill>
                <a:latin typeface="Arial"/>
              </a:rPr>
              <a:t>19,3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4600" y="2143080"/>
            <a:ext cx="880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7,8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29120" y="6367320"/>
            <a:ext cx="43826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333399"/>
                </a:solidFill>
                <a:latin typeface="Arial"/>
              </a:rPr>
              <a:t>Fonte: </a:t>
            </a:r>
            <a:r>
              <a:rPr b="0" lang="it-IT" sz="1400" spc="-1" strike="noStrike">
                <a:solidFill>
                  <a:srgbClr val="333399"/>
                </a:solidFill>
                <a:latin typeface="Arial"/>
              </a:rPr>
              <a:t>Euro</a:t>
            </a:r>
            <a:r>
              <a:rPr b="0" sz="1400" spc="-1" strike="noStrike">
                <a:solidFill>
                  <a:srgbClr val="333399"/>
                </a:solidFill>
                <a:latin typeface="Arial"/>
              </a:rPr>
              <a:t>stat, Community Innovation Survey, </a:t>
            </a:r>
            <a:r>
              <a:rPr b="0" lang="it-IT" sz="1400" spc="-1" strike="noStrike">
                <a:solidFill>
                  <a:srgbClr val="333399"/>
                </a:solidFill>
                <a:latin typeface="Arial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rot="16435200">
            <a:off x="456840" y="2998080"/>
            <a:ext cx="430200" cy="287640"/>
          </a:xfrm>
          <a:custGeom>
            <a:avLst/>
            <a:gdLst/>
            <a:ahLst/>
            <a:rect l="l" t="t" r="r" b="b"/>
            <a:pathLst>
              <a:path w="1214" h="753">
                <a:moveTo>
                  <a:pt x="0" y="285"/>
                </a:moveTo>
                <a:lnTo>
                  <a:pt x="0" y="285"/>
                </a:lnTo>
                <a:lnTo>
                  <a:pt x="99" y="360"/>
                </a:lnTo>
                <a:lnTo>
                  <a:pt x="115" y="352"/>
                </a:lnTo>
                <a:lnTo>
                  <a:pt x="134" y="390"/>
                </a:lnTo>
                <a:lnTo>
                  <a:pt x="196" y="417"/>
                </a:lnTo>
                <a:lnTo>
                  <a:pt x="232" y="461"/>
                </a:lnTo>
                <a:lnTo>
                  <a:pt x="304" y="501"/>
                </a:lnTo>
                <a:lnTo>
                  <a:pt x="362" y="556"/>
                </a:lnTo>
                <a:lnTo>
                  <a:pt x="396" y="565"/>
                </a:lnTo>
                <a:lnTo>
                  <a:pt x="420" y="536"/>
                </a:lnTo>
                <a:lnTo>
                  <a:pt x="432" y="564"/>
                </a:lnTo>
                <a:lnTo>
                  <a:pt x="424" y="597"/>
                </a:lnTo>
                <a:lnTo>
                  <a:pt x="504" y="668"/>
                </a:lnTo>
                <a:lnTo>
                  <a:pt x="553" y="677"/>
                </a:lnTo>
                <a:lnTo>
                  <a:pt x="611" y="728"/>
                </a:lnTo>
                <a:lnTo>
                  <a:pt x="629" y="752"/>
                </a:lnTo>
                <a:lnTo>
                  <a:pt x="662" y="744"/>
                </a:lnTo>
                <a:lnTo>
                  <a:pt x="682" y="715"/>
                </a:lnTo>
                <a:lnTo>
                  <a:pt x="758" y="673"/>
                </a:lnTo>
                <a:lnTo>
                  <a:pt x="826" y="593"/>
                </a:lnTo>
                <a:lnTo>
                  <a:pt x="938" y="501"/>
                </a:lnTo>
                <a:lnTo>
                  <a:pt x="999" y="431"/>
                </a:lnTo>
                <a:lnTo>
                  <a:pt x="1051" y="363"/>
                </a:lnTo>
                <a:lnTo>
                  <a:pt x="1077" y="373"/>
                </a:lnTo>
                <a:lnTo>
                  <a:pt x="1110" y="340"/>
                </a:lnTo>
                <a:lnTo>
                  <a:pt x="1108" y="288"/>
                </a:lnTo>
                <a:lnTo>
                  <a:pt x="1130" y="308"/>
                </a:lnTo>
                <a:lnTo>
                  <a:pt x="1159" y="288"/>
                </a:lnTo>
                <a:lnTo>
                  <a:pt x="1153" y="272"/>
                </a:lnTo>
                <a:lnTo>
                  <a:pt x="1184" y="274"/>
                </a:lnTo>
                <a:lnTo>
                  <a:pt x="1213" y="248"/>
                </a:lnTo>
                <a:lnTo>
                  <a:pt x="1139" y="240"/>
                </a:lnTo>
                <a:lnTo>
                  <a:pt x="1127" y="262"/>
                </a:lnTo>
                <a:lnTo>
                  <a:pt x="1106" y="255"/>
                </a:lnTo>
                <a:lnTo>
                  <a:pt x="1016" y="258"/>
                </a:lnTo>
                <a:lnTo>
                  <a:pt x="992" y="284"/>
                </a:lnTo>
                <a:lnTo>
                  <a:pt x="956" y="267"/>
                </a:lnTo>
                <a:lnTo>
                  <a:pt x="912" y="255"/>
                </a:lnTo>
                <a:lnTo>
                  <a:pt x="880" y="276"/>
                </a:lnTo>
                <a:lnTo>
                  <a:pt x="816" y="308"/>
                </a:lnTo>
                <a:lnTo>
                  <a:pt x="842" y="286"/>
                </a:lnTo>
                <a:lnTo>
                  <a:pt x="911" y="209"/>
                </a:lnTo>
                <a:lnTo>
                  <a:pt x="912" y="176"/>
                </a:lnTo>
                <a:lnTo>
                  <a:pt x="871" y="204"/>
                </a:lnTo>
                <a:lnTo>
                  <a:pt x="851" y="228"/>
                </a:lnTo>
                <a:lnTo>
                  <a:pt x="854" y="196"/>
                </a:lnTo>
                <a:lnTo>
                  <a:pt x="898" y="124"/>
                </a:lnTo>
                <a:lnTo>
                  <a:pt x="897" y="28"/>
                </a:lnTo>
                <a:lnTo>
                  <a:pt x="887" y="0"/>
                </a:lnTo>
                <a:lnTo>
                  <a:pt x="793" y="3"/>
                </a:lnTo>
                <a:lnTo>
                  <a:pt x="737" y="16"/>
                </a:lnTo>
                <a:lnTo>
                  <a:pt x="613" y="10"/>
                </a:lnTo>
                <a:lnTo>
                  <a:pt x="557" y="19"/>
                </a:lnTo>
                <a:lnTo>
                  <a:pt x="450" y="15"/>
                </a:lnTo>
                <a:lnTo>
                  <a:pt x="408" y="24"/>
                </a:lnTo>
                <a:lnTo>
                  <a:pt x="452" y="57"/>
                </a:lnTo>
                <a:lnTo>
                  <a:pt x="436" y="68"/>
                </a:lnTo>
                <a:lnTo>
                  <a:pt x="391" y="41"/>
                </a:lnTo>
                <a:lnTo>
                  <a:pt x="366" y="42"/>
                </a:lnTo>
                <a:lnTo>
                  <a:pt x="347" y="19"/>
                </a:lnTo>
                <a:lnTo>
                  <a:pt x="292" y="24"/>
                </a:lnTo>
                <a:lnTo>
                  <a:pt x="282" y="63"/>
                </a:lnTo>
                <a:lnTo>
                  <a:pt x="297" y="126"/>
                </a:lnTo>
                <a:lnTo>
                  <a:pt x="297" y="226"/>
                </a:lnTo>
                <a:lnTo>
                  <a:pt x="299" y="264"/>
                </a:lnTo>
                <a:lnTo>
                  <a:pt x="262" y="276"/>
                </a:lnTo>
                <a:lnTo>
                  <a:pt x="192" y="264"/>
                </a:lnTo>
                <a:lnTo>
                  <a:pt x="124" y="277"/>
                </a:lnTo>
                <a:lnTo>
                  <a:pt x="72" y="272"/>
                </a:lnTo>
                <a:lnTo>
                  <a:pt x="65" y="297"/>
                </a:lnTo>
                <a:lnTo>
                  <a:pt x="53" y="291"/>
                </a:lnTo>
                <a:lnTo>
                  <a:pt x="39" y="273"/>
                </a:lnTo>
                <a:lnTo>
                  <a:pt x="3" y="271"/>
                </a:lnTo>
                <a:lnTo>
                  <a:pt x="0" y="285"/>
                </a:lnTo>
                <a:lnTo>
                  <a:pt x="0" y="285"/>
                </a:lnTo>
              </a:path>
            </a:pathLst>
          </a:custGeom>
          <a:solidFill>
            <a:srgbClr val="cc330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43120" y="2944440"/>
            <a:ext cx="667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Arial Narrow"/>
              </a:rPr>
              <a:t>Nella chimica italiana</a:t>
            </a:r>
            <a:br>
              <a:rPr sz="2000"/>
            </a:br>
            <a:r>
              <a:rPr b="1" lang="it-IT" sz="2000" spc="-1" strike="noStrike">
                <a:solidFill>
                  <a:srgbClr val="333399"/>
                </a:solidFill>
                <a:latin typeface="Arial Narrow"/>
              </a:rPr>
              <a:t>- circa 800 imprese fanno ricerca intra-muros</a:t>
            </a:r>
            <a:br>
              <a:rPr sz="2000"/>
            </a:br>
            <a:r>
              <a:rPr b="1" lang="it-IT" sz="2000" spc="-1" strike="noStrike">
                <a:solidFill>
                  <a:srgbClr val="333399"/>
                </a:solidFill>
                <a:latin typeface="Arial Narrow"/>
              </a:rPr>
              <a:t>- 580 delle quali la conducono con continuit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22360" y="1270080"/>
            <a:ext cx="8456400" cy="0"/>
          </a:xfrm>
          <a:prstGeom prst="line">
            <a:avLst/>
          </a:prstGeom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780000" y="939960"/>
            <a:ext cx="1166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333399"/>
                </a:solidFill>
                <a:latin typeface="Arial"/>
              </a:rPr>
              <a:t>chimic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854600" y="939960"/>
            <a:ext cx="1287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333399"/>
                </a:solidFill>
                <a:latin typeface="Arial"/>
              </a:rPr>
              <a:t>industr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997600" y="939960"/>
            <a:ext cx="1287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333399"/>
                </a:solidFill>
                <a:latin typeface="Arial"/>
              </a:rPr>
              <a:t>high tec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30280" y="2565360"/>
            <a:ext cx="8456400" cy="0"/>
          </a:xfrm>
          <a:prstGeom prst="line">
            <a:avLst/>
          </a:prstGeom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022800" y="1397160"/>
            <a:ext cx="88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56,1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014880" y="1778040"/>
            <a:ext cx="88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80,5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014880" y="2149560"/>
            <a:ext cx="88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31,6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470720" y="1397160"/>
            <a:ext cx="88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0000"/>
                </a:solidFill>
                <a:latin typeface="Arial"/>
              </a:rPr>
              <a:t>33,9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462800" y="1778040"/>
            <a:ext cx="88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72,6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462800" y="2149560"/>
            <a:ext cx="88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333399"/>
                </a:solidFill>
                <a:latin typeface="Arial"/>
              </a:rPr>
              <a:t>10,6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16435200">
            <a:off x="466560" y="4331880"/>
            <a:ext cx="430200" cy="287280"/>
          </a:xfrm>
          <a:custGeom>
            <a:avLst/>
            <a:gdLst/>
            <a:ahLst/>
            <a:rect l="l" t="t" r="r" b="b"/>
            <a:pathLst>
              <a:path w="1214" h="753">
                <a:moveTo>
                  <a:pt x="0" y="285"/>
                </a:moveTo>
                <a:lnTo>
                  <a:pt x="0" y="285"/>
                </a:lnTo>
                <a:lnTo>
                  <a:pt x="99" y="360"/>
                </a:lnTo>
                <a:lnTo>
                  <a:pt x="115" y="352"/>
                </a:lnTo>
                <a:lnTo>
                  <a:pt x="134" y="390"/>
                </a:lnTo>
                <a:lnTo>
                  <a:pt x="196" y="417"/>
                </a:lnTo>
                <a:lnTo>
                  <a:pt x="232" y="461"/>
                </a:lnTo>
                <a:lnTo>
                  <a:pt x="304" y="501"/>
                </a:lnTo>
                <a:lnTo>
                  <a:pt x="362" y="556"/>
                </a:lnTo>
                <a:lnTo>
                  <a:pt x="396" y="565"/>
                </a:lnTo>
                <a:lnTo>
                  <a:pt x="420" y="536"/>
                </a:lnTo>
                <a:lnTo>
                  <a:pt x="432" y="564"/>
                </a:lnTo>
                <a:lnTo>
                  <a:pt x="424" y="597"/>
                </a:lnTo>
                <a:lnTo>
                  <a:pt x="504" y="668"/>
                </a:lnTo>
                <a:lnTo>
                  <a:pt x="553" y="677"/>
                </a:lnTo>
                <a:lnTo>
                  <a:pt x="611" y="728"/>
                </a:lnTo>
                <a:lnTo>
                  <a:pt x="629" y="752"/>
                </a:lnTo>
                <a:lnTo>
                  <a:pt x="662" y="744"/>
                </a:lnTo>
                <a:lnTo>
                  <a:pt x="682" y="715"/>
                </a:lnTo>
                <a:lnTo>
                  <a:pt x="758" y="673"/>
                </a:lnTo>
                <a:lnTo>
                  <a:pt x="826" y="593"/>
                </a:lnTo>
                <a:lnTo>
                  <a:pt x="938" y="501"/>
                </a:lnTo>
                <a:lnTo>
                  <a:pt x="999" y="431"/>
                </a:lnTo>
                <a:lnTo>
                  <a:pt x="1051" y="363"/>
                </a:lnTo>
                <a:lnTo>
                  <a:pt x="1077" y="373"/>
                </a:lnTo>
                <a:lnTo>
                  <a:pt x="1110" y="340"/>
                </a:lnTo>
                <a:lnTo>
                  <a:pt x="1108" y="288"/>
                </a:lnTo>
                <a:lnTo>
                  <a:pt x="1130" y="308"/>
                </a:lnTo>
                <a:lnTo>
                  <a:pt x="1159" y="288"/>
                </a:lnTo>
                <a:lnTo>
                  <a:pt x="1153" y="272"/>
                </a:lnTo>
                <a:lnTo>
                  <a:pt x="1184" y="274"/>
                </a:lnTo>
                <a:lnTo>
                  <a:pt x="1213" y="248"/>
                </a:lnTo>
                <a:lnTo>
                  <a:pt x="1139" y="240"/>
                </a:lnTo>
                <a:lnTo>
                  <a:pt x="1127" y="262"/>
                </a:lnTo>
                <a:lnTo>
                  <a:pt x="1106" y="255"/>
                </a:lnTo>
                <a:lnTo>
                  <a:pt x="1016" y="258"/>
                </a:lnTo>
                <a:lnTo>
                  <a:pt x="992" y="284"/>
                </a:lnTo>
                <a:lnTo>
                  <a:pt x="956" y="267"/>
                </a:lnTo>
                <a:lnTo>
                  <a:pt x="912" y="255"/>
                </a:lnTo>
                <a:lnTo>
                  <a:pt x="880" y="276"/>
                </a:lnTo>
                <a:lnTo>
                  <a:pt x="816" y="308"/>
                </a:lnTo>
                <a:lnTo>
                  <a:pt x="842" y="286"/>
                </a:lnTo>
                <a:lnTo>
                  <a:pt x="911" y="209"/>
                </a:lnTo>
                <a:lnTo>
                  <a:pt x="912" y="176"/>
                </a:lnTo>
                <a:lnTo>
                  <a:pt x="871" y="204"/>
                </a:lnTo>
                <a:lnTo>
                  <a:pt x="851" y="228"/>
                </a:lnTo>
                <a:lnTo>
                  <a:pt x="854" y="196"/>
                </a:lnTo>
                <a:lnTo>
                  <a:pt x="898" y="124"/>
                </a:lnTo>
                <a:lnTo>
                  <a:pt x="897" y="28"/>
                </a:lnTo>
                <a:lnTo>
                  <a:pt x="887" y="0"/>
                </a:lnTo>
                <a:lnTo>
                  <a:pt x="793" y="3"/>
                </a:lnTo>
                <a:lnTo>
                  <a:pt x="737" y="16"/>
                </a:lnTo>
                <a:lnTo>
                  <a:pt x="613" y="10"/>
                </a:lnTo>
                <a:lnTo>
                  <a:pt x="557" y="19"/>
                </a:lnTo>
                <a:lnTo>
                  <a:pt x="450" y="15"/>
                </a:lnTo>
                <a:lnTo>
                  <a:pt x="408" y="24"/>
                </a:lnTo>
                <a:lnTo>
                  <a:pt x="452" y="57"/>
                </a:lnTo>
                <a:lnTo>
                  <a:pt x="436" y="68"/>
                </a:lnTo>
                <a:lnTo>
                  <a:pt x="391" y="41"/>
                </a:lnTo>
                <a:lnTo>
                  <a:pt x="366" y="42"/>
                </a:lnTo>
                <a:lnTo>
                  <a:pt x="347" y="19"/>
                </a:lnTo>
                <a:lnTo>
                  <a:pt x="292" y="24"/>
                </a:lnTo>
                <a:lnTo>
                  <a:pt x="282" y="63"/>
                </a:lnTo>
                <a:lnTo>
                  <a:pt x="297" y="126"/>
                </a:lnTo>
                <a:lnTo>
                  <a:pt x="297" y="226"/>
                </a:lnTo>
                <a:lnTo>
                  <a:pt x="299" y="264"/>
                </a:lnTo>
                <a:lnTo>
                  <a:pt x="262" y="276"/>
                </a:lnTo>
                <a:lnTo>
                  <a:pt x="192" y="264"/>
                </a:lnTo>
                <a:lnTo>
                  <a:pt x="124" y="277"/>
                </a:lnTo>
                <a:lnTo>
                  <a:pt x="72" y="272"/>
                </a:lnTo>
                <a:lnTo>
                  <a:pt x="65" y="297"/>
                </a:lnTo>
                <a:lnTo>
                  <a:pt x="53" y="291"/>
                </a:lnTo>
                <a:lnTo>
                  <a:pt x="39" y="273"/>
                </a:lnTo>
                <a:lnTo>
                  <a:pt x="3" y="271"/>
                </a:lnTo>
                <a:lnTo>
                  <a:pt x="0" y="285"/>
                </a:lnTo>
                <a:lnTo>
                  <a:pt x="0" y="285"/>
                </a:lnTo>
              </a:path>
            </a:pathLst>
          </a:custGeom>
          <a:solidFill>
            <a:srgbClr val="cc330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52480" y="4312800"/>
            <a:ext cx="667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Arial Narrow"/>
              </a:rPr>
              <a:t>La quota di imprese chimiche che fa ricerca è </a:t>
            </a:r>
            <a:br>
              <a:rPr sz="2000"/>
            </a:br>
            <a:r>
              <a:rPr b="1" lang="it-IT" sz="2000" spc="-1" strike="noStrike">
                <a:solidFill>
                  <a:srgbClr val="333399"/>
                </a:solidFill>
                <a:latin typeface="Arial Narrow"/>
              </a:rPr>
              <a:t>- doppia rispetto alla media dell’industria</a:t>
            </a:r>
            <a:br>
              <a:rPr sz="2000"/>
            </a:br>
            <a:r>
              <a:rPr b="1" lang="it-IT" sz="2000" spc="-1" strike="noStrike">
                <a:solidFill>
                  <a:srgbClr val="333399"/>
                </a:solidFill>
                <a:latin typeface="Arial Narrow"/>
              </a:rPr>
              <a:t>- decisamente superiore anche agli altri settori medium-high t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44600" y="5564160"/>
            <a:ext cx="5808600" cy="7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333399"/>
                </a:solidFill>
                <a:latin typeface="Arial"/>
              </a:rPr>
              <a:t>Not</a:t>
            </a:r>
            <a:r>
              <a:rPr b="0" sz="1400" spc="-1" strike="noStrike">
                <a:solidFill>
                  <a:srgbClr val="333399"/>
                </a:solidFill>
                <a:latin typeface="Arial"/>
              </a:rPr>
              <a:t>e: </a:t>
            </a:r>
            <a:r>
              <a:rPr b="0" lang="it-IT" sz="1400" spc="-1" strike="noStrike">
                <a:solidFill>
                  <a:srgbClr val="333399"/>
                </a:solidFill>
                <a:latin typeface="Arial"/>
              </a:rPr>
              <a:t>totale = imprese con più di 10 addetti </a:t>
            </a:r>
            <a:br>
              <a:rPr sz="1400"/>
            </a:br>
            <a:r>
              <a:rPr b="0" lang="it-IT" sz="1400" spc="-1" strike="noStrike">
                <a:solidFill>
                  <a:srgbClr val="333399"/>
                </a:solidFill>
                <a:latin typeface="Arial"/>
              </a:rPr>
              <a:t>         high tech = farmaceutica ed elettro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0" lang="it-IT" sz="1400" spc="-1" strike="noStrike">
                <a:solidFill>
                  <a:srgbClr val="333399"/>
                </a:solidFill>
                <a:latin typeface="Arial"/>
              </a:rPr>
              <a:t>medium-high tech = elettrotecnica, meccanica, automoti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870600" y="739800"/>
            <a:ext cx="226692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333399"/>
                </a:solidFill>
                <a:latin typeface="Arial"/>
              </a:rPr>
              <a:t>altri </a:t>
            </a:r>
            <a:br>
              <a:rPr sz="1500"/>
            </a:br>
            <a:r>
              <a:rPr b="1" lang="it-IT" sz="1500" spc="-1" strike="noStrike">
                <a:solidFill>
                  <a:srgbClr val="333399"/>
                </a:solidFill>
                <a:latin typeface="Arial"/>
              </a:rPr>
              <a:t>medium-high tec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2T09:13:45Z</dcterms:created>
  <dc:creator>Melismelis Srl</dc:creator>
  <dc:description>Template realizzato per Federchimica da Melismelis - melismelis.com - 03/2007</dc:description>
  <dc:language>en-US</dc:language>
  <cp:lastModifiedBy>Vitaloni</cp:lastModifiedBy>
  <dcterms:modified xsi:type="dcterms:W3CDTF">2011-01-11T15:28:10Z</dcterms:modified>
  <cp:revision>1311</cp:revision>
  <dc:subject/>
  <dc:title>Federchimica</dc:title>
</cp:coreProperties>
</file>